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C504-D437-4512-9F2B-7B4B38259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0093-5AEB-4F3E-B57D-3E926B2C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59F7-3560-41AE-8444-B8DA633C2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55DF-711A-4CE8-B1CA-0351ADD7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E1BD-D0C4-4F1B-AC57-4C17C704C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A110-6C71-4E32-AE6B-C6DD224B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2295-31F5-4C25-9CD3-72021FF7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AAC1-820F-4EAF-AF03-F9AA1230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56C7-004F-487C-AF0C-81B6A127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24F5-7FC4-429A-9BEC-E2A194E7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4A8F-3E7B-4A7A-B3F5-188A265C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74E9-7A67-4CA3-B6D7-FA79B350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8EA5-531B-4D65-88CC-CFA1EF36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0F8A-3949-48CD-A2C5-AEC07E43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D0C2-FDC4-4B32-87AE-D0EB00A6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3970-B43C-46D4-A64F-B41CBCD0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F31A-C7D9-4278-B02B-936C83EBB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EA8F-F80E-4D66-B399-4514C938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90C6-D90E-49E3-9031-D7450891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7BAB-42E5-4E51-8356-7E215A5F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1B15-196B-416F-B449-79C76D84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D621-C438-4BDF-ADA5-2337512A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FF23-99EF-4E01-8B7C-73B44C6C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E7CC-90AF-431B-8F3C-675BEDE6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E60C-DCB6-42C3-9E06-9C95567394A6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8909-D7A7-42A8-9BD6-8BC6528B418E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00000" y="836640"/>
            <a:ext cx="82440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ffff"/>
                </a:solidFill>
                <a:latin typeface="A.C.M.E. Explosive"/>
                <a:ea typeface="隶书"/>
              </a:rPr>
              <a:t>做个有责任感的人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ffff"/>
                </a:solidFill>
                <a:latin typeface="A.C.M.E. Explosive"/>
                <a:ea typeface="隶书"/>
              </a:rPr>
              <a:t>     </a:t>
            </a:r>
            <a:r>
              <a:rPr b="1" lang="zh-CN" sz="6000" spc="-1" strike="noStrike">
                <a:solidFill>
                  <a:srgbClr val="ffffff"/>
                </a:solidFill>
                <a:latin typeface="A.C.M.E. Explosive"/>
                <a:ea typeface="隶书"/>
              </a:rPr>
              <a:t>-</a:t>
            </a:r>
            <a:r>
              <a:rPr b="1" lang="zh-CN" sz="6000" spc="-1" strike="noStrike">
                <a:solidFill>
                  <a:srgbClr val="ffffff"/>
                </a:solidFill>
                <a:latin typeface="A.C.M.E. Explosive"/>
                <a:ea typeface="隶书"/>
              </a:rPr>
              <a:t>赢在起跑线上</a:t>
            </a:r>
            <a:r>
              <a:rPr b="1" lang="zh-CN" sz="6600" spc="-1" strike="noStrike">
                <a:solidFill>
                  <a:srgbClr val="ccffff"/>
                </a:solidFill>
                <a:latin typeface="A.C.M.E. Explosive"/>
                <a:ea typeface="隶书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24000" y="189000"/>
            <a:ext cx="882000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QUESTION  1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你有责任感吗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QUESTION  2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你的责任感体现在哪里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QUESTION  3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做得还不够好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例如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应该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/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可以怎么做得更好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79280" y="404640"/>
            <a:ext cx="8748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在字典里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对于责任和责任感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它给予了这样的解释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责任—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1)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分内该做的事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            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2)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没有做好分内的事而应当承担的过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在此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有两个方面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一方面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是</a:t>
            </a:r>
            <a:r>
              <a:rPr b="1" lang="zh-CN" sz="4000" spc="-1" strike="noStrike" u="sng">
                <a:solidFill>
                  <a:srgbClr val="66ffff"/>
                </a:solidFill>
                <a:uFillTx/>
                <a:latin typeface="华文行楷"/>
                <a:ea typeface="华文行楷"/>
              </a:rPr>
              <a:t>要去做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;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另一方面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是</a:t>
            </a:r>
            <a:r>
              <a:rPr b="1" lang="zh-CN" sz="4000" spc="-1" strike="noStrike" u="sng">
                <a:solidFill>
                  <a:srgbClr val="66ffff"/>
                </a:solidFill>
                <a:uFillTx/>
                <a:latin typeface="华文行楷"/>
                <a:ea typeface="华文行楷"/>
              </a:rPr>
              <a:t>要做好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549360"/>
            <a:ext cx="82072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责任感—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责任心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自觉做好分内事情的心理状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也就是说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所有做的动机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做的行为都是由你这个主体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华文行楷"/>
                <a:ea typeface="华文行楷"/>
              </a:rPr>
              <a:t>由心而发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的去施行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没有人可以强迫你去做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.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只有心中有责任感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才有可能达到预期的效果甚至超过预期的估计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获得更好的结果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50920" y="260280"/>
            <a:ext cx="84247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在我看来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责任感不仅表现在对自己的学业上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要兢兢业业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一丝不苟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;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还表现在对校园生活和班级生活方面的态度上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可能大家还觉得自己是个小孩子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但要告诉大家的是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很可惜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老师和学校已经开始用一个小大人的标准来要求大家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50920" y="189000"/>
            <a:ext cx="8748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或者在心里已经认为自己是一个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大人却没法表现在行为上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.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所以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在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去的两个星期时间里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我觉得大家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得还很不够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     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从作业本上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我看到了很多潦草的笔迹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     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在劳动时间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我很少看见埋头苦干的身影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     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在自习课上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我听见越来越多的嘈杂声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50920" y="260280"/>
            <a:ext cx="84978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在列队集队时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我看到的最多的是懒散的脚步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在班干发出号召时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我听见最多的是埋怨与不屑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等等等等…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每当这个时候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我总是想质问你们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你们有没有想过我们是一个班级体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?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自从踏入一中的校门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50920" y="333360"/>
            <a:ext cx="864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我们就是一家人了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等待我们的不仅是甘甜和硕果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更是苦涩和失意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如果不能 “心往一处想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劲往一处使”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我们这漫长的三年度过得将会孤单和艰辛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;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反之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如果我们个个都以班为家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承担起各自的一份责任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我敢保证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: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高中的三年将会是你最难忘的时光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你收获的不仅是名牌高校的录取通知书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更是一辈子的朋友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永久的珍藏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39640" y="333360"/>
            <a:ext cx="799308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当然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我看在眼里的不仅是大家的不足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也有很多同学用他们的行动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用他们的心在体现着责任感的意义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在这里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我记下了他们的名字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罗滢怡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陈晓鹏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何尧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林本达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周桔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何裕滢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伍嘉文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刘欣等等等等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我曾经想过在班级设立一个奖项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叫 “ 感动高一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(2)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班奖”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用来奖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9280" y="189000"/>
            <a:ext cx="8425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那些无怨无悔为班级为大家同时又在学业上突出的学生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后来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我打消了这个念头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因为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在我的心中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有一个梦想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我希望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我们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	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S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班的每一个人都是最感动奖的获得人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每一个人都能实在无私的奉献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不仅将你们的青春献给学业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更将它献给我们的班级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从而使得每一个人都能从中受益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.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而这所有得一切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都必须依靠大家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你们愿意帮我实现这个梦想吗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?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06:56:5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12:41Z</dcterms:modified>
  <cp:revision>6</cp:revision>
  <dc:subject>主题班会课件(分28大类): http://shop62905894.taobao.com</dc:subject>
  <dc:title>主题班会课件(分28大类): http://shop62905894.taobao.com</dc:title>
</cp:coreProperties>
</file>