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EDD-3F2D-4C06-A9E4-9463B5FB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0BD-68B3-43F0-AA94-59A9C71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E50-4B10-413E-AD8C-1F832D20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8A2-B8B2-4E39-8D4E-48822DC5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17DE-4DB4-4A5C-BBF9-A8641BBE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537A-A786-4079-8615-9972DEE9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BBE-1A30-4D1D-8D58-CDD18DED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6262-3BBD-40F5-BBE4-56019DD2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7536-3BA6-4B49-B4B3-4A81DF5C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876E-92DA-41A6-A272-2D608E2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D185-F2B2-4803-8649-869F38F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AF7E-B70F-4939-A906-5CAE4F1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7519-995B-4A73-BDE7-1E97166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62A6-8439-4E51-8B18-8966B826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21E5-F03B-4765-B4E6-49DC208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157A-B937-4E4C-A8ED-04BFBC89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29DA-0E60-4F0E-BDE3-F0C9ADD4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8B5-8AFC-4999-B4FA-E7C47F6D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0AC-D02A-4642-B510-698A8376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F76-83F5-454A-8D1B-DDC23CDE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54E-3D58-42CE-B1CE-FDB4B62A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AFA-0805-4F6B-8DC6-ED928A0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A25-F66D-4DE7-956C-5F35153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AAE-D017-4D24-99E5-FD77127A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F965-63D6-457B-B5F6-0D090B3AB71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DB92-1054-44F9-B17F-5C3E4AEC2A3C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0000" y="836640"/>
            <a:ext cx="82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ff"/>
                </a:solidFill>
                <a:latin typeface="A.C.M.E. Explosive"/>
                <a:ea typeface="隶书"/>
              </a:rPr>
              <a:t>做个有责任感的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A.C.M.E. Explosive"/>
                <a:ea typeface="隶书"/>
              </a:rPr>
              <a:t>-</a:t>
            </a:r>
            <a:r>
              <a:rPr b="1" lang="zh-CN" sz="6000" spc="-1" strike="noStrike">
                <a:solidFill>
                  <a:srgbClr val="ffffff"/>
                </a:solidFill>
                <a:latin typeface="A.C.M.E. Explosive"/>
                <a:ea typeface="隶书"/>
              </a:rPr>
              <a:t>赢在起跑线上</a:t>
            </a: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189000"/>
            <a:ext cx="88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1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有责任感吗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2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的责任感体现在哪里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3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做得还不够好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例如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应该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/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可以怎么做得更好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404640"/>
            <a:ext cx="87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字典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对于责任和责任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它给予了这样的解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—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1)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分内该做的事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2)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没有做好分内的事而应当承担的过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此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有两个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一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66ffff"/>
                </a:solidFill>
                <a:uFillTx/>
                <a:latin typeface="华文行楷"/>
                <a:ea typeface="华文行楷"/>
              </a:rPr>
              <a:t>要去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另一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66ffff"/>
                </a:solidFill>
                <a:uFillTx/>
                <a:latin typeface="华文行楷"/>
                <a:ea typeface="华文行楷"/>
              </a:rPr>
              <a:t>要做好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549360"/>
            <a:ext cx="820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感—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责任心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自觉做好分内事情的心理状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也就是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所有做的动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做的行为都是由你这个主体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</a:rPr>
              <a:t>由心而发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的去施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没有人可以强迫你去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只有心中有责任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才有可能达到预期的效果甚至超过预期的估计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获得更好的结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424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我看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感不仅表现在对自己的学业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要兢兢业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一丝不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还表现在对校园生活和班级生活方面的态度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可能大家还觉得自己是个小孩子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但要告诉大家的是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很可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老师和学校已经开始用一个小大人的标准来要求大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18900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或者在心里已经认为自己是一个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大人却没法表现在行为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所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去的两个星期时间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觉得大家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得还很不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从作业本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到了很多潦草的笔迹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劳动时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很少看见埋头苦干的身影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自习课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听见越来越多的嘈杂声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260280"/>
            <a:ext cx="84978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列队集队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到的最多的是懒散的脚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班干发出号召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听见最多的是埋怨与不屑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等等等等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每当这个时候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总是想质问你们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们有没有想过我们是一个班级体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?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自从踏入一中的校门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33336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就是一家人了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等待我们的不仅是甘甜和硕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是苦涩和失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如果不能 “心往一处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劲往一处使”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这漫长的三年度过得将会孤单和艰辛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反之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如果我们个个都以班为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承担起各自的一份责任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敢保证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高中的三年将会是你最难忘的时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收获的不仅是名牌高校的录取通知书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是一辈子的朋友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永久的珍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333360"/>
            <a:ext cx="7993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当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在眼里的不仅是大家的不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也有很多同学用他们的行动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用他们的心在体现着责任感的意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这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记下了他们的名字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罗滢怡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陈晓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何尧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林本达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周桔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何裕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伍嘉文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刘欣等等等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曾经想过在班级设立一个奖项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叫 “ 感动高一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(2)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班奖”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用来奖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189000"/>
            <a:ext cx="84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那些无怨无悔为班级为大家同时又在学业上突出的学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后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打消了这个念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因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我的心中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有一个梦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希望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	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S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班的每一个人都是最感动奖的获得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每一个人都能实在无私的奉献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不仅将你们的青春献给学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将它献给我们的班级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从而使得每一个人都能从中受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而这所有得一切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都必须依靠大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们愿意帮我实现这个梦想吗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?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6:56:5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6:00Z</dcterms:modified>
  <cp:revision>1</cp:revision>
  <dc:subject>主题班会课件(分28大类): http://shop62905894.taobao.com</dc:subject>
  <dc:title>主题班会课件(分28大类): http://shop62905894.taobao.com</dc:title>
</cp:coreProperties>
</file>