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BEC-A019-4B0A-9B0B-D12ED8EF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93B-F8ED-4A8C-B358-0A71D7A6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FEE-F49C-416B-979E-566F906C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A2B-ED64-47EC-9C0D-CE315F2C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AB84-C2E1-4634-95FE-ABC21789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C50A-96EA-4A1E-8A60-F906740B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2815-1E99-4291-AB84-69991116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8DCD-B2D9-4EA8-A100-2DF28F03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70C5-1AFF-4237-83D2-C0A0D4E3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11FF-A46C-4812-830C-AB504F3A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A8AA-6293-456C-B70D-20DE750A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F90-226B-4740-AF5A-E30B2F46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07E4-6F7E-4FBD-A482-A54A4FC6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F4FA-178D-4E15-84E4-8A6AE6E8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8D18-1654-4E8C-AE50-4E789233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AB2E-9ECA-4472-AB8B-DD23834C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37D2-9B2E-4E60-ACF7-094F6F77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69C0D-CDF5-4C4A-B8EF-3C19D705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B7637-B052-414F-87B5-5CEE0416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004DD-FFB7-48E2-83A5-AD28589B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D8EB3-3F80-4B34-AEE8-5190F47E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714B8-FA7C-49B6-AB18-19BF66A5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9D9-996C-4041-AB89-CABB0565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21D46-0F12-400B-A29E-BC60C5A2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B7895-8030-46F7-A499-24697DB0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97912-35C8-4432-96E6-A082E3EC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10862-B8C6-4157-83A9-94C87B5D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D0D63-AB29-421E-AA34-4B561729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25687-A856-4167-A8CE-ABC73D7C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28B84-CF3D-4966-A33E-D11E7FF2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88310-1B44-4531-8629-7B15DFE1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B38C5-1CBC-4BCD-A541-091E3604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DF77A-2CD2-4482-9412-004B2778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45E-ADF4-4E1E-9688-DA7D2A96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5AB1D-BCFB-4465-AC4C-05980F5B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AF457-ED38-4C3D-A651-98D788E2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1098B-7930-4C84-9A6F-082C0203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E3392-DC29-4560-978F-C5D9D9CE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4C8A4-C1E3-4E25-B71F-9FFAC956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EEFC0-1A11-4CAF-9F65-35823EE0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A83CE-F107-4D12-B4DF-E08B02B0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CA122-4147-40BC-9AA3-0A2CDA48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915B9-62DE-4C68-A51A-FE9191A2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955-07A4-4281-99AA-41BBCDE6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162-4803-4BCC-8A1C-20B4675A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338-0DC7-40D5-8104-862DC9E0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5C0-56A5-4704-B345-93A12A66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A6C-F5E4-417D-A423-03BB68A6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6C5B-5288-4757-854B-B1B601ED6A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EEA6-A801-4D70-A7F0-608D994A17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D58F-AAC5-4B98-B73F-8E142E57BF7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3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820F-80E6-4834-A603-C9882CA8C13D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98.cn/html/30/t-2330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nance.anhuinews.com/system/2006/07/06/001508834.shtm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8%A8%B5%BC&amp;in=31002&amp;cl=2&amp;cm=1&amp;sc=0&amp;lm=-1&amp;pn=5&amp;rn=1&amp;di=281489616&amp;ln=2000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du.ce.cn/foreign/gs/200801/09/t20080109_14161620.shtml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gce.org/html/guonei_gat/2006-5/23/2310163889.html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hoto.jcrb.com.cn/NewsPhoto/printNews.asp?ID=43439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E:\banhui\7k7k_flash1986.swf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qq.com/a/20081025/001986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col.com.cn/society/lmmw/20041116/20041116100939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6000840"/>
            <a:ext cx="1463760" cy="857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63760" cy="857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7620120" y="76320"/>
            <a:ext cx="1463400" cy="857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696080" y="6000840"/>
            <a:ext cx="1463760" cy="857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68360" y="1268280"/>
            <a:ext cx="813600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做个有责任感的中国人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50920" y="425520"/>
            <a:ext cx="835344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14440" y="662040"/>
            <a:ext cx="4515120" cy="5533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071080" y="2997360"/>
            <a:ext cx="375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小组讨论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为什么有这样的事发生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问题出在哪里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们见过类似事件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从这件事我们所想到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87280" y="76500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探个究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341360"/>
            <a:ext cx="6840720" cy="5045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492360" y="765000"/>
            <a:ext cx="1282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边防军人在这样的环境里依然站在自己的岗位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01040" y="2276640"/>
            <a:ext cx="100332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责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836640"/>
            <a:ext cx="8317080" cy="55245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500200" y="404640"/>
            <a:ext cx="4303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Arial"/>
              </a:rPr>
              <a:t>一位父亲正耐心的指导女儿做功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84720" y="6308640"/>
            <a:ext cx="2746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父亲的责任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5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9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227640" y="6400800"/>
            <a:ext cx="4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49360"/>
            <a:ext cx="8209080" cy="5491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556000" y="6093000"/>
            <a:ext cx="3205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学生在捡马路旁的垃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81200" y="1989000"/>
            <a:ext cx="9118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每个公民的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60280"/>
            <a:ext cx="7991280" cy="599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501480"/>
            <a:ext cx="8137440" cy="5521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35280" y="6093000"/>
            <a:ext cx="5030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检察院伸张正义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沉冤得昭雪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01320" y="3213000"/>
            <a:ext cx="16426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责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7488360" cy="4692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635280" y="5950080"/>
            <a:ext cx="459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古路村小学的孩子们天天都会经过悬崖上凿出的上学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67280" y="692280"/>
            <a:ext cx="458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四川雅安：代课老师独守绝壁小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89760" y="2205000"/>
            <a:ext cx="10033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责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16000" y="1889280"/>
            <a:ext cx="8028000" cy="436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9900cc"/>
                </a:solidFill>
                <a:latin typeface="宋体"/>
              </a:rPr>
              <a:t>，军人有保家卫国的职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9900cc"/>
                </a:solidFill>
                <a:latin typeface="宋体"/>
              </a:rPr>
              <a:t>，医生有救死扶伤的职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，教师有教书育人的职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4</a:t>
            </a:r>
            <a:r>
              <a:rPr b="1" lang="zh-CN" sz="4000" spc="-1" strike="noStrike">
                <a:solidFill>
                  <a:srgbClr val="9900cc"/>
                </a:solidFill>
                <a:latin typeface="宋体"/>
              </a:rPr>
              <a:t>，父母有养育儿女的职责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5</a:t>
            </a:r>
            <a:r>
              <a:rPr b="1" lang="zh-CN" sz="4000" spc="-1" strike="noStrike">
                <a:solidFill>
                  <a:srgbClr val="9900cc"/>
                </a:solidFill>
                <a:latin typeface="宋体"/>
              </a:rPr>
              <a:t>，儿女有孝敬父母的职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6</a:t>
            </a:r>
            <a:r>
              <a:rPr b="1" lang="zh-CN" sz="4000" spc="-1" strike="noStrike">
                <a:solidFill>
                  <a:srgbClr val="9900cc"/>
                </a:solidFill>
                <a:latin typeface="宋体"/>
              </a:rPr>
              <a:t>，学生有尊师好学的职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，每一个中华儿女有强国的职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75480" y="581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2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7301"/>
                </a:moveTo>
                <a:lnTo>
                  <a:pt x="13702" y="7301"/>
                </a:lnTo>
                <a:lnTo>
                  <a:pt x="14085" y="7667"/>
                </a:lnTo>
                <a:lnTo>
                  <a:pt x="23293" y="7667"/>
                </a:lnTo>
                <a:lnTo>
                  <a:pt x="23850" y="8224"/>
                </a:lnTo>
                <a:lnTo>
                  <a:pt x="23850" y="8772"/>
                </a:lnTo>
                <a:lnTo>
                  <a:pt x="25695" y="8772"/>
                </a:lnTo>
                <a:lnTo>
                  <a:pt x="26061" y="8224"/>
                </a:lnTo>
                <a:lnTo>
                  <a:pt x="26801" y="8224"/>
                </a:lnTo>
                <a:lnTo>
                  <a:pt x="26801" y="13376"/>
                </a:lnTo>
                <a:lnTo>
                  <a:pt x="26061" y="13376"/>
                </a:lnTo>
                <a:lnTo>
                  <a:pt x="25695" y="12828"/>
                </a:lnTo>
                <a:lnTo>
                  <a:pt x="23850" y="12828"/>
                </a:lnTo>
                <a:lnTo>
                  <a:pt x="23850" y="14107"/>
                </a:lnTo>
                <a:lnTo>
                  <a:pt x="14267" y="14107"/>
                </a:lnTo>
                <a:lnTo>
                  <a:pt x="14267" y="9877"/>
                </a:lnTo>
                <a:lnTo>
                  <a:pt x="14085" y="9877"/>
                </a:lnTo>
                <a:lnTo>
                  <a:pt x="13702" y="10243"/>
                </a:lnTo>
                <a:lnTo>
                  <a:pt x="12788" y="1024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600" y="266760"/>
            <a:ext cx="457200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66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责任你、我、他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66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1680" y="1752480"/>
            <a:ext cx="8540640" cy="376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爸妈不在家或是很忙的时候主动做过饭的经历的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没有任何人知道的好人好事经历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主动在大街上拾起果皮扔进果皮箱经历的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看到班级课室不干净时主动打扫卫生经历的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说话不负责任而大伤对方的自尊的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52280" y="45720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57240">
                  <a:solidFill>
                    <a:srgbClr val="ff00ff"/>
                  </a:solidFill>
                  <a:miter/>
                </a:ln>
                <a:solidFill>
                  <a:srgbClr val="9900cc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你有过这样的经历吗？</a:t>
            </a:r>
            <a:endParaRPr b="0" lang="en-US" sz="1800" spc="1" strike="noStrike">
              <a:ln w="57240">
                <a:solidFill>
                  <a:srgbClr val="ff00ff"/>
                </a:solidFill>
                <a:miter/>
              </a:ln>
              <a:solidFill>
                <a:srgbClr val="9900cc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6320" y="0"/>
            <a:ext cx="5486400" cy="1828800"/>
          </a:xfrm>
          <a:prstGeom prst="ellipse">
            <a:avLst/>
          </a:prstGeom>
          <a:solidFill>
            <a:srgbClr val="99cc00"/>
          </a:soli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2508480"/>
            <a:ext cx="8458200" cy="320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作为学生我们应做的</a:t>
            </a:r>
            <a:r>
              <a:rPr b="1" lang="zh-CN" sz="7200" spc="-1" strike="noStrike">
                <a:solidFill>
                  <a:srgbClr val="333333"/>
                </a:solidFill>
                <a:latin typeface="宋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480" y="762120"/>
            <a:ext cx="403884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谈一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514600" y="1905120"/>
            <a:ext cx="76320" cy="609480"/>
          </a:xfrm>
          <a:prstGeom prst="line">
            <a:avLst/>
          </a:prstGeom>
          <a:ln w="349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4920" y="152280"/>
            <a:ext cx="5029200" cy="259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762120" y="457200"/>
            <a:ext cx="4190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光荣榜</a:t>
            </a:r>
            <a:endParaRPr b="0" lang="en-US" sz="1800" spc="1" strike="noStrike">
              <a:ln w="190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7" name=""/>
          <p:cNvSpPr/>
          <p:nvPr/>
        </p:nvSpPr>
        <p:spPr>
          <a:xfrm rot="18839400">
            <a:off x="5643360" y="1295280"/>
            <a:ext cx="1905120" cy="2514600"/>
          </a:xfrm>
          <a:custGeom>
            <a:avLst/>
            <a:gdLst>
              <a:gd name="textAreaLeft" fmla="*/ 255240 w 1905120"/>
              <a:gd name="textAreaRight" fmla="*/ 1649880 w 19051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419720" y="4038120"/>
            <a:ext cx="41176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有责任心的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有爱心的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610480" cy="441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，  </a:t>
            </a:r>
            <a:r>
              <a:rPr b="0" lang="zh-CN" sz="3200" spc="-1" strike="noStrike">
                <a:solidFill>
                  <a:srgbClr val="000099"/>
                </a:solidFill>
                <a:latin typeface="宋体"/>
              </a:rPr>
              <a:t>课间时间，你打我一拳，我就踢你一脚。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，  </a:t>
            </a:r>
            <a:r>
              <a:rPr b="0" lang="zh-CN" sz="3200" spc="-1" strike="noStrike">
                <a:solidFill>
                  <a:srgbClr val="000099"/>
                </a:solidFill>
                <a:latin typeface="宋体"/>
              </a:rPr>
              <a:t>分配的劳动任务不认真去做，甚至溜之吉。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，  </a:t>
            </a:r>
            <a:r>
              <a:rPr b="0" lang="zh-CN" sz="3200" spc="-1" strike="noStrike">
                <a:solidFill>
                  <a:srgbClr val="000099"/>
                </a:solidFill>
                <a:latin typeface="宋体"/>
              </a:rPr>
              <a:t>熄了灯，有人在宿舍讲话，不是主动制止而是积极参与。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99"/>
                </a:solidFill>
                <a:latin typeface="宋体"/>
              </a:rPr>
              <a:t>随意甚至故意损坏人家的东西。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宋体"/>
              </a:rPr>
              <a:t>。。。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480" y="0"/>
            <a:ext cx="708660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点点滴滴。。。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8610480" cy="441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，  </a:t>
            </a:r>
            <a:r>
              <a:rPr b="0" lang="zh-CN" sz="3200" spc="-1" strike="noStrike">
                <a:solidFill>
                  <a:srgbClr val="000099"/>
                </a:solidFill>
                <a:latin typeface="宋体"/>
              </a:rPr>
              <a:t>课堂上，你吃粒瓜子，我吃个山核桃。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6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，  吃完饼干、奶茶、冰激凌的垃圾放在厕所里，并排成一排</a:t>
            </a:r>
            <a:r>
              <a:rPr b="0" lang="zh-CN" sz="3200" spc="-1" strike="noStrike">
                <a:solidFill>
                  <a:srgbClr val="000099"/>
                </a:solidFill>
                <a:latin typeface="宋体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7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，  课间不文明休息，追追打打，导致手脚受伤或是颈椎折断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8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99"/>
                </a:solidFill>
                <a:latin typeface="宋体"/>
              </a:rPr>
              <a:t>沉迷于网络游戏不能自拔，每天下课谈谈，甚至上课也谈。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000099"/>
                </a:solidFill>
                <a:latin typeface="宋体"/>
              </a:rPr>
              <a:t>，周末不回家，玩通宵游戏，返校萎靡不振。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宋体"/>
              </a:rPr>
              <a:t>       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10</a:t>
            </a:r>
            <a:r>
              <a:rPr b="0" lang="zh-CN" sz="3200" spc="-1" strike="noStrike">
                <a:solidFill>
                  <a:srgbClr val="000099"/>
                </a:solidFill>
                <a:latin typeface="宋体"/>
              </a:rPr>
              <a:t>，上课迟到，下课躲在厕所吸烟。。。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24000" y="0"/>
            <a:ext cx="612288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点点滴滴。。。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01680" y="3886200"/>
            <a:ext cx="8540640" cy="274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小组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分钟时间，学生多人自由组合，编导身边的责任故事情景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482760"/>
            <a:ext cx="380988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我们的舞台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5943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结束语</a:t>
            </a:r>
            <a:endParaRPr b="0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2282760"/>
            <a:ext cx="8540640" cy="42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果我们每个人都建设好自己，对自己负责，对他人负责，对集体负责，对社会负责，对国家负责，就不会存在不负责的现象。即使个别有不负责的现象，而你还是尽职尽责，在这个社会中在这个集体中不就多了一份负责少了一份不负责吗？所以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责任是一种美，是一种崇高的精神，医生舍身忘己的职业道德美，军人保家卫国，舍身忘己是热爱中华民族的精神，他们的付出会或得更多的价值。责任是高尚的，需要崇尚，责任是美好的，他需要赞美，在我们的心中要牢牢记住：负责任光荣，不负责任可耻。）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天下兴亡，我的责任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85840" y="906480"/>
            <a:ext cx="1717200" cy="4993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3492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54760" y="620640"/>
            <a:ext cx="2289240" cy="5410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6699"/>
              </a:gs>
              <a:gs pos="50000">
                <a:srgbClr val="ffffff"/>
              </a:gs>
              <a:gs pos="100000">
                <a:srgbClr val="ff6699"/>
              </a:gs>
            </a:gsLst>
            <a:lin ang="10800000"/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124000" y="1557360"/>
            <a:ext cx="5041800" cy="3239640"/>
            <a:chOff x="2124000" y="1557360"/>
            <a:chExt cx="5041800" cy="3239640"/>
          </a:xfrm>
        </p:grpSpPr>
        <p:sp>
          <p:nvSpPr>
            <p:cNvPr id="260" name=""/>
            <p:cNvSpPr/>
            <p:nvPr/>
          </p:nvSpPr>
          <p:spPr>
            <a:xfrm>
              <a:off x="2124000" y="1557360"/>
              <a:ext cx="5041800" cy="3239640"/>
            </a:xfrm>
            <a:custGeom>
              <a:avLst/>
              <a:gdLst>
                <a:gd name="textAreaLeft" fmla="*/ 1150920 w 5041800"/>
                <a:gd name="textAreaRight" fmla="*/ 3890880 w 5041800"/>
                <a:gd name="textAreaTop" fmla="*/ 739440 h 3239640"/>
                <a:gd name="textAreaBottom" fmla="*/ 2500200 h 32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3300"/>
            </a:solidFill>
            <a:ln w="349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3080" y="2921400"/>
              <a:ext cx="4026960" cy="52056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天下兴亡，我的责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51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1295280" y="2057400"/>
            <a:ext cx="708660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谢谢大家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52280" y="2057400"/>
            <a:ext cx="8839440" cy="229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  </a:t>
            </a:r>
            <a:r>
              <a:rPr b="1" lang="zh-CN" sz="3200" spc="-1" strike="noStrike">
                <a:solidFill>
                  <a:srgbClr val="9999ff"/>
                </a:solidFill>
                <a:latin typeface="GungsuhChe"/>
                <a:ea typeface="GungsuhChe"/>
              </a:rPr>
              <a:t>2006</a:t>
            </a:r>
            <a:r>
              <a:rPr b="1" lang="zh-CN" sz="3200" spc="-1" strike="noStrike">
                <a:solidFill>
                  <a:srgbClr val="9999ff"/>
                </a:solidFill>
                <a:latin typeface="GungsuhChe"/>
                <a:ea typeface="GungsuhChe"/>
              </a:rPr>
              <a:t>年</a:t>
            </a:r>
            <a:r>
              <a:rPr b="1" lang="zh-CN" sz="3200" spc="-1" strike="noStrike">
                <a:solidFill>
                  <a:srgbClr val="9999ff"/>
                </a:solidFill>
                <a:latin typeface="GungsuhChe"/>
                <a:ea typeface="GungsuhChe"/>
              </a:rPr>
              <a:t>3</a:t>
            </a:r>
            <a:r>
              <a:rPr b="1" lang="zh-CN" sz="3200" spc="-1" strike="noStrike">
                <a:solidFill>
                  <a:srgbClr val="9999ff"/>
                </a:solidFill>
                <a:latin typeface="GungsuhChe"/>
                <a:ea typeface="GungsuhChe"/>
              </a:rPr>
              <a:t>月</a:t>
            </a:r>
            <a:r>
              <a:rPr b="1" lang="zh-CN" sz="3200" spc="-1" strike="noStrike">
                <a:solidFill>
                  <a:srgbClr val="9999ff"/>
                </a:solidFill>
                <a:latin typeface="GungsuhChe"/>
                <a:ea typeface="GungsuhChe"/>
              </a:rPr>
              <a:t>14</a:t>
            </a:r>
            <a:r>
              <a:rPr b="1" lang="zh-CN" sz="3200" spc="-1" strike="noStrike">
                <a:solidFill>
                  <a:srgbClr val="9999ff"/>
                </a:solidFill>
                <a:latin typeface="GungsuhChe"/>
                <a:ea typeface="GungsuhChe"/>
              </a:rPr>
              <a:t>日晚上</a:t>
            </a:r>
            <a:r>
              <a:rPr b="1" lang="zh-CN" sz="3200" spc="-1" strike="noStrike">
                <a:solidFill>
                  <a:srgbClr val="9999ff"/>
                </a:solidFill>
                <a:latin typeface="GungsuhChe"/>
                <a:ea typeface="GungsuhChe"/>
              </a:rPr>
              <a:t>7</a:t>
            </a:r>
            <a:r>
              <a:rPr b="1" lang="zh-CN" sz="3200" spc="-1" strike="noStrike">
                <a:solidFill>
                  <a:srgbClr val="9999ff"/>
                </a:solidFill>
                <a:latin typeface="GungsuhChe"/>
                <a:ea typeface="GungsuhChe"/>
              </a:rPr>
              <a:t>点多钟，天津联营</a:t>
            </a:r>
            <a:r>
              <a:rPr b="1" lang="zh-CN" sz="3200" spc="-1" strike="noStrike">
                <a:solidFill>
                  <a:srgbClr val="9999ff"/>
                </a:solidFill>
                <a:latin typeface="GungsuhChe"/>
                <a:ea typeface="GungsuhChe"/>
              </a:rPr>
              <a:t>702</a:t>
            </a:r>
            <a:r>
              <a:rPr b="1" lang="zh-CN" sz="3200" spc="-1" strike="noStrike">
                <a:solidFill>
                  <a:srgbClr val="9999ff"/>
                </a:solidFill>
                <a:latin typeface="GungsuhChe"/>
                <a:ea typeface="GungsuhChe"/>
              </a:rPr>
              <a:t>路</a:t>
            </a:r>
            <a:r>
              <a:rPr b="1" lang="zh-CN" sz="3200" spc="-1" strike="noStrike">
                <a:solidFill>
                  <a:srgbClr val="9999ff"/>
                </a:solidFill>
                <a:latin typeface="GungsuhChe"/>
                <a:ea typeface="GungsuhChe"/>
              </a:rPr>
              <a:t>4227</a:t>
            </a:r>
            <a:r>
              <a:rPr b="1" lang="zh-CN" sz="3200" spc="-1" strike="noStrike">
                <a:solidFill>
                  <a:srgbClr val="9999ff"/>
                </a:solidFill>
                <a:latin typeface="GungsuhChe"/>
                <a:ea typeface="GungsuhChe"/>
              </a:rPr>
              <a:t>号双层巴士从八一路车站始发，行驶不到</a:t>
            </a:r>
            <a:r>
              <a:rPr b="1" lang="zh-CN" sz="3200" spc="-1" strike="noStrike">
                <a:solidFill>
                  <a:srgbClr val="9999ff"/>
                </a:solidFill>
                <a:latin typeface="GungsuhChe"/>
                <a:ea typeface="GungsuhChe"/>
              </a:rPr>
              <a:t>50</a:t>
            </a:r>
            <a:r>
              <a:rPr b="1" lang="zh-CN" sz="3200" spc="-1" strike="noStrike">
                <a:solidFill>
                  <a:srgbClr val="9999ff"/>
                </a:solidFill>
                <a:latin typeface="GungsuhChe"/>
                <a:ea typeface="GungsuhChe"/>
              </a:rPr>
              <a:t>米，客车突然停靠在路边，车门也打开，乘客都纷纷下了车 原来司机黄志全在行车途中突发心脏病，当时已经不能说话，但是他以顽强的毅力将发动机熄火，并且拉上手动刹车闸，从而避免了一起车毁人亡的惨剧的发生</a:t>
            </a:r>
            <a:r>
              <a:rPr b="0" lang="zh-CN" sz="3200" spc="-1" strike="noStrike">
                <a:solidFill>
                  <a:srgbClr val="9999ff"/>
                </a:solidFill>
                <a:latin typeface="GungsuhChe"/>
                <a:ea typeface="GungsuhChe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6320" y="533520"/>
            <a:ext cx="4114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a513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听故事</a:t>
            </a:r>
            <a:endParaRPr b="0" lang="en-US" sz="1800" spc="1" strike="noStrike">
              <a:ln w="0">
                <a:noFill/>
              </a:ln>
              <a:solidFill>
                <a:srgbClr val="a513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7" name="">
            <a:hlinkClick r:id="rId1"/>
          </p:cNvPr>
          <p:cNvSpPr/>
          <p:nvPr/>
        </p:nvSpPr>
        <p:spPr>
          <a:xfrm>
            <a:off x="304920" y="64771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8406"/>
                </a:moveTo>
                <a:lnTo>
                  <a:pt x="21176" y="8406"/>
                </a:lnTo>
                <a:lnTo>
                  <a:pt x="25597" y="3794"/>
                </a:lnTo>
                <a:lnTo>
                  <a:pt x="25597" y="17806"/>
                </a:lnTo>
                <a:lnTo>
                  <a:pt x="21176" y="13194"/>
                </a:lnTo>
                <a:lnTo>
                  <a:pt x="16745" y="13194"/>
                </a:lnTo>
                <a:close/>
              </a:path>
              <a:path fill="darken" w="47504" h="21600">
                <a:moveTo>
                  <a:pt x="27251" y="10800"/>
                </a:moveTo>
                <a:lnTo>
                  <a:pt x="30758" y="10800"/>
                </a:lnTo>
              </a:path>
              <a:path fill="darken" w="47504" h="21600">
                <a:moveTo>
                  <a:pt x="27251" y="8406"/>
                </a:moveTo>
                <a:lnTo>
                  <a:pt x="30758" y="5639"/>
                </a:lnTo>
              </a:path>
              <a:path fill="darken" w="47504" h="21600">
                <a:moveTo>
                  <a:pt x="27251" y="13194"/>
                </a:moveTo>
                <a:lnTo>
                  <a:pt x="30758" y="15961"/>
                </a:lnTo>
              </a:path>
            </a:pathLst>
          </a:custGeom>
          <a:solidFill>
            <a:srgbClr val="99cc00"/>
          </a:solidFill>
          <a:ln w="349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380880"/>
            <a:ext cx="4267440" cy="1905120"/>
          </a:xfrm>
          <a:prstGeom prst="ellipse">
            <a:avLst/>
          </a:prstGeom>
          <a:solidFill>
            <a:srgbClr val="9999ff"/>
          </a:solidFill>
          <a:ln w="34920">
            <a:solidFill>
              <a:srgbClr val="a51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320" y="3352680"/>
            <a:ext cx="9067680" cy="32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13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9900cc"/>
                </a:solidFill>
                <a:latin typeface="宋体"/>
              </a:rPr>
              <a:t>，黄志全是一个什么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9900cc"/>
                </a:solidFill>
                <a:latin typeface="宋体"/>
              </a:rPr>
              <a:t>，从黄志全你所想到的？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0720" y="5181480"/>
            <a:ext cx="459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96360" y="4797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30376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295280" y="2209680"/>
            <a:ext cx="6400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a513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责任永驻，让关爱永恒吧！</a:t>
            </a:r>
            <a:endParaRPr b="0" lang="en-US" sz="1800" spc="1" strike="noStrike">
              <a:ln w="19080">
                <a:solidFill>
                  <a:srgbClr val="a513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37720" y="1981080"/>
            <a:ext cx="7543800" cy="457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723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3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，非典期间，白衣天使冒着生命危险给发热病人进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检查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，戌守边疆的战士，弃城而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，前几天，新闻报道：大连某军指导员，在新兵投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失控的情况下用自己的身体和年轻的生命去保护他的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，七旬老母街头行乞，成群儿女花天酒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宋体"/>
                <a:ea typeface="Times New Roman"/>
              </a:rPr>
              <a:t>5</a:t>
            </a: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，英语课时，有的同学不认真甚至酣然大睡，老师却置之不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宋体"/>
                <a:ea typeface="Times New Roman"/>
              </a:rPr>
              <a:t>6</a:t>
            </a: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，在教室里，最后一个走出教室的同学，明知道没有关灯却视而不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3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cc"/>
                </a:solidFill>
                <a:latin typeface="隶书"/>
                <a:ea typeface="隶书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66680" y="609480"/>
            <a:ext cx="4876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宋体"/>
              </a:rPr>
              <a:t>判一判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2060640"/>
            <a:ext cx="7543800" cy="457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7</a:t>
            </a: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，把地面的垃圾捡起放在垃圾桶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8</a:t>
            </a: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，向楼下吐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9</a:t>
            </a: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，上课积极发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10</a:t>
            </a: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，跟爸妈打电话时态度恶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宋体"/>
                <a:ea typeface="Times New Roman"/>
              </a:rPr>
              <a:t>5</a:t>
            </a: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，与同学对骂，甚至出手伤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宋体"/>
                <a:ea typeface="Times New Roman"/>
              </a:rPr>
              <a:t>6</a:t>
            </a: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，碰到挫折，换角度想问题，调整心态，逆流而上，让暴风雨来的更猛烈些吧！（像海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，碰到一点挫折，就心灰意冷，意志消沉，整日愁眉苦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8</a:t>
            </a: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，向自己挑战，相信自己，战胜自己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cc"/>
                </a:solidFill>
                <a:latin typeface="隶书"/>
                <a:ea typeface="隶书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600200" y="549360"/>
            <a:ext cx="4226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责任的涵义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206064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黑体"/>
                <a:ea typeface="隶书"/>
              </a:rPr>
              <a:t>一 是指份内应做的事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3429000"/>
            <a:ext cx="6705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黑体"/>
                <a:ea typeface="隶书"/>
              </a:rPr>
              <a:t>二 是指因没有做好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隶书"/>
              </a:rPr>
              <a:t>份</a:t>
            </a:r>
            <a:r>
              <a:rPr b="1" lang="zh-CN" sz="3600" spc="-1" strike="noStrike">
                <a:solidFill>
                  <a:srgbClr val="9900cc"/>
                </a:solidFill>
                <a:latin typeface="黑体"/>
                <a:ea typeface="隶书"/>
              </a:rPr>
              <a:t>内应做的事而应承担的过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781680" y="525780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10960"/>
            <a:ext cx="7129440" cy="618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33280"/>
            <a:ext cx="8280360" cy="6624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02:12:0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21:14Z</dcterms:modified>
  <cp:revision>88</cp:revision>
  <dc:subject>主题班会课件(分28大类): http://shop62905894.taobao.com</dc:subject>
  <dc:title>主题班会课件(分28大类): http://shop62905894.taobao.com</dc:title>
</cp:coreProperties>
</file>