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8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19.jpeg" ContentType="image/jpeg"/>
  <Override PartName="/ppt/media/image18.jpeg" ContentType="image/jpeg"/>
  <Override PartName="/ppt/media/image17.gif" ContentType="image/gif"/>
  <Override PartName="/ppt/media/image16.png" ContentType="image/png"/>
  <Override PartName="/ppt/media/image15.gif" ContentType="image/gif"/>
  <Override PartName="/ppt/media/image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14.jpeg" ContentType="image/jpeg"/>
  <Override PartName="/ppt/media/image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901-0984-4BB1-B898-E7EC11B2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DC3-C503-46F2-850A-F506A71F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5BA9-CD7F-4970-B8A8-880D02F6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040-DF74-4BB5-B1F1-626CE3F6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13A6-8FD4-4887-BA5D-F7B46397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F5E-287F-4005-B696-5209CF26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6DA-164D-4EC7-81A9-3F01F38A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8FC-B9FC-4C44-9BD7-F2CC77CE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250-F696-4107-A90B-B86493FB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25DC-48E4-4FE2-A3CA-0BB2B629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976-89BE-4177-B1A7-387E1A42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A7A-7083-4DEB-B989-19A9FA36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7385-0766-4843-98A4-87DE210B85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在生活当中，我们经常能够听到的是各种各样的借口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可以早到的，如果不是下雨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没有在规定的时间里把事做完，是因为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没学过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本来会的，可没有足够的时间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不是粗心，我一定可以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别人先讲话的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333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现在，我们同在一个班集体，如同上了同一辆车，在这辆车上，我们要共处至少两年</a:t>
            </a:r>
            <a:r>
              <a:rPr b="1" lang="zh-CN" sz="36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! </a:t>
            </a:r>
            <a:r>
              <a:rPr b="1" lang="zh-CN" sz="36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我们会有共同的利益，要为维护自身利益而团结起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-方正超大字符集"/>
                <a:ea typeface="宋体-方正超大字符集"/>
              </a:rPr>
              <a:t>我们之间的关系不是萍水相逢，而是朝夕相处；我们的目的地不是某个简单的地方，而是影响到我们一生的名校梦想；我们前进的动力不是简单地依赖某个司机的熟练操作，而是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544500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全体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成员的团结协作和共同努力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!</a:t>
            </a:r>
            <a:r>
              <a:rPr b="1" lang="zh-CN" sz="1800" spc="-1" strike="noStrike">
                <a:solidFill>
                  <a:srgbClr val="ff0066"/>
                </a:solidFill>
                <a:latin typeface="宋体-方正超大字符集"/>
                <a:ea typeface="宋体-方正超大字符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916360" y="549360"/>
            <a:ext cx="338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楷体"/>
              </a:rPr>
              <a:t>记者采访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66" name=""/>
          <p:cNvSpPr/>
          <p:nvPr/>
        </p:nvSpPr>
        <p:spPr>
          <a:xfrm>
            <a:off x="621000" y="1844640"/>
            <a:ext cx="7422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66"/>
                </a:solidFill>
                <a:latin typeface="Arial"/>
                <a:ea typeface="隶书"/>
              </a:rPr>
              <a:t>       </a:t>
            </a:r>
            <a:r>
              <a:rPr b="0" lang="zh-CN" sz="6600" spc="-1" strike="noStrike">
                <a:solidFill>
                  <a:srgbClr val="000066"/>
                </a:solidFill>
                <a:latin typeface="Arial"/>
                <a:ea typeface="隶书"/>
              </a:rPr>
              <a:t>老师眼中有责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66"/>
                </a:solidFill>
                <a:latin typeface="Arial"/>
                <a:ea typeface="隶书"/>
              </a:rPr>
              <a:t>心的学生是怎么样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66"/>
                </a:solidFill>
                <a:latin typeface="Arial"/>
                <a:ea typeface="隶书"/>
              </a:rPr>
              <a:t>呢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1965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自己负责：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努力学习，塑造自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他人负责：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关心爱护和帮助他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集体负责：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为集体增添荣誉和力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社会负责：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以良好行为创造美好的社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916360" y="189000"/>
            <a:ext cx="36716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我们的责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58920" y="620640"/>
            <a:ext cx="8246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隶书"/>
                <a:ea typeface="隶书"/>
              </a:rPr>
              <a:t>对自己负责</a:t>
            </a:r>
            <a:r>
              <a:rPr b="1" lang="zh-CN" sz="8800" spc="-1" strike="noStrike">
                <a:solidFill>
                  <a:srgbClr val="333399"/>
                </a:solidFill>
                <a:latin typeface="隶书"/>
                <a:ea typeface="隶书"/>
              </a:rPr>
              <a:t>---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隶书"/>
                <a:ea typeface="隶书"/>
              </a:rPr>
              <a:t>自己的事自己做，爱生命、爱学习、懂自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26920" y="476280"/>
            <a:ext cx="259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动一动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1700280"/>
            <a:ext cx="786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　　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自查课桌物品整理整洁情况，给自己打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　　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花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分钟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整理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课桌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物品，清洁课桌周围纸屑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98600" y="1557360"/>
            <a:ext cx="6789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2003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年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11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月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日，湖南省沅江市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岁的郭玲因为无法缴纳用于购买计算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5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元钱给老师，受强烈自尊心的影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喝下一瓶敌敌畏自杀身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3933720"/>
            <a:ext cx="85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江苏省兴铜峰中学初二的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岁女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小丽因为英语老师曾在全班同学面前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评她而服毒自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 rot="203400">
            <a:off x="250560" y="404640"/>
            <a:ext cx="345420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生命的思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77" name=""/>
          <p:cNvSpPr/>
          <p:nvPr/>
        </p:nvSpPr>
        <p:spPr>
          <a:xfrm>
            <a:off x="2372400" y="59500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阅读后你有何感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411280" y="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珍惜我们的学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263700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、有的同学学习凭兴趣，喜欢这门课，就多花点时间看看，不喜欢那门课，就放弃；喜欢这个老师讲课，就有兴趣学好这门课，不喜欢那个老师讲课，就不听他讲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这种态度对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 rot="273600">
            <a:off x="250560" y="333000"/>
            <a:ext cx="26636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说一说、想一想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83" name=""/>
          <p:cNvSpPr/>
          <p:nvPr/>
        </p:nvSpPr>
        <p:spPr>
          <a:xfrm>
            <a:off x="3386160" y="1413000"/>
            <a:ext cx="180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、我们班有哪些对学习不负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任的现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1413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隶书"/>
                <a:ea typeface="隶书"/>
              </a:rPr>
              <a:t>    </a:t>
            </a:r>
            <a:r>
              <a:rPr b="1" lang="zh-CN" sz="7200" spc="-1" strike="noStrike">
                <a:solidFill>
                  <a:srgbClr val="ff0066"/>
                </a:solidFill>
                <a:latin typeface="隶书"/>
                <a:ea typeface="隶书"/>
              </a:rPr>
              <a:t>一个人做事，要先做自己应该要做的事，再做自己喜欢做的事。这就是责任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404640"/>
            <a:ext cx="43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6600"/>
                </a:solidFill>
                <a:latin typeface="Arial"/>
              </a:rPr>
              <a:t>心灵寄语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344680" y="836640"/>
            <a:ext cx="429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楷体"/>
              </a:rPr>
              <a:t> 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楷体"/>
              </a:rPr>
              <a:t>说一说：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楷体"/>
              </a:rPr>
              <a:t>我校学生有哪些行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楷体"/>
              </a:rPr>
              <a:t>是不爱护学校、缺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楷体"/>
              </a:rPr>
              <a:t>责任心的行为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 rot="217200">
            <a:off x="3132000" y="4508280"/>
            <a:ext cx="3378240" cy="12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调查后的沉思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569080" cy="61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小时候偷父亲的钱买东西吃，妈妈为我辩解——他只是小孩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年轻时不努力，有人很理解我——年轻人嘛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中年时犯了错误，上司通情达理——他是缺乏经验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了老年，我的所有错误又都可以用“他是老人家”来化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选自《我这一辈子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443760" y="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华文隶书"/>
              </a:rPr>
              <a:t>我爱我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12600" y="1125360"/>
            <a:ext cx="131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赞一赞我们班的责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榜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306864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自我剖析：我是否有过对班集体不负责任的行为？今后怎样做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62064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老师布置的作业，你会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主动完成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拖欠作业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抄袭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70320" y="1484280"/>
            <a:ext cx="441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违反纪律或破坏公物后，你会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主动找老师认错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想方设法隐瞒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屡教不改，并埋怨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86440" y="2997360"/>
            <a:ext cx="265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看到不良现象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如学生打架、考试作弊 、乱扔垃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你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上前制止或告诉老师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若无其事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做老好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85680" y="4365720"/>
            <a:ext cx="374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作为初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班的一员，对于班级活动，你会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以主人翁精神参加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认为无所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找借口不参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 rot="21391800">
            <a:off x="395280" y="0"/>
            <a:ext cx="23050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照镜子</a:t>
            </a:r>
            <a:endParaRPr b="1" i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7340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假如你受到挫折或受委屈时，你会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选择自杀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离家出走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自我调节情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9080" y="1557360"/>
            <a:ext cx="882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在一个班集体中，大家都是集体的主人，应该有当家作主的精神，要意识到自己的责任，自觉为班集体建设承担自己的一份责任和义务。这样我们每一个人在集体中的存在价值才能充分体现出来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76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47640" y="62064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康海报体W12(P)"/>
              </a:rPr>
              <a:t>小品欣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148428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413000"/>
            <a:ext cx="914400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《谁负责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主要剧情：初为班长的小红，对工作认真负责，有热情，但同学中一些不负责任的现象让她烦恼。一天早上，小红刚回到教室就看见自己的好朋友和几个同学在吃早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他上前阻止这种现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却不被理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委屈无处倾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天中午放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同学们懂得关好门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却对管理员忘记关的投影屏幕视若无睹。班长和朋友从办公室回来后关了屏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离开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似有所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26920" y="692280"/>
            <a:ext cx="741708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我能为班级做些什么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力所能及的事，积极完成；力所不能及的事，尽自己努力完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组织节目；校运会积极参加或做后勤工作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积极参加课外活动比赛，为班增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真学习，不拉低班平均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做好自己的职责（卫生、纪律、两操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学习上能帮助同学的尽量帮助，多为班出谋献划策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7.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遵规守纪，认真做好每一件事，使班集体不会因为我而扣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8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更好发挥带头作用，敢为人先，带动班集体积极极向上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.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互相帮助，共同进步，形成团结友爱的班风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0920" y="692280"/>
            <a:ext cx="36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康海报体W12(P)"/>
              </a:rPr>
              <a:t>   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康海报体W12(P)"/>
              </a:rPr>
              <a:t>小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2220840"/>
            <a:ext cx="68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14a7ca"/>
                </a:solidFill>
                <a:latin typeface="隶书"/>
                <a:ea typeface="隶书"/>
              </a:rPr>
              <a:t>新的生活，</a:t>
            </a:r>
            <a:r>
              <a:rPr b="1" lang="zh-CN" sz="4800" spc="-1" strike="noStrike">
                <a:solidFill>
                  <a:srgbClr val="800080"/>
                </a:solidFill>
                <a:latin typeface="隶书"/>
                <a:ea typeface="隶书"/>
              </a:rPr>
              <a:t>新的学习，</a:t>
            </a: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新的征程，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应首先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从爱我们的集体开始。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443700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华康海报体W12(P)"/>
                <a:ea typeface="华康海报体W12(P)"/>
              </a:rPr>
              <a:t>让别人因为我的存在而感到幸福</a:t>
            </a:r>
            <a:r>
              <a:rPr b="1" lang="zh-CN" sz="4800" spc="-1" strike="noStrike">
                <a:solidFill>
                  <a:srgbClr val="000000"/>
                </a:solidFill>
                <a:latin typeface="华康海报体W12(P)"/>
                <a:ea typeface="华康海报体W12(P)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33678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古人云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: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屋不扫，何以扫天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?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因此，家庭责任感是社会责任感的基础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生作为家庭的一员，应当享受家庭幸福的生活，也应有责任分担家庭的困难，承受一点生活的压力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49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32000" y="0"/>
            <a:ext cx="43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康海报体W12(P)"/>
              </a:rPr>
              <a:t>小品欣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998640"/>
            <a:ext cx="8964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《我们这一家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主要剧情：以家庭为背景所发生的生活琐事，我们将家庭中三位人物生活的点滴呈现给大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这位同学在家里这样做，对不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应为家庭做些什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已经做了什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还能做些什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125360"/>
            <a:ext cx="70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康海报体W12(P)"/>
              </a:rPr>
              <a:t>我能为父母做什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629080"/>
            <a:ext cx="8640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不向父母提过分要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以免增添他们的烦恼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要多做家务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减轻父母的负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以优异的学习成绩向父母汇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85694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美国西点军校，有一个广为传诵的悠久传统，学员遇到军官问话时，只能有四种回答：“报告长官，是”、“报告长官，不是”、“报告长官，不知道”、“报告长官，没有任何借口”。除此以外，不能多说一个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459640" y="623736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36360" y="601560"/>
            <a:ext cx="9324720" cy="1068840"/>
          </a:xfrm>
          <a:prstGeom prst="rect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乔治做了一辈子的木匠工作，并且以其敬业和勤奋而深得老板的信任。年老力衰，乔治对老板说，自己想退休回家与妻子儿女享受天伦之乐。老板十分舍不得他，再三挽留，但是他去意已决，不为所动。老板只好答应他的请辞，但希望他能再帮助自己盖一座房子。乔治自然无法推辞。   乔治已归心似箭，心思全不在工作上了。用料也不那么严格，做出的活也全无往日的水准。老板看在眼里，但却什么也没说。等到房子盖好后，老板将钥匙交给了乔治。“这是你的房子，”老板说，“我送给你的礼物。”老木匠愣住了，悔恨和羞愧溢于言表。他这一生盖了那么多华亭豪宅，最后却为自己建了这样一座粗制滥造的房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90792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981000"/>
            <a:ext cx="8964720" cy="38228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思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故事中的主人公犯了一个什么错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从中你可以得到什么启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作为一个学生我们应该如何对自己负责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89,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3024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195640" y="765000"/>
            <a:ext cx="410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康海报体W12(P)"/>
              </a:rPr>
              <a:t>畅所欲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康海报体W12(P)"/>
              </a:rPr>
              <a:t>责任心小测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83664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一个小男孩用力将球扔了出去，你想接下来会发生什么事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皮球撞到墙壁后又弹回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皮球自然掉落了，什么意外的事情也没发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皮球打到了一户人家的窗户，玻璃立刻应声而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8000" y="6021360"/>
            <a:ext cx="287640" cy="28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12000" y="27082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42920" y="4365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020000" y="6308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一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9280" y="26028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选择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人：你是一个比较有责任心的人，总会坚持自己的意见，有时候别人和你有不同的看法，你肯定会为此争论到底，以证明你的说法或者做法是正确的。当然你可能是本着负责任的态度才这样的，但是你想过没有，其实每件事从不同的角度去研究，都会得到不同的结果，你应该放开心胸多接纳不同的声音，才能让自己的责任感表现得更加完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1280" y="127080"/>
            <a:ext cx="896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0464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选择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人：很不幸，你是一个缺乏责任感的人。你生性自由，不喜欢受拘束，同时也还害怕失败。因此一看到不易解决的事，就会立刻采取回避的态度，这是典型的缺乏责任感的表现。生活中的你唯有鼓起勇气面对现实，才能开创美好的前途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8036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692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选择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人：你是一个责任感很强的人，总想把事情做得尽善尽美，因此给自己很大的压力。因为责任而产生的得失心理常让你感到不安，因此要想快快乐乐地生活，就必须放松自己，不要太在意别人的看法，这样才能生活得更加轻松愉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280" y="127080"/>
            <a:ext cx="896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3080" y="836640"/>
            <a:ext cx="86756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假日到公园里享受悠闲时光，你通常会选择什么地方坐着来消磨时间？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能看到人来人往的小径坐椅上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可以遮阳的凉亭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枝叶繁茂的大树底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柳树垂杨的湖畔边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740720" y="234936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19640" y="292428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219640" y="422100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164360" y="609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结</a:t>
            </a: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9280" y="365040"/>
            <a:ext cx="932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选“能看到人来人往的小径坐椅上”  你时常会把许多大小事情揽在自己身上，有时不该是你责任范围的事，也不知为何全落到你的头上来。如果你是真心想担起责任的话，当然没问题，可是如果你每次都为莫名其妙就身负重任，而苦恼不已的话，那你就得学习着如何适时拒绝，或者表达出自己的反对意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.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24720" y="6021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8000" y="3207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选“可以遮阳的凉亭内”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有点小聪明的你，蛮懂得求救示警，每当有事情发生时，第一个会让你想到的解决之道就是找人帮忙，当然这也算是一种负责任的方式，不过可能会有些人觉得你不能负责，而想推卸给其他人，所以做事的时候，你应该表现出勇于负责的态度，先想办法自己解决，免得被批评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24720" y="6021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26920" y="333360"/>
            <a:ext cx="55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47628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选“枝叶繁茂的大树底下”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最怕别人叫你负责，只要是必须肩负重责大任的工作，你总是会考虑再三，能不要就不要，但这并不是说你没有责任感，只是你觉得一旦答应他人，就应该负责到底，因此怕麻烦的你，总是希望能省一事就省一事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4720" y="6021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NO  Excus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8560" y="981000"/>
            <a:ext cx="878508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西点军校奉行的最重要的行为准则。它强化的是每一位学员想尽办法去完成任何一项任务，而不是为没有完成任务去寻找任何借口，哪怕看似合理的借口。其目的是为了让学员学会适应压力，培养他们不达目的不罢休的毅力。它让每一个学员懂得：工作中是没有任何借口的，失败是没有任何借口的，人生也没有任何借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中是没有任何借口的，失败是没有任何借口的，人生也没有任何借口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360" y="47628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D.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选“柳树垂杨的湖畔边”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还算是有责任感的人，但是并不会去承担一些有的没有的责任。只要是自己份内的事，或者是自己捅出来的错误，你会站出来负责到底，找办法补救，但是如果有人希望你多负担点不属于你的责任，可能就要有利益引诱，才能够说动你呢 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24720" y="6021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417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000" spc="-1" strike="noStrike">
              <a:solidFill>
                <a:srgbClr val="000000"/>
              </a:solidFill>
              <a:latin typeface="Arial"/>
              <a:ea typeface="华文楷体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7058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德国、日本在第二次世界大战中给许多国家的人民带来了巨大灾难。波兰牺牲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万人，中国则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万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，德国总理勃兰特访问波兰，他在给无名烈士墓和犹太人殉难者纪念碑献花圈时，竟当着成千上万人的面，扑通一声跪倒在地，举世为之感动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责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责任是一块砖，今天看起来微不足道，但它却垫起了每个人明天的一端高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责任是一个路标，就在每个人的眼前，平凡而常见，但却能指引每个人生活的方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责任是一条永无休止、高到天边的漫漫长梯，在这责任的长梯种，每隔一端就有一个就有一个惊喜，这惊喜就是我们成长的标志和见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82520" y="1557360"/>
            <a:ext cx="8782200" cy="20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生命</a:t>
            </a: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,</a:t>
            </a: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让我们隆重登场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责任</a:t>
            </a: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,</a:t>
            </a: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让我们璀璨生光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4365720"/>
            <a:ext cx="7848360" cy="1368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172360" y="6021360"/>
            <a:ext cx="439920" cy="43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335420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11" descr="180.jpg"/>
          <p:cNvPicPr/>
          <p:nvPr/>
        </p:nvPicPr>
        <p:blipFill>
          <a:blip r:embed="rId1"/>
          <a:stretch/>
        </p:blipFill>
        <p:spPr>
          <a:xfrm>
            <a:off x="3286080" y="1071720"/>
            <a:ext cx="3929040" cy="37861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隐形的翅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每一次都在徘徊孤单中坚强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每一次就算有眼泪也不闪泪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我知道我一直有双隐形的翅膀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带我飞飞过绝望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不去想他们拥有美丽的太阳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我看见每天的太阳也会有变化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我知道我一直有双隐形的翅膀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"/>
                <a:ea typeface="楷体"/>
              </a:rPr>
              <a:t>带我飞，给我希望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6" descr="1203cdb1f1cg215.jpg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我终于看到所有梦想都开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追逐的年轻歌声多嘹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我终于翱翔用心凝望不害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哪里会有风就飞多远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不去想他们拥有美丽的太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我看见每天的太阳也会有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我知道我一直有双隐形的翅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带我飞，给我希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1484280"/>
            <a:ext cx="7993080" cy="110952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99cc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迷你简启体"/>
              </a:rPr>
              <a:t>人生课堂之责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5950080"/>
            <a:ext cx="584280" cy="583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6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33542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1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83808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康海报体W12(P)"/>
              </a:rPr>
              <a:t>什么是责任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5445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责任就是你的承诺，为了某个目标不断的努力而奋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50028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责任是一种能力、一种精神，更是一种品格；责任就是对自己不喜欢但必须做的事情，毫无怨言地承担，并认认真真地做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98900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责任与权利相对应，是份内应做的事情。也就是承担应当承担的任务，完成应当完成的使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810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在我们这个国家作为一个好国民，第一条件是他要能够并愿意凡事尽责，全力以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罗斯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责任心不是蓝天上的白云，潇洒，飘逸，片刻消失，而是万物生存必不可少的甘露。——柳赛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责任心犹如大海中的定海神针，人类一旦失去责任心，世界就会像大海一样波涛汹涌，失去控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每个人都希望有一瓶高雅的法国香水，它让你飘逸着芳香；每个人更应该有一颗责任心，它能铸造你坚毅的灵魂——陈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4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0920" y="5734080"/>
            <a:ext cx="1439640" cy="833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95640" y="40464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康海报体W12(P)"/>
              </a:rPr>
              <a:t>视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4920" y="2633760"/>
            <a:ext cx="7345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思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危急时刻这位平凡的公交车司机是怎样做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他身上散发着何种光芒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让这么多人知道并记住他的名字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63640" y="1779480"/>
            <a:ext cx="73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《公交司机死前踩刹车保乘客安全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71640" y="620640"/>
            <a:ext cx="475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康海报体W12(P)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康海报体W12(P)"/>
              </a:rPr>
              <a:t>谈体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3:58:2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07:49Z</dcterms:modified>
  <cp:revision>5</cp:revision>
  <dc:subject>主题班会课件(分28大类): http://shop62905894.taobao.com</dc:subject>
  <dc:title>主题班会课件(分28大类): http://shop62905894.taobao.com</dc:title>
</cp:coreProperties>
</file>