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0B9-37AA-4638-926C-FE570E93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251-EE22-4BAD-B987-62B6962D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D52-148D-413D-B7E2-5DB7180E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141-1D57-490A-BE55-888A3278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675-E8F3-4518-A73E-99DDD9D5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B53-EA15-43F7-973C-A692371A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998-E3F3-4911-9BBF-0569F181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A23-B3FF-48DB-B8A6-1D42AB07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CBF-6899-4CE8-AC57-DD75A362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064-1F8C-40C4-B4E4-68DEDF9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E09-8FF0-41EF-9E17-A214FCAF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BD1-BC04-4056-9E9B-9B61C1B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36D7-8616-4D2F-AD80-84141379EC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56.com/u58/v_MjE1Mjc0ODc.html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fed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4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4076640"/>
            <a:ext cx="9144000" cy="24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和规则交朋友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3213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规：画圆形的工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43700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规则：大家共同遵守的具体规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5832360" cy="180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71640" y="9079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说文解字释规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f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314280"/>
            <a:ext cx="8497800" cy="626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328464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后面图片上的小学生违反了什么规则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你会怎样劝说他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effee0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413000"/>
            <a:ext cx="8064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一定非常喜欢解放军叔叔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是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中国人民解放军是一支纪律严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英勇善战的队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在工农革命时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毛泽东主席就给这支人民的军队制定了铁的纪律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&lt;&lt;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三大纪律八项注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&gt;&gt;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3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9079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我也要向解放军叔叔一样，给自己制定几条规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836640"/>
            <a:ext cx="23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对，让我们和规则做朋友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40000" cy="1450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5761080" cy="141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00720" y="98100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Arial"/>
                <a:ea typeface="隶书"/>
              </a:rPr>
              <a:t>我和规则交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773360"/>
            <a:ext cx="80647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学生日常行为规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gt;&gt;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觉得自己做得好的方面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＿＿＿＿＿＿＿＿＿＿＿＿＿＿＿＿＿＿＿＿＿＿＿＿＿＿＿＿＿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＿＿＿＿＿＿＿＿＿＿＿＿＿＿＿＿＿＿＿＿＿＿＿＿＿＿＿＿＿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357720"/>
            <a:ext cx="79930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这些方面我还做得不够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＿＿＿＿＿＿＿＿＿＿＿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＿＿＿＿＿＿＿＿＿＿＿＿＿＿＿＿＿＿＿＿＿＿＿＿＿＿＿＿＿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＿＿＿＿＿＿＿＿＿＿＿＿＿＿＿＿＿＿＿＿＿＿＿＿＿＿＿＿＿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797360"/>
            <a:ext cx="80643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要给自己定几条规则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＿＿＿＿＿＿＿＿＿＿＿＿＿＿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＿＿＿＿＿＿＿＿＿＿＿＿＿＿＿＿＿＿＿＿＿＿＿＿＿＿＿＿＿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＿＿＿＿＿＿＿＿＿＿＿＿＿＿＿＿＿＿＿＿＿＿＿＿＿＿＿＿＿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＿＿＿＿＿＿＿＿＿＿＿＿＿＿＿＿＿＿＿＿＿＿＿＿＿＿＿＿＿＿＿＿＿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2:14:5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3:28Z</dcterms:modified>
  <cp:revision>31</cp:revision>
  <dc:subject>主题班会课件(分28大类): http://shop62905894.taobao.com</dc:subject>
  <dc:title>主题班会课件(分28大类): http://shop62905894.taobao.com</dc:title>
</cp:coreProperties>
</file>