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20.gif" ContentType="image/gif"/>
  <Override PartName="/ppt/media/image23.png" ContentType="image/png"/>
  <Override PartName="/ppt/media/image12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gif" ContentType="image/gif"/>
  <Override PartName="/ppt/media/image5.jpeg" ContentType="image/jpeg"/>
  <Override PartName="/ppt/media/image6.wmf" ContentType="image/x-wmf"/>
  <Override PartName="/ppt/media/image24.png" ContentType="image/png"/>
  <Override PartName="/ppt/media/image21.gif" ContentType="image/gif"/>
  <Override PartName="/ppt/media/image19.gif" ContentType="image/gif"/>
  <Override PartName="/ppt/media/image1.gif" ContentType="image/gif"/>
  <Override PartName="/ppt/media/image10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5.gif" ContentType="image/gif"/>
  <Override PartName="/ppt/media/image3.jpeg" ContentType="image/jpeg"/>
  <Override PartName="/ppt/media/image2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49C4-F710-40E5-B754-63EBCB7B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68BE-F464-4080-9A0A-D9F1C4E2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FB9C-1143-4F3F-8AD2-50BF566D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0BFE-4C6A-4BB8-9461-8C1F386E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2F6B-D754-4E96-BFA0-F86031FB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8262-43DF-4B6D-8D1E-55052544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162D-FE28-468B-9262-8985887E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34BE-C949-41F4-AF5C-39EB2682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403-C216-44E9-8286-BF71B708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057B-190A-452A-9562-19575FA2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EE9E-20BE-47F2-B7DB-2217E465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E84F-40CB-43DB-9186-8E25584F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988A-7A2F-43DF-B806-63636C0727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71640" y="1052640"/>
            <a:ext cx="5688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43570" dir="18900000" blurRad="0" rotWithShape="0">
                    <a:srgbClr val="808080">
                      <a:alpha val="50000"/>
                    </a:srgbClr>
                  </a:outerShdw>
                </a:effectLst>
                <a:latin typeface="华文行楷"/>
              </a:rPr>
              <a:t>责任与我同行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43570" dir="18900000" blurRad="0" rotWithShape="0">
                  <a:srgbClr val="808080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0920" y="126828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几年前，美国著名心理学博士艾尔森对世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名各个领域中杰出人士做了问卷调查，结果让他十分惊讶———其中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名杰出人士承认，他们所从事的职业，并不是他们内心最喜欢做的，至少不是他们心目中最理想的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苏珊如今已是美国证券业界风云人物，在被调查时依然心存遗憾地说：“老实说，至今为止，我仍不喜欢自己所从事的工作。如果能够让我重新选择，我会毫不犹豫地选择音乐。但我知道那只能是一个美好的‘假如’了，我只能把手头的工作做好……”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16360" cy="836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628040" y="6124680"/>
            <a:ext cx="1515960" cy="733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0" y="1125360"/>
            <a:ext cx="523800" cy="2087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340000" y="5964120"/>
            <a:ext cx="4464000" cy="893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6804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1755000"/>
            <a:ext cx="85327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艾尔森博士直截了当地问她：“既然你不喜欢你的专业，为何你学得那么棒？既然不喜欢眼下的工作，为何你又做得那么优秀？”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苏珊的眼里闪着自信，十分明确地回答：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“因为我在那个位置上，那里有我应尽的职责，我必须认真对待。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“不管喜欢不喜欢，那都是我自己必须面对的，都没有理由草草应付，都必须尽心尽力，尽职尽责，</a:t>
            </a:r>
            <a:r>
              <a:rPr b="1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那不仅是对工作负责，也是对自己负责。有责任感可以创造奇迹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123920"/>
            <a:ext cx="891540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天下兴亡，匹夫有责。——顾炎武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责任就是对自己要求去做的事情有一种爱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德国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歌德《格言与感想》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责任并不是一种由外部强加在人身上的义务，而是我需要对我所关心的事情作出反应。                             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美国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弗洛姆《为自己的人》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责任心就是关心别人，关心整个社会。有了责任心，生活就有了真正的含义和灵魂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科威特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穆尼尔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纳素夫《愿你生活更美好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81080" y="190440"/>
            <a:ext cx="34542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格言</a:t>
            </a:r>
            <a:endParaRPr b="1" i="1" lang="en-US" sz="1800" spc="-1" strike="noStrike">
              <a:ln w="9360">
                <a:solidFill>
                  <a:srgbClr val="99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561440" y="0"/>
            <a:ext cx="15825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近代著名学者梁启超先生在他的《饮冰室全集》中这样论述责任：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仿宋_GB2312"/>
                <a:ea typeface="仿宋_GB2312"/>
              </a:rPr>
              <a:t>人生最苦的事莫苦于身上背着一种未来的责任。人生第一乐事当然就是这责任的完成。责任越重大，负责的日子越长久，到责任完了时，海阔天空，心安理得，那快乐还要加几倍。</a:t>
            </a:r>
            <a:br>
              <a:rPr sz="3600"/>
            </a:br>
            <a:r>
              <a:rPr b="1" lang="zh-CN" sz="36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    所以，希望同学们时时谨记身上背负的重任，为家人，为自己，为老师，为</a:t>
            </a:r>
            <a:r>
              <a:rPr b="1" lang="zh-CN" sz="36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-----</a:t>
            </a:r>
            <a:r>
              <a:rPr b="1" lang="zh-CN" sz="36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负起自己的一份责任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57240" y="762120"/>
            <a:ext cx="12780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谨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没有责任心的人是一个自私的人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黑体"/>
              </a:rPr>
              <a:t>拥有责任心的人是一个成功的人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990720" y="304920"/>
            <a:ext cx="76197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今天，我还是一株幼苗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900000" y="981000"/>
            <a:ext cx="7543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明天，我是国家栋梁！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9280" y="360360"/>
            <a:ext cx="4191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新华社发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香港一旅行团在埃及南部遭遇车祸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多人伤亡。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0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点左右，在埃及南部红海旅游城市胡尔加达到卢克索之间的公路上，香港旅行团乘坐的旅游巴士翻倒在路边，造成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死亡，约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受伤的恶性车祸。车祸是因为司机超速驾驶，在这段路一转弯处因车速过快而翻车，目前伤员已被送往胡尔加达医院接受救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0"/>
            <a:ext cx="478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那天，阳光灿烂，大连市公共汽车联营公司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70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路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42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号双层巴士司机黄志全，行车途中突然心脏病发作，在生命的最后一分钟里，他做了三件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------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把车缓缓停在路边，用最后的力气提起手动车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------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把车门打开，请乘客安全地下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------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将发电机熄火，确保车辆与乘客的安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做完了这三件事，他趴在方向盘上停止了呼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900000" y="907920"/>
            <a:ext cx="7632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07932" dir="13500000" blurRad="0" rotWithShape="0">
                    <a:srgbClr val="c7dfd3">
                      <a:alpha val="50000"/>
                    </a:srgbClr>
                  </a:outerShdw>
                </a:effectLst>
                <a:latin typeface="华文行楷"/>
              </a:rPr>
              <a:t>各抒己见</a:t>
            </a:r>
            <a:endParaRPr b="1" lang="en-US" sz="6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07932" dir="13500000" blurRad="0" rotWithShape="0">
                  <a:srgbClr val="c7dfd3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250920" y="404640"/>
            <a:ext cx="7273440" cy="6048000"/>
            <a:chOff x="250920" y="404640"/>
            <a:chExt cx="7273440" cy="6048000"/>
          </a:xfrm>
        </p:grpSpPr>
        <p:sp>
          <p:nvSpPr>
            <p:cNvPr id="53" name=""/>
            <p:cNvSpPr/>
            <p:nvPr/>
          </p:nvSpPr>
          <p:spPr>
            <a:xfrm>
              <a:off x="3036960" y="404640"/>
              <a:ext cx="4487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0033"/>
                  </a:solidFill>
                  <a:latin typeface="宋体"/>
                </a:rPr>
                <a:t>  </a:t>
              </a:r>
              <a:r>
                <a:rPr b="1" lang="zh-CN" sz="4000" spc="-1" strike="noStrike">
                  <a:solidFill>
                    <a:srgbClr val="660033"/>
                  </a:solidFill>
                  <a:latin typeface="宋体"/>
                </a:rPr>
                <a:t>在社会（集体）生活中，我们应该负起哪些责任呢</a:t>
              </a:r>
              <a:r>
                <a:rPr b="1" lang="zh-CN" sz="4000" spc="-1" strike="noStrike">
                  <a:solidFill>
                    <a:srgbClr val="660033"/>
                  </a:solidFill>
                  <a:latin typeface="宋体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250920" y="689040"/>
              <a:ext cx="2569320" cy="57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59280" y="1259640"/>
              <a:ext cx="224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思考一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 txBox="1"/>
          <p:nvPr/>
        </p:nvSpPr>
        <p:spPr>
          <a:xfrm rot="5400000">
            <a:off x="6348240" y="1363320"/>
            <a:ext cx="3141720" cy="93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lantUp">
              <a:avLst>
                <a:gd name="adj" fmla="val 3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（一）对社会（集体）负责</a:t>
            </a:r>
            <a:endParaRPr b="0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/>
          <p:nvPr/>
        </p:nvSpPr>
        <p:spPr>
          <a:xfrm>
            <a:off x="3146400" y="503856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835280" y="6022800"/>
            <a:ext cx="2160360" cy="835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00360" y="3156120"/>
            <a:ext cx="4824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观看　ＦＬＡＳ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 rot="5400000">
            <a:off x="6997320" y="1292400"/>
            <a:ext cx="3141720" cy="93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lantUp">
              <a:avLst>
                <a:gd name="adj" fmla="val 3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（一）对社会（集体）负责</a:t>
            </a:r>
            <a:endParaRPr b="0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"/>
          <p:cNvSpPr/>
          <p:nvPr/>
        </p:nvSpPr>
        <p:spPr>
          <a:xfrm>
            <a:off x="3146400" y="503856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35280" y="6022800"/>
            <a:ext cx="2160360" cy="835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71280"/>
            <a:ext cx="8101080" cy="5099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5280" y="5373720"/>
            <a:ext cx="8209080" cy="1399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服务社区我光荣　　　善事业齐参与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牢记历史使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19120" y="1647720"/>
            <a:ext cx="268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思考一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11280" y="1628640"/>
            <a:ext cx="6481800" cy="119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Comic Sans MS"/>
              </a:rPr>
              <a:t>也许有人觉得责任是大人的事，我们还小，不必承担什么责任！你认为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8360" y="2997360"/>
            <a:ext cx="4572000" cy="3500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393840" y="331920"/>
            <a:ext cx="4465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（二）对家庭负责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4869000"/>
            <a:ext cx="38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0920" y="3500280"/>
            <a:ext cx="6913800" cy="764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爱自己的家，爱身边的每一个人，少让家人担心，为家庭做一些力所能及的事，这是我们对家庭应尽的责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 rot="5400000">
            <a:off x="5436360" y="2124720"/>
            <a:ext cx="5832360" cy="1582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50000">
                      <a:srgbClr val="005cbf"/>
                    </a:gs>
                    <a:gs pos="100000">
                      <a:srgbClr val="03d4a8"/>
                    </a:gs>
                  </a:gsLst>
                  <a:lin ang="8100000"/>
                </a:gradFill>
                <a:latin typeface="黑体"/>
              </a:rPr>
              <a:t>感动中国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50000">
                      <a:srgbClr val="005cbf"/>
                    </a:gs>
                    <a:gs pos="100000">
                      <a:srgbClr val="03d4a8"/>
                    </a:gs>
                  </a:gsLst>
                  <a:lin ang="8100000"/>
                </a:gradFill>
                <a:latin typeface="黑体"/>
              </a:rPr>
              <a:t>2005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50000">
                      <a:srgbClr val="005cbf"/>
                    </a:gs>
                    <a:gs pos="100000">
                      <a:srgbClr val="03d4a8"/>
                    </a:gs>
                  </a:gsLst>
                  <a:lin ang="8100000"/>
                </a:gradFill>
                <a:latin typeface="黑体"/>
              </a:rPr>
              <a:t>年度人物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50000">
                    <a:srgbClr val="005cbf"/>
                  </a:gs>
                  <a:gs pos="100000">
                    <a:srgbClr val="03d4a8"/>
                  </a:gs>
                </a:gsLst>
                <a:lin ang="8100000"/>
              </a:gradFill>
              <a:latin typeface="黑体"/>
              <a:ea typeface="黑体"/>
            </a:endParaRPr>
          </a:p>
        </p:txBody>
      </p:sp>
      <p:sp>
        <p:nvSpPr>
          <p:cNvPr id="78" name=""/>
          <p:cNvSpPr txBox="1"/>
          <p:nvPr/>
        </p:nvSpPr>
        <p:spPr>
          <a:xfrm rot="5400000">
            <a:off x="5688720" y="2888280"/>
            <a:ext cx="287964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993300">
                    <a:alpha val="78000"/>
                  </a:srgbClr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楷体_GB2312"/>
              </a:rPr>
              <a:t>洪战辉</a:t>
            </a:r>
            <a:endParaRPr b="1" i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993300">
                  <a:alpha val="78000"/>
                </a:srgbClr>
              </a:soli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5616360" cy="558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-4819" t="0" r="0" b="57702"/>
          <a:stretch/>
        </p:blipFill>
        <p:spPr>
          <a:xfrm>
            <a:off x="3924360" y="0"/>
            <a:ext cx="5219640" cy="1268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2924280"/>
            <a:ext cx="2305080" cy="3933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203640" y="3933720"/>
            <a:ext cx="5724360" cy="2683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 rot="5400000">
            <a:off x="-815040" y="1426320"/>
            <a:ext cx="3141720" cy="57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</a:rPr>
              <a:t>（三）对自己负责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effectLst>
                <a:outerShdw dist="107932" dir="8100000" blurRad="0" rotWithShape="0">
                  <a:srgbClr val="868686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835280" y="1125360"/>
            <a:ext cx="71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美国的西点军校在全世界都很有名气，它不仅培养了优秀的军事人才，也培养了优秀的商业精英。有人分析了其办学经验，得出四个字——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不找借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，即无论遇到什么挫折，何种失败，都要学生挺直腰杆，承担责任，切不可寻找借口。它激发了一个人最大限度的潜能，堵住我们推卸责任的缺口，进一步明白我们应尽的责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224414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-4819" t="0" r="0" b="57702"/>
          <a:stretch/>
        </p:blipFill>
        <p:spPr>
          <a:xfrm>
            <a:off x="3924360" y="0"/>
            <a:ext cx="5219640" cy="1268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2924280"/>
            <a:ext cx="2305080" cy="3933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203640" y="3933720"/>
            <a:ext cx="5724360" cy="2683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 rot="5400000">
            <a:off x="-815040" y="1426320"/>
            <a:ext cx="3141720" cy="57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</a:rPr>
              <a:t>（三）对自己负责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effectLst>
                <a:outerShdw dist="107932" dir="8100000" blurRad="0" rotWithShape="0">
                  <a:srgbClr val="868686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79640" y="907920"/>
            <a:ext cx="69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92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年，有个年仅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岁的美国男孩踢足球时不慎打碎了邻居的玻璃，邻居向他索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2.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美元，在父亲的开导下，这男孩勇敢地承认了自己的错误，并借了父亲的钱赔给人家。接着，男孩用课余时间辛苦打工，直到挣足了钱还给父亲。这个男孩就是日后成为美国总统的里根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5084640"/>
            <a:ext cx="69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通过自己的劳动来承担过失，使我懂得做人得担当起责任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22441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06:11:4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20:27Z</dcterms:modified>
  <cp:revision>16</cp:revision>
  <dc:subject>主题班会课件(分28大类): http://shop62905894.taobao.com</dc:subject>
  <dc:title>主题班会课件(分28大类): http://shop62905894.taobao.com</dc:title>
</cp:coreProperties>
</file>