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061-9C60-4D9C-8B20-9002F9BA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32F-7BEF-4F92-BD76-4F206009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45B-EBF3-4FAA-8AF9-BB84E231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BF5-C525-4A00-8CDD-C6B57FD2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6869-8AF7-48DC-8838-17065A6F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5DA5-D6FF-4CA6-91DB-61ACBE9B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57BC-3A17-47B8-84E0-FE34B8C7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9788-2D3A-4F02-81C9-669E9727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4554-057F-41C0-BAB6-5D0BB531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CA04-91E3-4744-ACC0-FAC19014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E452-319C-4A58-A243-B99B96BB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3BD4-5AFE-472F-9815-F4C43465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E667-5BDC-4277-931F-0DC80F87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6A2F-8A45-4C4E-990C-FBA712B6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A02A-6F85-403A-AF20-7B98DDDD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EADD-8C56-4006-B5A8-04FFB372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60B2-9662-4138-90B1-E9345005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42683-1D11-4B9B-B09B-35FC6A34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064C0-29D1-4EA2-8B7E-535046F9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7C2B4-C1FE-4BC1-AE42-B4FD34DB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531A6-4646-40D5-B9DB-9448514E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95291-03E2-4CCA-A0C8-D5A97E2F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3AF9-AA22-4C47-9570-8DC32BDF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D7964-765F-4E61-9BD0-28557DA6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D1FE0-C33E-413B-AC30-455CC3AD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D80DF-ACEF-413F-B108-2D745168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A2482-58DF-4C42-96FB-250958E1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B347B-2AB7-4BAB-9C49-63FCA169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61063-5EB1-49DE-AADF-A314F482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329C9-5296-4EB8-ABB1-6E3B7809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910B4-4C44-48C4-8E69-06CEB627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DCD1B-9E81-4F43-AA90-E192898B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56DF9-7227-4D0F-9E01-208F1004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5460-E26F-4422-A0B0-E6ACECB8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DAB59-39EF-4EEE-BAA5-8A14E8A5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3693C-4B4E-4F4A-8A7D-8D982742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BDF3E-15CA-4D32-8E45-D0CE5E54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891F3-DDD3-41AF-8E83-FC96215B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1FC5B-85F7-4232-AF7E-0D106138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A2192-AE31-4138-9A11-13208604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FC939-0F63-4621-8025-6C9FD6E7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49061-F742-4AC4-BF5C-B45E1F78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2D2E9-6DD7-4855-8CCC-FE507A9F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BA1D-3CD1-4962-A4EF-448556D0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BBE8-25EB-4A55-A90D-17263FF7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C68F-3363-47E2-9B33-AFBB546F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1808-A653-4619-B2A6-10D37051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DE6E-8C83-4D34-83BE-18DFE6BB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2816-944D-4A32-AAC5-CB8F4F02C6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51B2-A587-4B2A-8615-78B743D1B39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29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31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36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2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46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50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54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4375-FDB7-4E10-8FE4-17750107045E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BE05-D690-47AD-A363-F4433AC03B3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20051012102459805"/>
          <p:cNvPicPr/>
          <p:nvPr/>
        </p:nvPicPr>
        <p:blipFill>
          <a:blip r:embed="rId1"/>
          <a:stretch/>
        </p:blipFill>
        <p:spPr>
          <a:xfrm>
            <a:off x="-324000" y="-15840"/>
            <a:ext cx="10944360" cy="6897600"/>
          </a:xfrm>
          <a:prstGeom prst="rect">
            <a:avLst/>
          </a:prstGeom>
          <a:ln w="0">
            <a:noFill/>
          </a:ln>
        </p:spPr>
      </p:pic>
      <p:sp>
        <p:nvSpPr>
          <p:cNvPr id="256" name="WordArt 5"/>
          <p:cNvSpPr txBox="1"/>
          <p:nvPr/>
        </p:nvSpPr>
        <p:spPr>
          <a:xfrm rot="21269400">
            <a:off x="0" y="259920"/>
            <a:ext cx="3348000" cy="139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030000"/>
                </a:gradFill>
                <a:latin typeface="宋体"/>
              </a:rPr>
              <a:t>神七飞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030000"/>
              </a:gradFill>
              <a:latin typeface="宋体"/>
              <a:ea typeface="宋体"/>
            </a:endParaRPr>
          </a:p>
        </p:txBody>
      </p:sp>
      <p:sp>
        <p:nvSpPr>
          <p:cNvPr id="25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4"/>
          <p:cNvSpPr/>
          <p:nvPr/>
        </p:nvSpPr>
        <p:spPr>
          <a:xfrm>
            <a:off x="179280" y="1413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隶书"/>
                <a:ea typeface="隶书"/>
              </a:rPr>
              <a:t>    </a:t>
            </a:r>
            <a:r>
              <a:rPr b="1" lang="zh-CN" sz="7200" spc="-1" strike="noStrike">
                <a:solidFill>
                  <a:srgbClr val="ff0066"/>
                </a:solidFill>
                <a:latin typeface="隶书"/>
                <a:ea typeface="隶书"/>
              </a:rPr>
              <a:t>一个人做事，要先做自己应该要做的事，再做自己喜欢做的事。这就是责任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179280" y="404640"/>
            <a:ext cx="43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6600"/>
                </a:solidFill>
                <a:latin typeface="Arial"/>
              </a:rPr>
              <a:t>心灵寄语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图片19"/>
          <p:cNvPicPr/>
          <p:nvPr/>
        </p:nvPicPr>
        <p:blipFill>
          <a:blip r:embed="rId1"/>
          <a:stretch/>
        </p:blipFill>
        <p:spPr>
          <a:xfrm>
            <a:off x="0" y="-2116080"/>
            <a:ext cx="9144000" cy="89740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95280" y="189000"/>
            <a:ext cx="9793440" cy="78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99"/>
                </a:solidFill>
                <a:latin typeface="隶书"/>
                <a:ea typeface="隶书"/>
              </a:rPr>
              <a:t>对集体负责</a:t>
            </a:r>
            <a:r>
              <a:rPr b="1" lang="en-US" sz="8800" spc="-1" strike="noStrike">
                <a:solidFill>
                  <a:srgbClr val="333399"/>
                </a:solidFill>
                <a:latin typeface="隶书"/>
                <a:ea typeface="隶书"/>
              </a:rPr>
              <a:t>---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99"/>
                </a:solidFill>
                <a:latin typeface="隶书"/>
                <a:ea typeface="隶书"/>
              </a:rPr>
              <a:t>爱学校、爱班集体、为集体增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99"/>
                </a:solidFill>
                <a:latin typeface="隶书"/>
                <a:ea typeface="隶书"/>
              </a:rPr>
              <a:t>荣誉和力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buClr>
                <a:srgbClr val="333399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FR2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5"/>
          <p:cNvSpPr/>
          <p:nvPr/>
        </p:nvSpPr>
        <p:spPr>
          <a:xfrm>
            <a:off x="2344680" y="836640"/>
            <a:ext cx="429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楷体"/>
              </a:rPr>
              <a:t>  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楷体"/>
              </a:rPr>
              <a:t>说一说：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楷体"/>
              </a:rPr>
              <a:t>我校学生有哪些行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楷体"/>
              </a:rPr>
              <a:t>是不爱护学校、缺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楷体"/>
              </a:rPr>
              <a:t>责任心的行为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WordArt 6" descr=""/>
          <p:cNvPicPr/>
          <p:nvPr/>
        </p:nvPicPr>
        <p:blipFill>
          <a:blip r:embed="rId2"/>
          <a:stretch/>
        </p:blipFill>
        <p:spPr>
          <a:xfrm>
            <a:off x="3090960" y="4363920"/>
            <a:ext cx="35719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" descr="白云01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5"/>
          <p:cNvSpPr/>
          <p:nvPr/>
        </p:nvSpPr>
        <p:spPr>
          <a:xfrm>
            <a:off x="3443760" y="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华文隶书"/>
              </a:rPr>
              <a:t>我爱我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685680" y="1916280"/>
            <a:ext cx="1312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赞一赞我们班的责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榜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1987560" y="1844640"/>
            <a:ext cx="5000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自问：在这个班我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要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324000" y="2133720"/>
            <a:ext cx="860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自我剖析：我是否有过对班集体不负责任的行为？今后怎样做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2154240" y="2060640"/>
            <a:ext cx="520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校运会到了，你准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怎样为班集体作贡献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395280" y="2060640"/>
            <a:ext cx="860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我们班还存在哪些缺乏责任心的现象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4"/>
          <p:cNvSpPr/>
          <p:nvPr/>
        </p:nvSpPr>
        <p:spPr>
          <a:xfrm>
            <a:off x="2127240" y="620640"/>
            <a:ext cx="395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老师布置的作业，你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主动完成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拖欠作业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抄袭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1570320" y="1484280"/>
            <a:ext cx="441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违反纪律或破坏公物后，你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主动找老师认错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想方设法隐瞒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屡教不改，并埋怨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3286440" y="2997360"/>
            <a:ext cx="265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看到不良现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如学生打架、考试作弊 、乱扔垃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你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上前制止或告诉老师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若无其事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做老好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2755080" y="436572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作为四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班的一员，对于班级活动，你会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以主人翁精神参加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认为无所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找借口不参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8"/>
          <p:cNvSpPr txBox="1"/>
          <p:nvPr/>
        </p:nvSpPr>
        <p:spPr>
          <a:xfrm rot="21391800">
            <a:off x="395280" y="0"/>
            <a:ext cx="230508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79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舒体"/>
              </a:rPr>
              <a:t>照镜子</a:t>
            </a:r>
            <a:endParaRPr b="1" i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79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324000" y="57340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假如你受到挫折或受委屈时，你会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选择自杀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离家出走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处我调节情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259" name="WordArt 7" descr=""/>
          <p:cNvPicPr/>
          <p:nvPr/>
        </p:nvPicPr>
        <p:blipFill>
          <a:blip r:embed="rId2"/>
          <a:stretch/>
        </p:blipFill>
        <p:spPr>
          <a:xfrm>
            <a:off x="895320" y="55440"/>
            <a:ext cx="7608960" cy="31212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4"/>
          <p:cNvSpPr txBox="1"/>
          <p:nvPr/>
        </p:nvSpPr>
        <p:spPr>
          <a:xfrm>
            <a:off x="2916360" y="549360"/>
            <a:ext cx="338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楷体"/>
              </a:rPr>
              <a:t>记者采访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21000" y="1844640"/>
            <a:ext cx="7422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66"/>
                </a:solidFill>
                <a:latin typeface="Arial"/>
                <a:ea typeface="隶书"/>
              </a:rPr>
              <a:t>       </a:t>
            </a:r>
            <a:r>
              <a:rPr b="0" lang="zh-CN" sz="6600" spc="-1" strike="noStrike">
                <a:solidFill>
                  <a:srgbClr val="000066"/>
                </a:solidFill>
                <a:latin typeface="Arial"/>
                <a:ea typeface="隶书"/>
              </a:rPr>
              <a:t>老师眼中有责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66"/>
                </a:solidFill>
                <a:latin typeface="Arial"/>
                <a:ea typeface="隶书"/>
              </a:rPr>
              <a:t>心的学生是怎么样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66"/>
                </a:solidFill>
                <a:latin typeface="Arial"/>
                <a:ea typeface="隶书"/>
              </a:rPr>
              <a:t>呢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图片3"/>
          <p:cNvPicPr/>
          <p:nvPr/>
        </p:nvPicPr>
        <p:blipFill>
          <a:blip r:embed="rId1"/>
          <a:stretch/>
        </p:blipFill>
        <p:spPr>
          <a:xfrm>
            <a:off x="5076720" y="3716280"/>
            <a:ext cx="196560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矩形 1" descr=""/>
          <p:cNvPicPr/>
          <p:nvPr/>
        </p:nvPicPr>
        <p:blipFill>
          <a:blip r:embed="rId1"/>
          <a:stretch/>
        </p:blipFill>
        <p:spPr>
          <a:xfrm>
            <a:off x="523800" y="212760"/>
            <a:ext cx="7797960" cy="52974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对自己负责：</a:t>
            </a:r>
            <a:r>
              <a:rPr b="1" lang="zh-CN" sz="4000" spc="-1" strike="noStrike">
                <a:solidFill>
                  <a:srgbClr val="000066"/>
                </a:solidFill>
                <a:latin typeface="Comic Sans MS"/>
              </a:rPr>
              <a:t>努力学习，塑造自我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对他人负责：</a:t>
            </a:r>
            <a:r>
              <a:rPr b="1" lang="zh-CN" sz="4000" spc="-1" strike="noStrike">
                <a:solidFill>
                  <a:srgbClr val="000066"/>
                </a:solidFill>
                <a:latin typeface="Comic Sans MS"/>
              </a:rPr>
              <a:t>关心爱护和帮助他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对集体负责：</a:t>
            </a:r>
            <a:r>
              <a:rPr b="1" lang="zh-CN" sz="4000" spc="-1" strike="noStrike">
                <a:solidFill>
                  <a:srgbClr val="000066"/>
                </a:solidFill>
                <a:latin typeface="Comic Sans MS"/>
              </a:rPr>
              <a:t>为集体增添荣誉和力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对社会负责：</a:t>
            </a:r>
            <a:r>
              <a:rPr b="1" lang="zh-CN" sz="4000" spc="-1" strike="noStrike">
                <a:solidFill>
                  <a:srgbClr val="000066"/>
                </a:solidFill>
                <a:latin typeface="Comic Sans MS"/>
              </a:rPr>
              <a:t>以良好行为创造美好的社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WordArt 5"/>
          <p:cNvSpPr txBox="1"/>
          <p:nvPr/>
        </p:nvSpPr>
        <p:spPr>
          <a:xfrm>
            <a:off x="2916360" y="189000"/>
            <a:ext cx="36716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我们的责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5"/>
          <p:cNvSpPr/>
          <p:nvPr/>
        </p:nvSpPr>
        <p:spPr>
          <a:xfrm>
            <a:off x="1258920" y="620640"/>
            <a:ext cx="8246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99"/>
                </a:solidFill>
                <a:latin typeface="隶书"/>
                <a:ea typeface="隶书"/>
              </a:rPr>
              <a:t>对自己负责</a:t>
            </a:r>
            <a:r>
              <a:rPr b="1" lang="en-US" sz="8800" spc="-1" strike="noStrike">
                <a:solidFill>
                  <a:srgbClr val="333399"/>
                </a:solidFill>
                <a:latin typeface="隶书"/>
                <a:ea typeface="隶书"/>
              </a:rPr>
              <a:t>---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隶书"/>
                <a:ea typeface="隶书"/>
              </a:rPr>
              <a:t>自己的事自己做，爱生命、爱学习、懂自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2"/>
          <p:cNvSpPr txBox="1"/>
          <p:nvPr/>
        </p:nvSpPr>
        <p:spPr>
          <a:xfrm>
            <a:off x="826920" y="476280"/>
            <a:ext cx="259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动一动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11280" y="1700280"/>
            <a:ext cx="7869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　　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自查课桌物品整理整洁情况，给自己打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　　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花</a:t>
            </a: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分钟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整理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课桌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物品，清洁课桌周围纸屑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20051019132526812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求学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2411280" y="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珍惜我们的学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4"/>
          <p:cNvSpPr/>
          <p:nvPr/>
        </p:nvSpPr>
        <p:spPr>
          <a:xfrm>
            <a:off x="324000" y="2637000"/>
            <a:ext cx="81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、有的同学学习凭兴趣，喜欢这门课，就多花点时间看看，不喜欢那门课，就放弃；喜欢这个老师讲课，就有兴趣学好这门课，不喜欢那个老师讲课，就不听他讲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这种态度对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WordArt 10"/>
          <p:cNvSpPr txBox="1"/>
          <p:nvPr/>
        </p:nvSpPr>
        <p:spPr>
          <a:xfrm rot="273600">
            <a:off x="250560" y="333000"/>
            <a:ext cx="26636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24000"/>
                </a:gradFill>
                <a:latin typeface="隶书"/>
              </a:rPr>
              <a:t>说一说、想一想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24000"/>
              </a:gradFill>
              <a:latin typeface="隶书"/>
              <a:ea typeface="隶书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3386160" y="1413000"/>
            <a:ext cx="180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、我们班有哪些对学习不负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任的现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23:06Z</dcterms:modified>
  <cp:revision>25</cp:revision>
  <dc:subject>主题班会课件(分28大类): http://shop62905894.taobao.com</dc:subject>
  <dc:title>主题班会课件(分28大类): http://shop62905894.taobao.com</dc:title>
</cp:coreProperties>
</file>