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25C-206F-4A88-B88A-08850133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833-9F2A-432E-97D3-806F0B7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44F-3917-422E-A70B-79D87493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1C84-57AF-41E7-BFEF-86CDC086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ABD7-F476-45F1-9AF4-EE76FE2F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1EE-C21C-4DD9-B141-0744EFA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690-71EE-4019-9871-637394A2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75B5-8215-4F06-8C1A-A6210B5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48E-C3C0-457C-A0D8-D0EB9A4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5AA6-1DA1-4888-926F-285D6ACA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960-4154-4A8C-B31D-27096C3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8C6-16C5-4737-86CA-65D6F26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9421-BE9F-43EF-BB1A-F89B7BB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BE0-A0B7-4F0B-8B92-0A88FF9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E485-D976-48B4-9615-124D7C7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2C4E-8DF2-4A7D-A8A2-CF8C04A3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8826-D613-4CED-BDD3-BAC8B3E4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9F2-F28C-4DF7-8559-5F61F974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9B1-7C9E-46D8-BAF5-E3BF8CC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1BB-8EDE-436D-ADAF-FD3F8A1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732-CAA3-4D7A-8872-EB8FE88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0F3-E331-4293-90F0-FF1B81D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0B1-FCF9-4313-9B9A-633DC51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462-4DC1-4352-985E-AD2B0869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43A-CA8B-431E-8467-CE56184D830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395-E522-4370-B5C4-7DE1315BE77A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00000" y="836640"/>
            <a:ext cx="82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ff"/>
                </a:solidFill>
                <a:latin typeface="A.C.M.E. Explosive"/>
                <a:ea typeface="隶书"/>
              </a:rPr>
              <a:t>做个有责任感的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-</a:t>
            </a:r>
            <a:r>
              <a:rPr b="1" lang="zh-CN" sz="6000" spc="-1" strike="noStrike">
                <a:solidFill>
                  <a:srgbClr val="ffffff"/>
                </a:solidFill>
                <a:latin typeface="A.C.M.E. Explosive"/>
                <a:ea typeface="隶书"/>
              </a:rPr>
              <a:t>赢在起跑线上</a:t>
            </a:r>
            <a:r>
              <a:rPr b="1" lang="zh-CN" sz="6600" spc="-1" strike="noStrike">
                <a:solidFill>
                  <a:srgbClr val="ccffff"/>
                </a:solidFill>
                <a:latin typeface="A.C.M.E. Explosive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189000"/>
            <a:ext cx="8820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1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有责任感吗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2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的责任感体现在哪里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QUESTION  3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做得还不够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例如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应该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/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可以怎么做得更好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280" y="40464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字典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—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1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分内该做的事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2)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没有做好分内的事而应当承担的过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此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两个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另一方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 u="sng">
                <a:solidFill>
                  <a:srgbClr val="66ffff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549360"/>
            <a:ext cx="820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—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责任心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自觉做好分内事情的心理状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就是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有做的动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做的行为都是由你这个主体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华文行楷"/>
                <a:ea typeface="华文行楷"/>
              </a:rPr>
              <a:t>由心而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的去施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没有人可以强迫你去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只有心中有责任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才有可能达到预期的效果甚至超过预期的估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获得更好的结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0920" y="260280"/>
            <a:ext cx="8424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看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责任感不仅表现在对自己的学业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要兢兢业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一丝不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还表现在对校园生活和班级生活方面的态度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可能大家还觉得自己是个小孩子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但要告诉大家的是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很可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老师和学校已经开始用一个小大人的标准来要求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18900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或者在心里已经认为自己是一个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大人却没法表现在行为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所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去的两个星期时间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觉得大家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得还很不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作业本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了很多潦草的笔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劳动时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很少看见埋头苦干的身影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自习课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越来越多的嘈杂声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60280"/>
            <a:ext cx="84978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列队集队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到的最多的是懒散的脚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班干发出号召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听见最多的是埋怨与不屑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等等等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当这个时候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总是想质问你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有没有想过我们是一个班级体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自从踏入一中的校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33336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就是一家人了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等待我们的不仅是甘甜和硕果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苦涩和失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不能 “心往一处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劲往一处使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这漫长的三年度过得将会孤单和艰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;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反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如果我们个个都以班为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承担起各自的一份责任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敢保证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高中的三年将会是你最难忘的时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收获的不仅是名牌高校的录取通知书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是一辈子的朋友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永久的珍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9640" y="333360"/>
            <a:ext cx="7993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当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看在眼里的不仅是大家的不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也有很多同学用他们的行动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他们的心在体现着责任感的意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这里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记下了他们的名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罗滢怡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陈晓鹏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林本达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周桔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何裕滢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伍嘉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刘欣等等等等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曾经想过在班级设立一个奖项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叫 “ 感动高一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奖”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用来奖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189000"/>
            <a:ext cx="842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那些无怨无悔为班级为大家同时又在学业上突出的学生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后来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打消了这个念头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因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在我的心中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有一个梦想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希望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	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S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班的每一个人都是最感动奖的获得人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每一个人都能实在无私的奉献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不仅将你们的青春献给学业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更将它献给我们的班级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从而使得每一个人都能从中受益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而这所有得一切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都必须依靠大家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你们愿意帮我实现这个梦想吗</a:t>
            </a:r>
            <a:r>
              <a:rPr b="1" lang="zh-CN" sz="4000" spc="-1" strike="noStrike">
                <a:solidFill>
                  <a:srgbClr val="66ffff"/>
                </a:solidFill>
                <a:latin typeface="华文行楷"/>
                <a:ea typeface="华文行楷"/>
              </a:rPr>
              <a:t>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6:56:5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9:04Z</dcterms:modified>
  <cp:revision>6</cp:revision>
  <dc:subject>主题班会课件(分28大类): http://shop62905894.taobao.com</dc:subject>
  <dc:title>主题班会课件(分28大类): http://shop62905894.taobao.com</dc:title>
</cp:coreProperties>
</file>