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1.wmf" ContentType="image/x-wmf"/>
  <Override PartName="/ppt/media/image1.jpeg" ContentType="image/jpeg"/>
  <Override PartName="/ppt/media/image19.png" ContentType="image/png"/>
  <Override PartName="/ppt/media/image3.jpeg" ContentType="image/jpeg"/>
  <Override PartName="/ppt/media/image17.wmf" ContentType="image/x-wmf"/>
  <Override PartName="/ppt/media/image15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4.jpeg" ContentType="image/jpeg"/>
  <Override PartName="/ppt/media/image20.wmf" ContentType="image/x-wmf"/>
  <Override PartName="/ppt/media/image5.jpeg" ContentType="image/jpeg"/>
  <Override PartName="/ppt/media/image6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259E-1571-4403-8A65-554FA2961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8EE2-BF61-4AD5-82F8-D17AD4E9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F0ED-7BA9-4A19-A9D6-165DCF371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2C1F-FE63-443B-B685-3C04843A3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0F2A-5C55-4E93-A109-9CA1819D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4EE9-FE13-4E5E-96E9-C52E8088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D846-AFB2-48A6-BFFF-680EDECD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152F-8B35-4EE9-8D0F-8061786F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4C1F-D5F1-4153-95E7-038F3C48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692B-68E1-42E3-A67D-463D00EB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8E56-2E2C-48CF-B76B-72FDACD3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4CDB-76EB-42E8-9F0B-15825C7B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E124-A2D8-40FF-A2C6-0B75C323BF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zxss.ynet.com/image.jsp?oid=4207438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hoenixtv.com/home/zhuanti/zongyi/jinghuaqu/tietuqu/images/tietuqu222602_l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hoenixtv.com/home/zhuanti/zongyi/jinghuaqu/tietuqu/images/tietuqu222603_l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hoenixtv.com/home/zhuanti/zongyi/jinghuaqu/tietuqu/images/tietuqu222610_l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http://www.uofcanada.com/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0" r="0" b="295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523880" y="3429000"/>
            <a:ext cx="64008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文明从我做起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62120" y="685800"/>
            <a:ext cx="7467480" cy="2971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99192" dir="2381944" blurRad="0" rotWithShape="0">
                    <a:srgbClr val="009999"/>
                  </a:outerShdw>
                </a:effectLst>
                <a:latin typeface="宋体"/>
              </a:rPr>
              <a:t>高一（</a:t>
            </a: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99192" dir="2381944" blurRad="0" rotWithShape="0">
                    <a:srgbClr val="009999"/>
                  </a:outerShdw>
                </a:effectLst>
                <a:latin typeface="宋体"/>
              </a:rPr>
              <a:t>18</a:t>
            </a:r>
            <a:r>
              <a:rPr b="0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99192" dir="2381944" blurRad="0" rotWithShape="0">
                    <a:srgbClr val="009999"/>
                  </a:outerShdw>
                </a:effectLst>
                <a:latin typeface="宋体"/>
              </a:rPr>
              <a:t>）班主题班会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99192" dir="2381944" blurRad="0" rotWithShape="0">
                  <a:srgbClr val="0099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国的政治学家房宁教授曾经在日本亲历了一次堵车事件，那种情景足以让全世界的人都感到震撼：从伊豆半岛到东京的公路上，几万辆车一辆挨一辆排了一百多公里。那个时段几乎所有的车都是回东京的，道路右侧堵成一条长龙，左侧则空出一条“无车道”，谁要是开到左侧，可以一溜烟直奔东京。可就是没有一辆车插到空荡荡的“无车道”超行，一百多公里的塞车路上，不见一名交通警察维持秩序。在近十个小时的时间里，车流一步一步地向前挪，一尺一尺地往前挪，静悄悄，听不到一声鸣笛。房宁教授不禁感叹：“他们自己竟把这绵延一百多公里的车龙化解了！如此坚忍、守秩序、万众一心的民族，真是可敬又可怕！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-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cc"/>
                </a:solidFill>
                <a:latin typeface="Arial"/>
              </a:rPr>
              <a:t>告别陋习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cc"/>
                </a:solidFill>
                <a:latin typeface="Arial"/>
              </a:rPr>
              <a:t>走向文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791320" y="3505320"/>
            <a:ext cx="300024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38080" y="266688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9933ff"/>
                </a:solidFill>
                <a:latin typeface="Times New Roman"/>
                <a:ea typeface="黑体"/>
              </a:rPr>
              <a:t>中学生行为规范中礼貌用语有哪十个字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4724280"/>
            <a:ext cx="74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9933ff"/>
                </a:solidFill>
                <a:latin typeface="Times New Roman"/>
                <a:ea typeface="华文新魏"/>
              </a:rPr>
              <a:t>答案：您好！谢谢！请！对不起！再见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838080" y="380880"/>
            <a:ext cx="7162920" cy="1676520"/>
            <a:chOff x="838080" y="380880"/>
            <a:chExt cx="7162920" cy="16765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838080" y="380880"/>
              <a:ext cx="1676520" cy="16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 txBox="1"/>
            <p:nvPr/>
          </p:nvSpPr>
          <p:spPr>
            <a:xfrm>
              <a:off x="3048120" y="533520"/>
              <a:ext cx="4952880" cy="1523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10319"/>
                  <a:gd name="adj2" fmla="val -23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宋体"/>
                </a:rPr>
                <a:t>考考你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1600200"/>
            <a:ext cx="8215200" cy="45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）接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学、朋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时：</a:t>
            </a:r>
            <a:r>
              <a:rPr b="1" lang="zh-CN" sz="2800" spc="-1" strike="noStrike">
                <a:solidFill>
                  <a:srgbClr val="cc66ff"/>
                </a:solidFill>
                <a:latin typeface="Times New Roman"/>
                <a:ea typeface="_x000b__x000c_"/>
              </a:rPr>
              <a:t>“您早”、“您好”、        “欢迎光临”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）得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学、朋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配合、支持时：</a:t>
            </a:r>
            <a:r>
              <a:rPr b="1" lang="zh-CN" sz="2800" spc="-1" strike="noStrike">
                <a:solidFill>
                  <a:srgbClr val="ff99ff"/>
                </a:solidFill>
                <a:latin typeface="Times New Roman"/>
                <a:ea typeface="_x000b__x000c_"/>
              </a:rPr>
              <a:t>“谢谢”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）请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学、朋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配合时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_x000b__x000c_"/>
              </a:rPr>
              <a:t>：“请您……”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）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学、朋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表示歉意，请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学、朋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谅解时：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_x000b__x000c_"/>
              </a:rPr>
              <a:t>“对不起”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学、朋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向自己表示歉意或谢意时：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  <a:ea typeface="_x000b__x000c_"/>
              </a:rPr>
              <a:t>      “ 没关系”、“别客气”、“不用谢”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）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学、朋友、家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道别时：</a:t>
            </a:r>
            <a:r>
              <a:rPr b="1" lang="zh-CN" sz="2800" spc="-1" strike="noStrike">
                <a:solidFill>
                  <a:srgbClr val="ff7c80"/>
                </a:solidFill>
                <a:latin typeface="Times New Roman"/>
                <a:ea typeface="_x000b__x000c_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808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660066"/>
                </a:solidFill>
                <a:latin typeface="Times New Roman"/>
                <a:ea typeface="隶书"/>
              </a:rPr>
              <a:t>常用的文明语言与使用的场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52280" y="5867280"/>
            <a:ext cx="8610840" cy="838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767120" y="1603440"/>
            <a:ext cx="26132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2060640"/>
            <a:ext cx="19429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23120" y="2467080"/>
            <a:ext cx="2612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35640" y="2900520"/>
            <a:ext cx="2612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92360" y="3763800"/>
            <a:ext cx="2612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4627440"/>
            <a:ext cx="51847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1280" y="5492880"/>
            <a:ext cx="2612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52680" y="3809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不好意思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867280" y="50292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7c8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7c80"/>
                </a:solidFill>
                <a:latin typeface="Arial"/>
              </a:rPr>
              <a:t>再见”、“您走好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0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6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2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5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6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常用文明礼貌用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38960" y="2133720"/>
            <a:ext cx="19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表示答谢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32360" y="2133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谢谢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04240" y="270972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表示礼让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77720" y="2637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您先请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04240" y="335772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接受感谢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09920" y="32860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这是我应该做的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04240" y="400536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助人为乐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28280" y="3933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我能帮您做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82800" y="472608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征求意见时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76360" y="4726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请指教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75520" y="551808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表示慰问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74840" y="54450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给您添麻烦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38600" y="1484280"/>
            <a:ext cx="205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途先走时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00760" y="1413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失陪了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中学生校园文明礼仪规范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79960" y="914400"/>
            <a:ext cx="9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言语要文明，见面问声好。友善共相处热情礼相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68480" y="1628640"/>
            <a:ext cx="51717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　　“请”、“你好”、“对不起”、“谢谢”等文明用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应常挂嘴边，不说污言秽语，不给别人起不文明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绰号。文明礼貌的言语往往能拉近人与人的距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缓和矛盾，增进团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　　走在楼梯、校道上，遇到自己的同学、老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等都应主动问声好，让一声问候温暖彼此的心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　　对同学、老师、父母、亲人态度要友善、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诚、守时守信，不弄虚作假；对来宾、客人热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相待，回答询问大方得体、知无不言、不卑不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中学生校园礼仪规范２、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75080" y="476280"/>
            <a:ext cx="29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２、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衣着应端庄，仪态要规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1520" y="1341360"/>
            <a:ext cx="4874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　　作为学生，应该有学生的衣着、仪表。不穿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装异服，不袒露躯体，束好皮带，不穿拖鞋，不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首饰，不化妆，不纹身，不剃光头或留古怪发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男同学不留长发，女同学不披头散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89680" y="364500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３、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领物取物，主动排队，相互礼让，井然有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26520" y="4724280"/>
            <a:ext cx="494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　　领取物品，饭堂打饭，水房打水，应主动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队，不插队，不推撞，不起哄，相互礼让，井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有序才能提高效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中学生校园礼仪规范４、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43240" y="33336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４、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他人宿舍，非请莫进；他人财物，未准莫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105264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别班的课室、宿舍、老师的办公室乃至器材仪器室、实验室等地，需进入时应先征得老师同意；当这些场所没有人时，非特殊批准，不要进入。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这是对他人的尊重，也是一种自我保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他人的财物、日记、作文等，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应尊重他人的权益和隐私，不随意拿用，翻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31360" y="386064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５、走道楼梯，人来人往，你谦我让，主动留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89440" y="4508640"/>
            <a:ext cx="1217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校道、走廊、楼梯是公共通道，要相互谦让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动留道给他人通过，不在这些通道上聚集、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闹，也不将自行车车停放在校道、走廊或运动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域上，以免影响他人通行和运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-153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中学生校园礼仪规范６、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77640" y="40464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６、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弱小贫困，帮扶资助；残疾病患，文明相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6040" y="1197000"/>
            <a:ext cx="1054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对于有困难，需要帮助的同学、老师，应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给予帮助，对于身体有缺陷、有疾病的同学和老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文明相待，给予关心，而不应讽刺、讥笑、捉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或恶意模仿，做出不文明的举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66480" y="328464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７、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桌面墙面，莫乱涂画；垃圾杂物，弃置有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41560" y="4076640"/>
            <a:ext cx="4874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桌面、墙面、黑板、衣服或学校、班、级的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贴物，各有各的用途，不应在上面乱涂乱画，垃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杂物，脏水污物应扔在垃圾筐、垃圾筒、垃圾篓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倒在剩饭菜筒里，而不应随意丢弃、将残羹剩饭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在饭桌上或倒在地上，污染校园环境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中学生校园礼仪规范８、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51400" y="260280"/>
            <a:ext cx="354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８、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进出校门，主动下车，微笑致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31120" y="907920"/>
            <a:ext cx="5158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进出校门、宿舍大门时，骑自行车的同学应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动下车推行，并出示或在显眼位置佩带校牌。不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值日的同学、老师，还是生活导师、保安人员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点头微笑致意，主动接受检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66480" y="292428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９、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上课考试，休息时间，尊重他人，保持安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3500280"/>
            <a:ext cx="838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上课考试时，不在校园内喧哗、吵闹，更不该在课室附近聚集、玩闹，或在正在上课、考试的课室门口、窗前向内观望、召唤、言谈吵闹，影响老师和同学的上课或考试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午休、晚休，应按时就寝，不在宿舍和宿舍内玩耍、吵闹，或发出惊扰他人的声响。迟归的同学，应轻手轻脚，避免扰人清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31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-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cc"/>
                </a:solidFill>
                <a:latin typeface="Arial"/>
              </a:rPr>
              <a:t>告别陋习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cc"/>
                </a:solidFill>
                <a:latin typeface="Arial"/>
              </a:rPr>
              <a:t>走向文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791320" y="3505320"/>
            <a:ext cx="3000240" cy="2973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中学生校园礼仪规范１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79880" y="54936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１０、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升旗仪式，庄严肃穆，着装整齐，端正严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57680" y="1557360"/>
            <a:ext cx="1593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参加升旗仪式，是爱国主义的一项重要体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仪式上，应统一穿着校服，态度要严谨，站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端正，安静，整齐，精神饱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活中的奇迹，很多时候就发生在你不经意的一言一行之间，一句亲切的话语，一个友善的眼神，一个热心的帮助，都能让人感受你的爱和真诚，也为你开启了的成功的大门。这就是细节的魅力。一位管理大师说过：“现在的世界竞争，就是细节的竞争。细节影响品质，细节体现品位，细节显示差异，细节展现素养，细节决定成败。”灿烂星河是无数星星汇聚而成，丰功伟业也是由琐小事情积累，所以，一定要从小事做起，时刻提醒自己：“勿以善小而不为，勿以恶小而为之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7848720" y="6019920"/>
            <a:ext cx="761760" cy="533160"/>
          </a:xfrm>
          <a:custGeom>
            <a:avLst/>
            <a:gdLst>
              <a:gd name="textAreaLeft" fmla="*/ 34560 w 761760"/>
              <a:gd name="textAreaRight" fmla="*/ 727200 w 7617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9455" y="1400"/>
                </a:lnTo>
                <a:lnTo>
                  <a:pt x="1400" y="1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9455" y="20200"/>
                </a:lnTo>
                <a:lnTo>
                  <a:pt x="29455" y="1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55" y="20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55" h="21600">
                <a:moveTo>
                  <a:pt x="8421" y="3794"/>
                </a:moveTo>
                <a:lnTo>
                  <a:pt x="22434" y="10800"/>
                </a:lnTo>
                <a:lnTo>
                  <a:pt x="842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560" y="106668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信每位同学都渴望拥有一个成功的人生，都希望明天会更好，那么就请你记住：万丈高楼平地起！从小事做起，把细节做好，做人、做事、做学问都脚踏实地，诚诚恳恳，这优秀的习惯将是你打开成功之门的金钥匙。坚持不懈，有那么一天，你会梦想成真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229600" y="5867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1295280" y="4724280"/>
            <a:ext cx="5658120" cy="163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汉仪魏碑简"/>
              </a:rPr>
              <a:t>告别陋习，走向文明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汉仪魏碑简"/>
              <a:ea typeface="汉仪魏碑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28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30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0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1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462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5" dur="320782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0" y="214200"/>
          <a:ext cx="9240840" cy="655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4200"/>
                    <a:ext cx="9240840" cy="65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8763120" y="65530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9988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8143" y="3794"/>
                </a:lnTo>
                <a:lnTo>
                  <a:pt x="8143" y="17806"/>
                </a:lnTo>
                <a:lnTo>
                  <a:pt x="64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到目前为止唯一没有扣分的宿舍：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30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41120" y="1622520"/>
          <a:ext cx="9002880" cy="492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" y="1622520"/>
                    <a:ext cx="9002880" cy="49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1600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陋 习 集 中 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114800" y="3429000"/>
            <a:ext cx="243828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877080" y="0"/>
            <a:ext cx="2266920" cy="3241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3809880"/>
            <a:ext cx="4114800" cy="3048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352680" cy="2644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6477120" y="3505320"/>
            <a:ext cx="2666880" cy="3352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3276720" y="0"/>
            <a:ext cx="3581280" cy="25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380880"/>
            <a:ext cx="4227480" cy="6115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800600" y="1295280"/>
            <a:ext cx="3886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想说…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9" name=""/>
          <p:cNvSpPr/>
          <p:nvPr/>
        </p:nvSpPr>
        <p:spPr>
          <a:xfrm rot="21426600">
            <a:off x="4775760" y="35812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谈谈同学身边有哪些不文明的现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438280" y="5486400"/>
            <a:ext cx="6019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GungsuhChe"/>
              </a:rPr>
              <a:t>speaking time~!!!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GungsuhChe"/>
              <a:ea typeface="GungsuhCh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0"/>
            <a:ext cx="8153640" cy="52578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0880" y="548496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在巴黎，公共场合有中文的地方并不多，但去过巴黎圣母院的中国人都会看到这句中文告示，据说，这是专门示意给咱们在公众场合爱“热闹”的中国人看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5486400" y="304920"/>
            <a:ext cx="3657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是美国珍珠港，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告的主标题是“垃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桶在此”，美国人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环保艺术很到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珍珠港景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园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互为一体的垃圾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很难发现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美国人特意在垃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桶前写下这句中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告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据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是专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醒咱们没有耐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找垃圾桶的中国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而其他国家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括美国的游客并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这样的“待遇”。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76520" y="0"/>
            <a:ext cx="7162560" cy="46134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48006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去过泰国皇宫的中国人都会在洗手间看到这句中文告示。据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是皇宫人员专门叮嘱咱们经常忘记冲厕所的中国人，而其他国家包括泰国的游客并没有这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礼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0"/>
            <a:ext cx="990720" cy="457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 rot="5400000">
            <a:off x="-876240" y="1866960"/>
            <a:ext cx="358128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请便后冲水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8381880" cy="4648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3"/>
          </p:cNvPr>
          <p:cNvPicPr/>
          <p:nvPr/>
        </p:nvPicPr>
        <p:blipFill>
          <a:blip r:embed="rId4"/>
          <a:srcRect l="0" t="0" r="62587" b="0"/>
          <a:stretch/>
        </p:blipFill>
        <p:spPr>
          <a:xfrm>
            <a:off x="0" y="533412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752480" y="1295280"/>
            <a:ext cx="594360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99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个西方国家在《中国旅游指南》中告诫旅游者，中国人有如下不同：“一、缺乏公共道德，如随地乱扔东西，买票购物不排队；二、缺乏守法精神，如不守交通规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..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有人说：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国山美水美人不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52578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57200" y="3048120"/>
            <a:ext cx="8686800" cy="18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这是球赛之后的草坪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54100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此形成鲜明对比的，１９９０年广岛亚运会，约有１０万日本人参加了闭幕式，主场散场后，地上没有留下一个烟蒂，一片纸屑，一丝痰迹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许多国家都对此表示惊叹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16:52Z</dcterms:modified>
  <cp:revision>7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