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E57-1431-442F-8453-1D4D4262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F82-971B-472E-A385-D0D155F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5C2-CBDD-4309-9ECA-7CBB3636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201-8C0C-40C7-AE5E-6569868C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38C-739E-423B-813C-CA82F090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E91-9354-42ED-A51D-C8E7828B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6F5-9969-4B7A-B979-FE790C3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A79-0E75-431E-A8BC-05EA0D1F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087-F025-4AE1-AA11-EA6219E0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B0E-CAFC-4895-9541-B7DF424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F3C-D936-430C-9D3C-C712321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B2A-769B-47CE-9528-162ED78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FAD-0881-45FD-9BB0-314C1D8AD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C:/Documents%20and%20Settings/Administrator/&#26700;&#38754;/&#30456;&#20449;&#33258;&#24049;.mp3" TargetMode="External"/><Relationship Id="rId3" Type="http://schemas.openxmlformats.org/officeDocument/2006/relationships/hyperlink" Target="file:///C:/Documents%20and%20Settings/Administrator/&#26700;&#38754;/&#30456;&#20449;&#33258;&#24049;.mp3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abei.com/news/200905/199064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012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685800"/>
            <a:ext cx="97538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高考  </a:t>
            </a:r>
            <a:endParaRPr b="1" lang="en-US" sz="9600" spc="1" strike="noStrike">
              <a:ln w="158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作主</a:t>
            </a:r>
            <a:endParaRPr b="1" lang="en-US" sz="9600" spc="1" strike="noStrike">
              <a:ln w="158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548640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三（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班 颜文杰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9/09/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560" y="5943600"/>
            <a:ext cx="205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相信自己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.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主题班会：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理想、希望和意志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可以说是决定一生荣枯的最重要因素。教育如果不能启发一个人的理想、希望和意志，单单强调学生的兴趣，那是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舍本逐末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办法。只有以启发理想为主，培养兴趣为辅时兴趣才能成为教育上的一个重要因素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蒋梦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2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78598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英国王子查尔斯曾经说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19640" y="4076640"/>
            <a:ext cx="3419640" cy="2189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219320"/>
            <a:ext cx="7567560" cy="4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Verdana"/>
                <a:ea typeface="隶书"/>
              </a:rPr>
              <a:t>           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隶书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隶书"/>
              </a:rPr>
              <a:t>这个世界上有什么你不得不去做的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隶书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隶书"/>
              </a:rPr>
              <a:t>那就是</a:t>
            </a:r>
            <a:r>
              <a:rPr b="0" lang="zh-CN" sz="6600" spc="-1" strike="noStrike">
                <a:solidFill>
                  <a:srgbClr val="000000"/>
                </a:solidFill>
                <a:latin typeface="Verdana"/>
                <a:ea typeface="隶书"/>
              </a:rPr>
              <a:t>责任</a:t>
            </a: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隶书"/>
              </a:rPr>
              <a:t>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200"/>
                            </p:stCondLst>
                            <p:childTnLst>
                              <p:par>
                                <p:cTn id="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937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云是中国大陆第一位登上美国权威财经杂志《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福布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》封面的企业家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，成为日本最大财经杂志《日经》的封面人物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，被“世界经济论坛”评为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全球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“未来领袖”之一；美国亚洲商业协会评选他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度“商业领袖”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，荣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CTV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大年度经济人物奖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阿里巴巴的董事局主席马云为《羸在中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颁布名单时的讲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 “对于年青人来说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激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得快，去得也快。”什么是激情，激情是在未来的三十年里，每一天都保持这种冲劲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“一次失败、失去一次竞争机会没什么关系。什么是激情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激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在奋斗的过程中不管经历过多少打击，仍然永不言弃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 接下来，马云对晋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的选手谈到：“我没有吴鹰先生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达康总裁）那么幸运。从小到大，所经历的失败记都记不清楚。小学考重点中学，没有考上；考大学，考了三次；而且也不像吴先生那样有机会去国外。在创业的经历上，更是记不清遇到多少倒霉的事情，但是我只要感觉到一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用左手温暖右手。我觉得我还是不错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 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被评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度经济人物，主持人同时对三位企业家提出一个这样的问题：“你们的公司怎样才能吸引我到你们的公司去工作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有一个人说：“凭我男人的魅力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马云说：“你如果来到阿里巴巴网站。第一年，你会感受到很多的委曲、打击、甚至是不公平；第二年，你就能接受与适应；直到第五年，你从阿里巴巴出去，你不会惧怕任何挑战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当时说完，只听见场内观众的鼓掌声，我十分激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他就是这样一个人，只要有一点光亮都会感到温暖。只要有一线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希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都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园保安自考圆北大梦：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就是一本励志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152640" y="1904760"/>
            <a:ext cx="92962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件褪了色的北大文化衫，浅蓝色的牛仔裤，肩上搭一条旧毛巾，刚完成校园巡逻任务的北大保安韩非换上这 身衣服就匆匆往教室跑。熟悉他的人都知道，这家伙又要去蹭课了。 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的韩非自称是“赌徒”，他自信走出校门能找到一份更赚钱的工作，但他愿意拿这份“虚拟的收入”做赌注，图的是北大的学习环境和资源，为的是一个大学梦。  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80880" y="0"/>
            <a:ext cx="9144000" cy="63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冬天，韩非来到北京，揣着自己在心里准备了上百次的台词，闯进了北京一所高校的后勤办公大楼。他寻思着，“见到领导，我就求他，只要学校能给个活儿干，钱再少，再苦再累都没有关系。”正当韩非左顾右盼寻找领导办公室的时候，他被工作人员当成“有不良企图的青年”拽出来，随后又被学校的保安架走了。 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几次碰壁，韩非决定试试传说中北大的“兼容并包”。“学生都是同龄人，我只是想留在学校学点东西。”这句话打动了北大餐饮中心的负责人。后来，他被安排到食堂做了一名服务员，不过每个月只有几百块工资，算起来还没有打零工的钱多。 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北大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名外来务工人员。大家每天都在忙着自己分内的工作。这个黑龙江小伙子却有点儿不同，想着通过旁听和自学，成为一名老师。“绝不能淹没在锅碗瓢盆中。”韩非不断提醒自己，来这儿是学习的，可千万别偷懒。  </a:t>
            </a:r>
            <a:br>
              <a:rPr sz="30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04920" y="-360"/>
            <a:ext cx="914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就是一本励志书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八人间的地下室，上下铺。窄窄的木床板，一半儿被书“侵占”，一半儿用来睡觉，晚上翻一个身都可能掉下去。他拉一根电线，接一盏台灯，拉上床帘，伸手就能摸到书，啥时候看书看得困了，就啥时候睡觉。韩非在这间宿舍里开始了他的“大学生活”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“毛泽东当年在北大当图书馆助理员的时候，和蔡和森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人挤一个炕，每次翻身都要先同两旁的人打招呼。”韩非时常说起在北大听到的这个典故，“我比他好多了，一人一床，拉上床帘也不影响别人。”如此两年多锻炼下来，再窄的凳子，韩非躺上去就能睡着。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今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韩非转到北大校卫队。新住处由保卫部统一管理，床上不能再放书了。韩非把衣柜腾出来放书，还是不够用。最后，他想出一个自己颇为得意的方法：掀开床单，在床板上铺了满满一层书。因为书的厚度不同，床变得凹凸不平，晚上睡觉很不舒服。但这样能够为他的书找到一个寄存地，躺在“书床”上，韩非甚是踏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-38088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食堂工作时单位管吃管住，韩非的日常花销很小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来，他几乎没有买过衣服，除了工作服，都是别人送的旧衣。他的工资基本上都用来买书，包括外语类、历史学、教育学、心理学……唯独没有励志书，“我觉得自己就是一本励志书”。说到这里，韩非嘿嘿地笑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 为了实现考研的梦想，他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冬天开始准备。没有时间也没有钱上考研辅导班，他自己研究考试大纲。基础太差，就先买自考的书看，定期做试卷，不懂的问题找机会问北大学生。和同学熟了，一些课程、讲座、考试的信息，大家也都乐意告诉他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韩非从去年开始去“蹭”教育学院的研究生课程。每次去新课堂，总是他最尴尬的时候。老师会让大家自我介绍，轮到韩非时，他吞吞吐吐，认识他的人常常替他捏一把冷汗，怕他会被撵出去。所幸的是，至今为止，这样的事还没有发生。相反，老师们也渐渐习惯了有这么一个准时来“蹭”课的保安，偶尔还会让他准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做个课堂发言，小组讨论的时候也会问问他的点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诊断时，患者专门对医师说他对青霉素过敏，但当他按处方取了药后，却发现药品包装上清清楚楚写着“青霉素过敏者禁用”字样。他赶紧又找医师，医师轻描淡写地说：“没关系，药开错了可以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一患者到输液室打针，一个护士给他扎上了，输了一会儿，另一个护士又在喊他的名字，第一个护士这才发现自己把别人的药打在了这名患者的身上，她解释说：“药太多，拿错了。”患者问错打了什么药，她说：“营养药，没事儿。”这是最近发生在某市两家大医院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54864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以上这个事例说明了什么</a:t>
            </a: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29600" y="5638680"/>
            <a:ext cx="720720" cy="65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72072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642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工作在身，要“蹭课”也不容易。在餐厅打工的时候，韩非常常是在食堂不忙的时候，向领班请个假，换下工作服就往教室跑。一下课，他就找最近的卫生间，以最快的速度换上工作服再往食堂赶。工作服太显眼，出来和进去判若两人，在卫生间门口排队等待的人经常会用很惊异的眼神打量他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来北大之前，韩非在清华的餐饮中心待过一段时间，和后来很出名的清华“馒头神”是同事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那里，韩非没少听说被誉为“英语神厨”和“馒头神”的张立勇的故事。当时韩非的生活很迷茫，不知道何去何从。听说神厨故事后，他心里一惊：学校后勤服务员中居然能出这样的人物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后来在北大学宿中心，韩非又碰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湖南小伙子刘俊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刘俊高考落榜，但是他心中的电影梦并没有“落榜”。 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0492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刘俊每天的工作就是骑着三轮车，清运宿舍楼的垃圾。为了有时间能去旁听艺术学院的课程，刘俊常常是在学生们还在睡梦中的时候起来，一个人先把上午的活儿都干完。没有封口的垃圾会掉出来，他就一点一点捡回去，过夜的没吃完的西瓜散发着臭味，扛垃圾时西瓜汁还会溅到衣服上。但再脏再累，他都没有喊过苦。在刘俊看来，这是学校最适合他干的活儿。时间自由，他可以自己掌控时间去听课学习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求学的路上，韩非碰到了不少这样的“同道中人”让他觉得自己不是孤军奋战，同时他也立志，要比“馒头神”做得更好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一天，他正在厨房里打杂。食堂的前厅来了一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左右的外国夫妇，说了一通英语，前厅没有人能听懂。着急的同事到处求助。韩非犹豫了一下，最后还是鼓足勇气跟着走了出去。配合着手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用以前学的最简单的英语问老外需要什么帮助。“老外说想吃甜点，我推荐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块钱一盘的南瓜饼”，这是这个和大学生同龄的食堂服务员第一次在公开场合说英语。 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0492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那以后，韩非开始更努力地学英语。找资料，买磁带，在宿舍练，在未名湖边上练，走在路上也会嘟囔几句。然后他又开始学习日语和法语。起先是自学，后来觉得有些问题靠自学解决不了，他咬咬牙，在外面报了两次学习班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因为缺钱，韩非觉得学习班他消费不起了，后来干脆就在餐厅里“抓”着老外来练。一年多下来，也能应付最简单的餐厅会话了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除了工作，准备考研，练外语，韩非还常常参与学校的活动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开始学笛子的他是北大笛箫社的“元老级”人物，常常带着社团去演出，未名湖边上常常飘荡着他悠扬的笛声；在北大为外来务工人员开办的平民学校里，他又和北大学生一起当上了志愿者，为大家发资料、收作业、做记录，最后获得了“优秀志愿者”称号。这些年来，韩非一直都把当年自己的美术学院录取通知书贴在枕边的墙上，每天睡觉翻身都能看到。他说并不是为了炫耀，而是怕自己倦怠。信心不够的时候，看几眼，心里对自己说“你也是能行的”；想放松时，看几眼，对自己说，“来这儿是学习的，可千万别偷懒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开怀一笑——培训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几名经理参加一个管理培训课程。培训老师向学员反复强调：要作出决定，并且要将决定付诸行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说：“假如一截木头上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青蛙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决定跳开，你们说木头上还剩几只青蛙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员们一齐异口同声地回答，“两只”。“错”，培训师说，“仍然剩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8840" y="5181480"/>
            <a:ext cx="581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决定跳开与实际跳开是不同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1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的机会在哪里？——《青年文摘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到此为止，让我们记住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09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年高考中总结的有用经验以及考试中暴露的致命弱点，从今天开始把全部精力用在对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年的高考上！因为只有高考成功才是真的有效，没人会在日后记住你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09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年是怎么样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58920" y="4221000"/>
            <a:ext cx="7056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我们的责任心哪</a:t>
            </a: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!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1832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子曰：”不在其位，不谋其政”。这是孔子的名言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说的是不在那个位置上，就不要考虑那个职位上的事情，反其意而用之，“在其位”就应该“谋其政”，而且还要“思其职、负其责”。如果在其位而不谋其政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就是失职。每个人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自己的位置，都有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的职责，应该认真地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待。</a:t>
            </a:r>
            <a:r>
              <a:rPr b="0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227640" y="4221000"/>
            <a:ext cx="27352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2120"/>
            <a:ext cx="914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在大家还觉得自己是个”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生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但要告诉大家的是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很可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的确是 个 </a:t>
            </a: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过去的两个星期时间里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学案上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看到了熟悉潦草的笔迹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 习  静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由出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宿 舍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  ?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卫 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两 操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  2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集 合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280" y="4220640"/>
            <a:ext cx="800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云语：别人可以拷贝我的模式，不能拷贝我的苦难，不能拷贝我不断往前的激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433200">
            <a:off x="610920" y="836640"/>
            <a:ext cx="4105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ff0066">
                        <a:alpha val="99215"/>
                      </a:srgbClr>
                    </a:gs>
                    <a:gs pos="100000">
                      <a:srgbClr val="9999ff"/>
                    </a:gs>
                  </a:gsLst>
                  <a:lin ang="4968000"/>
                </a:gradFill>
                <a:latin typeface="华文行楷"/>
              </a:rPr>
              <a:t>班会副题：</a:t>
            </a:r>
            <a:endParaRPr b="0" lang="en-US" sz="6000" spc="1" strike="noStrike">
              <a:ln w="936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ff0066">
                      <a:alpha val="99215"/>
                    </a:srgbClr>
                  </a:gs>
                  <a:gs pos="100000">
                    <a:srgbClr val="9999ff"/>
                  </a:gs>
                </a:gsLst>
                <a:lin ang="4968000"/>
              </a:gradFill>
              <a:latin typeface="华文行楷"/>
              <a:ea typeface="华文行楷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84360" y="2421000"/>
            <a:ext cx="446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责任</a:t>
            </a:r>
            <a:endParaRPr b="0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492360" y="4797360"/>
            <a:ext cx="518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——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我们共同需要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308720" y="189000"/>
            <a:ext cx="166716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28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９２０年，有个１１岁的美国男孩踢足球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小心打碎了邻居家的玻璃。邻居向他索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元。在当时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元是笔不小的数目，足足可以买１２５只处蛋的母鸡！闯了大祸的男孩向父亲承认了错误，父亲让他对自己的过失负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男孩为难地说：“我哪有那么多钱赔人家？”父亲拿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元说：“这钱可以借给你，但一年后要还我。从此，男孩开始艰苦的打工生活。经过半年的努力，终于挣够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元这一“天文字”还给了父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父亲欣然拍着他的肩膀说：“一个能为自己的过失行为负责的人，将来一定是会有出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5075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9280" y="152280"/>
            <a:ext cx="152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美国总统  罗纳德﹒里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180040"/>
            <a:ext cx="8458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罗纳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里根在回忆这件事时说，通过自己的劳动来承担过失，使我懂得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什么叫责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字典里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于责任和责任感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给予了这样的解释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责任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(1)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内该做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没有做好分内的事而应当承担的过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此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两个方面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 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要去做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;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 是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要做好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52280"/>
            <a:ext cx="82076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责任感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责任心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觉做好分内事情的心理状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就是说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有做的动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做的行为都是由你这个主体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由心而发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去施行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没有人可以强迫你去做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心中有责任感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才有可能达到预期的效果甚至超过预期的估计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获得更好的结果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883908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国加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WTO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以后，首席谈判代表龙永图在《实话实说》栏目讲述了一件令人感慨的事情。他到瑞士访问时，在一个洗手间里听到隔壁小间里一直有一种奇特的响动，由于响动时间过长，而且也过于奇特，因此吸引了他的好奇。于是，他通过小门的缝隙向里探望。这一看使他惊叹不已。原来，小间里只有一个七八岁的小男孩正在修理马桶的冲刷设备。一问才知道，是这个小男孩上完厕所以后，因为冲刷设备出了问题，他没有把脏东西冲下去，因此就一个人蹲在那里千方百计地想修复那个冲刷设备。而他的父母、老师当时并不在他的身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个只有七八岁的小男孩，竟然能够如此勇于主动承担责任。可以说，这种承担责任的精神已经渗透到了他的每一个细胞、每一根神经，已经完全成为了一种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86000"/>
            <a:ext cx="929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责任意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培育一切优秀品质的首要因素，当一个人具有强烈的责任感时，他就会自觉树立起理想，并产生强大的精神动力，去战胜各种困难。就社会而言，每个人必须承担责任，责任是不能免除的。每个人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权利主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同时也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责任主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在现代社会，一个有认知能力和理智行为能力的主体，必须对自主选择的行为负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3:54Z</dcterms:modified>
  <cp:revision>8</cp:revision>
  <dc:subject>主题班会课件(分28大类): http://shop62905894.taobao.com</dc:subject>
  <dc:title>主题班会课件(分28大类): http://shop62905894.taobao.com</dc:title>
</cp:coreProperties>
</file>