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17.gif" ContentType="image/gif"/>
  <Override PartName="/ppt/media/image23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32.gif" ContentType="image/gif"/>
  <Override PartName="/ppt/media/image2.gif" ContentType="image/gif"/>
  <Override PartName="/ppt/media/image10.jpeg" ContentType="image/jpeg"/>
  <Override PartName="/ppt/media/image8.jpeg" ContentType="image/jpeg"/>
  <Override PartName="/ppt/media/image29.gif" ContentType="image/gif"/>
  <Override PartName="/ppt/media/image20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3.png" ContentType="image/png"/>
  <Override PartName="/ppt/media/image11.png" ContentType="image/png"/>
  <Override PartName="/ppt/media/image1.png" ContentType="image/png"/>
  <Override PartName="/ppt/media/image19.gif" ContentType="image/gif"/>
  <Override PartName="/ppt/media/image31.jpeg" ContentType="image/jpeg"/>
  <Override PartName="/ppt/media/image14.gif" ContentType="image/gif"/>
  <Override PartName="/ppt/media/image16.jpeg" ContentType="image/jpeg"/>
  <Override PartName="/ppt/media/image6.gif" ContentType="image/gif"/>
  <Override PartName="/ppt/media/image21.jpeg" ContentType="image/jpe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B78-BE4F-4ABD-8CE4-DC036430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D17-EA5D-42AC-9084-4655F925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484-CCCC-4844-A0D6-807F5868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AAC-20E0-4FD7-87AC-63659F40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B6F-8B08-4380-BC45-C1AAA6C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C75-2E7D-464C-8701-E75206D9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385-F7B9-467D-8CA4-000CEE5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126-5860-4214-9BDC-41C4F37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8DA-503D-4C74-835A-F533C909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774-2A69-436C-8470-4232D89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529-9377-4B4E-BB9B-B3189DF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0C0-9981-4A77-B61E-F63B0719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DFE9-C2AF-4F2B-AF12-B58C43687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jpeg"/><Relationship Id="rId3" Type="http://schemas.openxmlformats.org/officeDocument/2006/relationships/slide" Target="slide10.xm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6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533520"/>
            <a:ext cx="7773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6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守纪　勤奋　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90920" y="2971800"/>
            <a:ext cx="4952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和谐　文明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58120" y="6021360"/>
            <a:ext cx="785880" cy="836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664380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315200" y="685800"/>
            <a:ext cx="1609560" cy="1322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676520" y="838080"/>
            <a:ext cx="3047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新宋体"/>
              </a:rPr>
              <a:t>勤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104" name=""/>
          <p:cNvSpPr/>
          <p:nvPr/>
        </p:nvSpPr>
        <p:spPr>
          <a:xfrm>
            <a:off x="-1806480" y="457200"/>
            <a:ext cx="348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勤学奋进三尺讲坛写春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8320" y="533520"/>
            <a:ext cx="2023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务实求真一颗红心书壮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1981080" cy="2133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0" y="6400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劳动光荣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生在勤，不索何获－－张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业精于勤而荒于嬉，行成于思而毁于随           －－韩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天才就是无止境刻苦勤奋的能力                 －－卡莱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聪明出于勤奋，天才在于积累                   －－华罗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好学而不勤问非真好学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书山有路勤为径，学海无涯苦作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形成天才的决定因素应该是勤奋                 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郭沫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的大脑和肢体一样，多用则灵，不用则废       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茅以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5400000">
            <a:off x="1409040" y="3009960"/>
            <a:ext cx="34290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和 谐</a:t>
            </a:r>
            <a:endParaRPr b="1" lang="en-US" sz="96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4381200" y="2781000"/>
            <a:ext cx="350532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文 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24280" y="5334120"/>
            <a:ext cx="1371600" cy="1218960"/>
          </a:xfrm>
          <a:prstGeom prst="cloudCallout">
            <a:avLst>
              <a:gd name="adj1" fmla="val 95717"/>
              <a:gd name="adj2" fmla="val -70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5791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被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590920"/>
            <a:ext cx="1371600" cy="1218960"/>
          </a:xfrm>
          <a:prstGeom prst="cloudCallout">
            <a:avLst>
              <a:gd name="adj1" fmla="val -17361"/>
              <a:gd name="adj2" fmla="val -110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原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0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诉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2590920"/>
            <a:ext cx="60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2057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审判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被告辩护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6248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证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210040" cy="2130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1589040" cy="19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590920" y="35053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模拟法庭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57200"/>
            <a:ext cx="845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　　　　　　　　</a:t>
            </a: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礼貌用语记得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对待长辈要用“您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早晨见面说声“早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平时互相问问“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分别“再见”别忘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若要求人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“请”字先用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得到别人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“谢谢”口中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无意影响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忙说“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回答“没关系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文明好孩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　　　　　　　　人人都夸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96080" y="4648320"/>
            <a:ext cx="121932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5400000">
            <a:off x="-876240" y="17143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奋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828760" y="1561680"/>
            <a:ext cx="4114800" cy="175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努力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3520" y="914400"/>
            <a:ext cx="51433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感谢欣赏！</a:t>
            </a:r>
            <a:endParaRPr b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60920" y="914400"/>
            <a:ext cx="459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6600" y="228600"/>
            <a:ext cx="219132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Arial"/>
                <a:ea typeface="楷体_GB2312"/>
              </a:rPr>
              <a:t>以遵纪守法为荣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5080" y="304920"/>
            <a:ext cx="11858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00"/>
                </a:solidFill>
                <a:latin typeface="Arial"/>
                <a:ea typeface="楷体_GB2312"/>
              </a:rPr>
              <a:t>以违法乱纪为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652000">
            <a:off x="-1219320" y="228564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楷体_GB2312"/>
              </a:rPr>
              <a:t>守纪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3049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学生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762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遵守课堂纪律是学生最基本的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203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上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219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下课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219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听讲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服饰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905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尊师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286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同学问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743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集会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1240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校内公共场所礼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819520" y="5257800"/>
            <a:ext cx="1439640" cy="105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1440000" cy="10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144000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3808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以遵守校规为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7920" y="144792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楷体_GB2312"/>
              </a:rPr>
              <a:t>视自由散漫为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2895480"/>
            <a:ext cx="4114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以遵守纪律为荣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以违反纪律为耻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3 -0.19976 L 0.09167 0.13318 E">
                                      <p:cBhvr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2286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拍一，我拍一，八荣八耻要明晰。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你拍二，我拍二，爱国爱校爱同学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371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拍三，我拍三，服务人民记心间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拍四，我拍四，崇尚科学立大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8239"/>
                </a:solidFill>
                <a:latin typeface="Arial"/>
              </a:rPr>
              <a:t>你拍五，我拍五，团结友爱讲互助。</a:t>
            </a:r>
            <a:br>
              <a:rPr sz="3200"/>
            </a:br>
            <a:r>
              <a:rPr b="1" lang="zh-CN" sz="3200" spc="-1" strike="noStrike">
                <a:solidFill>
                  <a:srgbClr val="148239"/>
                </a:solidFill>
                <a:latin typeface="Arial"/>
              </a:rPr>
              <a:t>你拍六，我拍六，做事诚实不能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73392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拍七，我拍七，参加劳动要积极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拍八，我拍八，自觉遵纪又守法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8006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724280"/>
            <a:ext cx="670572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你拍九，我拍九，克服困难争上游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你拍十，我拍十，知晓荣辱会做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409160" y="0"/>
            <a:ext cx="127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八荣八耻”道德歌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02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066680" y="3124080"/>
            <a:ext cx="6324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创建文明校园六荣六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3880" y="5029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创建文明班级八荣八耻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3276720"/>
            <a:ext cx="117144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7826400" y="3048120"/>
            <a:ext cx="131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419640" y="0"/>
            <a:ext cx="2952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八荣八耻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920" y="148428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热爱祖国为荣、以危害祖国为耻，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73160" y="2060640"/>
            <a:ext cx="702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服务人民为荣、以背离人民为耻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69920" y="2637000"/>
            <a:ext cx="875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崇尚科学为荣、以愚昧无知为耻，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73160" y="3211560"/>
            <a:ext cx="70992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辛勤劳动为荣、以好逸恶劳为耻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3716280"/>
            <a:ext cx="8858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团结互助为荣、以损人利己为耻，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42920" y="4221000"/>
            <a:ext cx="7058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诚实守信为荣、以见利忘义为耻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69920" y="4724280"/>
            <a:ext cx="875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遵纪守法为荣、以违法乱纪为耻，    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640" y="5229360"/>
            <a:ext cx="712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以艰苦奋斗为荣、以骄奢淫逸为耻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124080" y="5867280"/>
            <a:ext cx="93672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69228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华文新魏"/>
              </a:rPr>
              <a:t>高一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华文新魏"/>
              </a:rPr>
              <a:t>(2)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华文新魏"/>
              </a:rPr>
              <a:t>班八荣八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405080" y="1700280"/>
            <a:ext cx="1015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爱护环境为荣，以浪费资源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热爱劳动为荣，以拈轻怕重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帮助同学为荣，以欺负同学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尊敬师长为荣，以不尊师长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遵守纪律为荣，以违反纪律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讲究卫生为荣，以乱丢垃圾为耻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华文新魏"/>
              </a:rPr>
              <a:t>以热爱集体为荣，以自私自利为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5791320"/>
            <a:ext cx="93672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8600" y="38862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尊师爱校为荣、视刚愎自用为耻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讲究卫生为荣、视破坏环境为耻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21337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团结互助为荣、视自私自利为耻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克俭朴素为荣、视奢侈攀比为耻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600" y="5335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遵守校规为荣、视自由散漫为耻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以勤奋学习为荣、视好逸恶劳为耻；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548640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六荣六耻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28000" y="1219320"/>
            <a:ext cx="2016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7:23Z</dcterms:modified>
  <cp:revision>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