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5FBF-34CF-4D2C-95E1-6D80321F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FF1-057D-4113-B2EE-BA3C1E66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658-3F71-46CE-B30B-B085DAE7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871-7B26-44B6-A34B-B29F95E7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974B-7D7D-41E1-854E-B8990C64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6AD4-258A-409C-8259-5313590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66E6-5B97-4080-B65F-EC55A089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9C01-0B27-486E-9EEA-05D498D5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0BEE-2C1F-46C4-B611-2F2E8193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578C-DF69-4127-82FD-89FB11FB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58B-A75F-40F2-B66B-16AC453E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D2D-F59A-4AAB-8DDB-A24AA6FD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3270-1DC0-4729-B347-DCF033B4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600C-6898-4ED3-8810-4BF08BA0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26E1-9C38-44FC-A7A0-E25E1CBD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70AC-8B4F-4518-B50A-351FD5C8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1985-575B-4404-BF45-5956E40F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2C4-6DD4-4DDB-AD6D-DC4696C7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788-9835-4600-B02C-0FCD938C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6B7-5DC1-4DED-BEC1-1E72ECE6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3F6-1444-4322-8A08-9C72A469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F71-59D3-4CF8-BE5B-C299923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B39C-72ED-473E-A307-3D275BF8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F09-6FDF-460A-9655-0D8B4B0C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13D2-F143-4E4E-AA6D-653089B4142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70CA-2034-4F49-A0BF-8CEDF0FDC86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391520" y="4800600"/>
            <a:ext cx="0" cy="205740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5410080"/>
            <a:ext cx="0" cy="14479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34520" y="3962520"/>
            <a:ext cx="0" cy="28954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257800"/>
            <a:ext cx="0" cy="160020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114800"/>
            <a:ext cx="0" cy="274320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715000"/>
            <a:ext cx="0" cy="114300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6019920"/>
            <a:ext cx="0" cy="8380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6324480"/>
            <a:ext cx="0" cy="5335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5867280"/>
            <a:ext cx="0" cy="9907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715000"/>
            <a:ext cx="609840" cy="5335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58200" y="2895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3276720"/>
            <a:ext cx="609480" cy="5331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819520"/>
            <a:ext cx="60948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791320"/>
            <a:ext cx="457200" cy="5331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143000"/>
            <a:ext cx="6048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做一个有责任感的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151160"/>
            <a:ext cx="9144000" cy="2706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1" lang="zh-CN" sz="4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朋友义气，一时冲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分是非善恶帮着打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45240" y="2971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做事不考虑后果，未经思考就，草率从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587680"/>
            <a:ext cx="3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华文彩云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3733920"/>
            <a:ext cx="1067040" cy="1828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4191120"/>
            <a:ext cx="1905120" cy="99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　　　选择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、和宿舍同学有一定的矛盾，但他为了与那位同学矛盾的进一步的激化，主动找他谈心、化解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645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分析：这位同学能够冷静的对待矛盾，采用合理的方法加强与舍友的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5373720"/>
            <a:ext cx="352440" cy="549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5229360"/>
            <a:ext cx="1224000" cy="631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447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京同仁堂上海分店的一名普通的营业员小周，由于工作中的疏忽导致出现给客人报错服药剂量的错误，后在《新民晚报》上登出紧急寻人启事，终于找到买药的顾客，避免了一场可能发生的事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038480"/>
            <a:ext cx="6400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请评议一下小周的做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876920"/>
            <a:ext cx="6324480" cy="1600200"/>
          </a:xfrm>
          <a:prstGeom prst="rect">
            <a:avLst/>
          </a:prstGeom>
          <a:gradFill rotWithShape="0">
            <a:gsLst>
              <a:gs pos="0">
                <a:srgbClr val="6767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我做错的事我负责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避免不良后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71600" y="15228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25146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己有过做错事的经历吗？当时你是怎么处理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724280" y="914400"/>
            <a:ext cx="3384360" cy="1077840"/>
            <a:chOff x="4724280" y="914400"/>
            <a:chExt cx="3384360" cy="1077840"/>
          </a:xfrm>
        </p:grpSpPr>
        <p:sp>
          <p:nvSpPr>
            <p:cNvPr id="166" name=""/>
            <p:cNvSpPr/>
            <p:nvPr/>
          </p:nvSpPr>
          <p:spPr>
            <a:xfrm>
              <a:off x="4724280" y="985680"/>
              <a:ext cx="3384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914400"/>
              <a:ext cx="3384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814760" y="990720"/>
            <a:ext cx="138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谈一谈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380880"/>
            <a:ext cx="3429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怎样培养责任感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600200"/>
            <a:ext cx="6400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树立负责任的人生态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我负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为人处事的基本原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3200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会分析事物的因果关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41148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养成先思考、后行动的习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9528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因为自己的错误或过失造成的不良后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用于承担责任并接受教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80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下列场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出相应的行为反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小品表演出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场景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课不想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业不会做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场景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你值日。正在扫地时，朋友来叫你去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场景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们的亲人病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该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场景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外游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留下吃零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喝饮料的垃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是路上没发现垃圾桶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952880" y="5562720"/>
            <a:ext cx="27432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学生表演活动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2514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724280" y="914400"/>
            <a:ext cx="3384360" cy="1077840"/>
            <a:chOff x="4724280" y="914400"/>
            <a:chExt cx="3384360" cy="1077840"/>
          </a:xfrm>
        </p:grpSpPr>
        <p:sp>
          <p:nvSpPr>
            <p:cNvPr id="179" name=""/>
            <p:cNvSpPr/>
            <p:nvPr/>
          </p:nvSpPr>
          <p:spPr>
            <a:xfrm>
              <a:off x="4724280" y="985680"/>
              <a:ext cx="3384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24280" y="914400"/>
              <a:ext cx="3384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华文彩云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479840" y="3094200"/>
            <a:ext cx="1843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21932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中学生要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方面来培养自己的责任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自己负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努力学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塑造自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他人负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心爱护帮助他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集体负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集体增添荣誉和力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社会负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良好的行为创造美好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943600" y="533412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归纳小结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03280" y="14842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华文彩云"/>
              </a:rPr>
              <a:t>希望大家能在生活中的每件小事做起，培养自己的责任感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4800600"/>
            <a:ext cx="0" cy="205740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5410080"/>
            <a:ext cx="0" cy="14479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3962520"/>
            <a:ext cx="0" cy="28954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5257800"/>
            <a:ext cx="0" cy="160020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4114800"/>
            <a:ext cx="0" cy="274320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5715000"/>
            <a:ext cx="0" cy="114300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6019920"/>
            <a:ext cx="0" cy="8380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6324480"/>
            <a:ext cx="0" cy="5335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5867280"/>
            <a:ext cx="0" cy="99072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5715000"/>
            <a:ext cx="609840" cy="5335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58200" y="2895480"/>
            <a:ext cx="685800" cy="6858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3276720"/>
            <a:ext cx="609480" cy="5331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819520"/>
            <a:ext cx="60948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5791320"/>
            <a:ext cx="457200" cy="5331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4151160"/>
            <a:ext cx="91440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0"/>
            <a:ext cx="8064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位公司的老板曾经讲过这样的故事。有个人来他公司招聘，经过交谈，他觉得那个人不适合他们公司的工作。因此，他很客气地和那个人道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个人从椅子上站起来时，手指不小心被椅子上跳出来的钉子划了一下。那人顺手拿起老板桌子上的镇纸，把跳出来的钉子砸了进去，然后和老板再见。就在这一刻，老板突然改变了主意，留下了这个来应聘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后这位老板说：“我知道在业务上他也许未必适合本公司，但他的责任心的确令我欣赏。我相信把公司交给这样的人我会很放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阅读与感悟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6026040"/>
            <a:ext cx="6705720" cy="459720"/>
          </a:xfrm>
          <a:prstGeom prst="rect">
            <a:avLst/>
          </a:prstGeom>
          <a:solidFill>
            <a:srgbClr val="d9d8ec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负责成为一种自然而然的习惯时，它将成为你人生的一笔意想不到的财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2514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724280" y="914400"/>
            <a:ext cx="3384360" cy="1077840"/>
            <a:chOff x="4724280" y="914400"/>
            <a:chExt cx="3384360" cy="1077840"/>
          </a:xfrm>
        </p:grpSpPr>
        <p:sp>
          <p:nvSpPr>
            <p:cNvPr id="205" name=""/>
            <p:cNvSpPr/>
            <p:nvPr/>
          </p:nvSpPr>
          <p:spPr>
            <a:xfrm>
              <a:off x="4724280" y="985680"/>
              <a:ext cx="3384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4280" y="914400"/>
              <a:ext cx="3384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3124080" y="2057400"/>
            <a:ext cx="2895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2286000"/>
            <a:ext cx="7467480" cy="13842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责任感调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测你的责任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做自我测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老师统计了解大家的责任感现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4191120"/>
            <a:ext cx="838080" cy="1981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5105520"/>
            <a:ext cx="838440" cy="12189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257800"/>
            <a:ext cx="1218960" cy="914400"/>
          </a:xfrm>
          <a:prstGeom prst="smileyFace">
            <a:avLst>
              <a:gd name="adj" fmla="val 928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53280" y="5791320"/>
            <a:ext cx="0" cy="106668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686800" y="4800600"/>
            <a:ext cx="0" cy="2057400"/>
          </a:xfrm>
          <a:prstGeom prst="line">
            <a:avLst/>
          </a:prstGeom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1600200"/>
            <a:ext cx="7162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辆在繁华闹市中失控的公交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撞死一人后又和几辆车相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后撞在路旁的树上停了下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车毁人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交车司机因何横冲直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因是司机正和一名乘客在车上扭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这位肇事司机接受媒体采访时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忘了我正在开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摘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今日说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阅读下面两篇材料并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066680"/>
            <a:ext cx="990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838080"/>
            <a:ext cx="708660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名公交司机行车途中突发心脏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生命的最后一分钟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做了三件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车缓缓地停在马路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用生命的最后力气拉下了手动刹车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车门打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乘客安全的下了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发动机熄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确保了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乘客和行人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做完了这三件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详地趴在方向盘上停止了呼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名司机叫黄志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们永远记住了他的名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304920"/>
            <a:ext cx="1333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B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152280"/>
            <a:ext cx="69343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67ff"/>
                </a:solidFill>
                <a:latin typeface="华文彩云"/>
                <a:ea typeface="华文彩云"/>
              </a:rPr>
              <a:t>               </a:t>
            </a:r>
            <a:r>
              <a:rPr b="1" lang="zh-CN" sz="3600" spc="-1" strike="noStrike">
                <a:solidFill>
                  <a:srgbClr val="6767ff"/>
                </a:solidFill>
                <a:latin typeface="华文彩云"/>
                <a:ea typeface="华文彩云"/>
              </a:rPr>
              <a:t>小组讨论</a:t>
            </a:r>
            <a:r>
              <a:rPr b="1" lang="zh-CN" sz="3600" spc="-1" strike="noStrike">
                <a:solidFill>
                  <a:srgbClr val="6767ff"/>
                </a:solidFill>
                <a:latin typeface="华文彩云"/>
                <a:ea typeface="华文彩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中的司机为什么会发生如此大的交通事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说明了什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89548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中的司机在生命的最后三分钟为什么会这样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说明了什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5013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比两位司机的行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悟出了什么道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1989000"/>
            <a:ext cx="7489800" cy="82548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这位司机忘记了自己的责任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遵守交通规则和保护乘客的安全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这说明了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不负责任的危害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809880"/>
            <a:ext cx="7315200" cy="45972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、为了保护乘客、车和行人的安全和生命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他是一个对自己、他人和社会负责任的人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这说明了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责任感的重要性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589720"/>
            <a:ext cx="6858000" cy="5205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不同的行为带来不同的后果，我们要做一个负责任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199280" cy="1452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联系实际，你还知道社会上哪些相关的事实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72428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例如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: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建筑业的“豆腐渣”工程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幼圆"/>
                <a:ea typeface="幼圆"/>
              </a:rPr>
              <a:t>广东兴宁煤矿事故等等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333360"/>
            <a:ext cx="212724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大家谈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1523880"/>
            <a:ext cx="7923240" cy="642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系自己和其他同学的实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谈我们班同学的责任感现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3526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从刚才的发言中说明</a:t>
            </a: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:</a:t>
            </a: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大到社会</a:t>
            </a: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小到我们班级</a:t>
            </a: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,</a:t>
            </a: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都存在着缺乏责任感的现象</a:t>
            </a: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.</a:t>
            </a: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我们一定要加强责任感的教育与培养</a:t>
            </a:r>
            <a:r>
              <a:rPr b="1" lang="zh-CN" sz="3600" spc="-1" strike="noStrike">
                <a:solidFill>
                  <a:srgbClr val="9933ff"/>
                </a:solidFill>
                <a:latin typeface="幼圆"/>
                <a:ea typeface="幼圆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333360"/>
            <a:ext cx="22035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大家谈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26920" y="0"/>
            <a:ext cx="44658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怎样培养责任感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600200"/>
            <a:ext cx="6400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树立负责任的人生态度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自我负责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是为人处事的基本原则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200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学会分析事物的因果关系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96252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养成先思考、后行动的习惯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9528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因为自己的错误或过失造成的不良后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要勇于承担责任并接受教训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451640" y="595008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6172200" y="380988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3794"/>
                </a:moveTo>
                <a:lnTo>
                  <a:pt x="35773" y="10800"/>
                </a:lnTo>
                <a:lnTo>
                  <a:pt x="2176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2514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724280" y="914400"/>
            <a:ext cx="3384360" cy="1077840"/>
            <a:chOff x="4724280" y="914400"/>
            <a:chExt cx="3384360" cy="1077840"/>
          </a:xfrm>
        </p:grpSpPr>
        <p:sp>
          <p:nvSpPr>
            <p:cNvPr id="146" name=""/>
            <p:cNvSpPr/>
            <p:nvPr/>
          </p:nvSpPr>
          <p:spPr>
            <a:xfrm>
              <a:off x="4724280" y="985680"/>
              <a:ext cx="3384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24280" y="914400"/>
              <a:ext cx="33843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371600" y="1295280"/>
            <a:ext cx="5715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案例表演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打架事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考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比两个不同的行为选择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哪个好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14:35Z</dcterms:modified>
  <cp:revision>5</cp:revision>
  <dc:subject>主题班会课件(分28大类): http://shop62905894.taobao.com</dc:subject>
  <dc:title>主题班会课件(分28大类): http://shop62905894.taobao.com</dc:title>
</cp:coreProperties>
</file>