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A92-E0FA-470D-985B-28BCD007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6E5-24A5-4970-ACE9-22408A84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8BB-D024-4833-A56A-9CC181DF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222-99DD-4EDB-B2F9-2D6F0B0F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7F76-EEC5-42E3-8A19-A1644ABD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C02D-5F5A-4041-8E87-F53F07B6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EDB6-C49A-468D-B4C6-E828635E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A2CC-BDAE-4865-B540-D8D59D1F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E2B1-4C18-42B6-B5C0-F84EF054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7639-1F7C-45EA-B88D-9EAF58D2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7FBF-9CC0-47D4-A373-1D3B19E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10E-EAE0-4597-A436-9B3BF023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E16A-0F42-4DC8-84A8-9CB06DA2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BC6A-AD26-4966-AB33-F4FB2D26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19B2-8FFB-42DD-8803-ED6AF5DD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39CF-E1D6-4013-BE04-1B108DC7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561C-67D8-49D4-B890-53C5DA06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46F-D8F2-4406-8138-7F578C86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873-7615-4B1E-BFD6-F1CEF4A8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001-8422-4833-ADAF-E03EC04C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9B9-4288-432A-A016-45DC3ADB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205-BE47-4A8E-852D-D937702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9B0-F12D-488E-8069-D1943753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1D1-6876-4F58-ABCD-05E9784B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A8D6-2C1C-49B6-9BE2-8D24312F886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434E-35FB-4951-AEF4-50D673CB30F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考试与诚信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个作弊的人是没有信用的人，他永远树立不起诚信、伟大的形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个作弊的民族是不讲诚信的民族，很难自立于世界民族之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73152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我宣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在这次考试中，认真准备好每一场考试，遵守考场纪律，不作弊，诚信做人，考出自已的水平，向家长和老师汇报最佳成绩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为什么要考试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测试你对某门课的掌握程度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测试你的学习技巧和记忆力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评估教师的教学质量，了解哪些教                       得不错、哪些需要加强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重要的是，测试你是否诚实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什么是“诚实”？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类社会正常的和必要的道德原则，正直、诚信、实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与诚实有关的故事和谚语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狼来了”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无诚信，好景不长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老实人不吃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如果我耍花招，人们便不再信任我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再也享受不到诚实的快乐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无信不立，业无信不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考试中你有以下方式证明你正直诚实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即使没有老师监考，你也知道怎么做才合适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会多少答多少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要作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考试作弊的行为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偷看别人的试卷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问别人怎么答题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看事先写好的小纸条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70000" y="38088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作弊的后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伤害了老师和同学，给师生关系和同学关系蒙上了阴影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对家长、老师和同学有负罪感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改变了在他们心目中的形象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失去了老师和同学对你的信任─本来我们都是相互信任、充满爱心的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大家都不好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以后生活本身对你的惩罚要比现在严厉的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孩子们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真的作弊，老师不是没看见，他是不愿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Times New Roman"/>
              </a:rPr>
              <a:t>孩子们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你的信誉价值连城，你怎么舍得用一点点考分就把它出卖了？作弊的代价太高了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4:45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03:37Z</dcterms:modified>
  <cp:revision>7</cp:revision>
  <dc:subject>主题班会课件(分28大类): http://shop62905894.taobao.com</dc:subject>
  <dc:title>主题班会课件(分28大类): http://shop62905894.taobao.com</dc:title>
</cp:coreProperties>
</file>