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gif" ContentType="image/gif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E64-A0B9-4785-B6A0-6C0278F1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8AE-1EFC-458C-A418-C388B2EA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308-5B8A-4FE3-8461-83512D9A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FF7-BA2E-4F03-B873-BEA94C42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7E1-8FF8-4DCB-864E-DF2579F4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735-3D97-4AB0-8149-44AE18DA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A23-9CB2-464F-9A8D-573AE72D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7F0-3EFA-49B5-87A0-530EF8D5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DE3-9A2B-46F0-B414-FDB22B9B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75C-67A2-46B6-88B0-3E6E2E68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1DE-E5DD-4ECF-B135-09F9A0AB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C09-EB29-4472-B006-BB3F5EE3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32C0-3D95-42C8-9528-E42BC260AE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2349360"/>
            <a:ext cx="612432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行规你我知，习惯你我晓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95640" y="4076640"/>
            <a:ext cx="39592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--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八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(6)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班主题班会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19280" y="1413000"/>
            <a:ext cx="619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如果让你去帮助小陈和小蔡克服这些不良习惯，你有何高招？</a:t>
            </a: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651360" y="1052640"/>
            <a:ext cx="1521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请听二则反面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40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案例一：北京有一家外资企业高薪招聘应届大学毕业生，对学历、外语的要求都很高。应聘的大学生过五关斩六将，到了最后一关：总经理面试。一见面，总经理说：“很抱歉，年轻人，我有点急事，要出去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分钟，你们能不能等我？”这仅剩的几位大学生们都说：“没问题，您去吧，我们等您。”经理走了，大学生们闲着没事，围着经理的大写字台看，只见上面文件一叠，信一叠，资料一叠。都是些什么呢？他们你看这一叠，我看这一叠，看完了还交换：哎哟，这个好看，哎哟，那个好看。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   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分钟后，总经理回来了，他说：“面试已经结束，你们全都没有被录用。”大学生们个个瞪大了眼睛，“这是怎么回事，面试还没开始呢？”总经理说：“我不在的这一段时间，你们的表现就是面试。很遗憾，本公司从来不录用那些乱翻别人东西的人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620640"/>
            <a:ext cx="475308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日本有一家食品公司要招聘一位卫生检测员，一位衣冠楚楚、气度不凡的年轻人自信地走进了总经理办公室，他优雅的谈吐，扎实的专业知识赢得了总经理的好感，没想到就在年轻人转身离开的时候，他下意识抠了一下鼻孔，这个不起眼的小动作并没有逃过总经理的眼睛，结果可想而知，一个没有良好卫生习惯的人怎么能够做卫生检测员呢？当然，年轻人到死也不会知道是他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抠鼻孔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的坏习惯毁了他的工作，使到手的饭碗落入了他人之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435640" y="119700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184464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大家听了这几则故事有什么想说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7200720" cy="174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16000" y="1341360"/>
            <a:ext cx="1297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5640" y="98100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行楷"/>
              </a:rPr>
              <a:t>故事交流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5300640"/>
            <a:ext cx="3333960" cy="428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92360" y="4221000"/>
            <a:ext cx="863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765000"/>
            <a:ext cx="6265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夸夸身边的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想想自己的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443700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我们可以从行规、学习、卫生等等等等的方面来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26920" y="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好的习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62064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学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课堂有纪律，认真听讲，做好笔记，不顶撞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分清主次，首先完成学习任务。不要在玩得很累、很迟时      才开始学习，这样不仅学习效率不好，做作业、背书常常来不及，而且还会对学习产生厌倦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专心致志，不一心二用。不要边做作业边干其他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有张有弛，劳逸结合。连续学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时，中间就应该安排一次休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⑤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学习生活的安排有规律。根据学校规定的上学、放学     时间，结合自己的状况，制定一个更具体的作息时间表，坚持下去形成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遵循学习常规。课前预习，课上记笔记，课后复习，做习题。课间与同学讨论，不懂就问或查资料，独立完成各项作业。今日事，今日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42920" y="404640"/>
            <a:ext cx="662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卫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讲究卫生，地上无痰迹、纸屑，墙上无污痕，桌上无刻划，门窗无破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勤俭节约，不浪费水电资源，发扬刻苦耐劳的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认真完成值日，保持自己的包干区整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纪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课间有秩序，不喧哗打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语言有礼貌，不讲脏话，语气和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与社会上行为放荡分子来往，不上网，打游戏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抽烟，不喝酒，不斗殴打群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333360"/>
            <a:ext cx="8064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场景一：话在课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下午上课铃声响了，老师正准备开始上课，小蔡和小陈一前一后急匆匆地跑到教室门口，不早不晚绝对是东八区标准时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两人坐下后神思不集中，书也没拿出来，东张西望一会儿，又趴在桌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蔡：现在想睡觉了，你困不困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陈：正起劲呢，不过瘾，我们晚上下课后再去？我那个对家太窝囊了，还没开火就死翘翘，他妈真够郁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蔡：那晚上我们联合，好好疯狂一下，我还琢磨着多赚点钱呢，昨天用低价买了很多废弃的二手货武器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万进来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万出去，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他们就这样喋喋不休讲个没完）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62064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名言警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177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孩子成功教育从好习惯培养开始 ——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3068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的习惯会随时阻碍你走向成名、获利和享乐的路上去。—— 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5084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习惯形成性格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性格决定命运。——约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凯恩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87280" y="1125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主题班会到此结束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~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33577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谢谢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~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549360"/>
            <a:ext cx="58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在场景一中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小陈和小蔡同学的习惯违背了中学生行为规范的哪些条例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3573360"/>
            <a:ext cx="5832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课堂有纪律，认真听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语言有礼貌，不讲脏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与社会上行为放荡分子来往，       不上网，打游戏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32000" y="5950080"/>
            <a:ext cx="676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549360"/>
            <a:ext cx="52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场景二：溜之大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下午三节课即将结束，小蔡和小陈开始骚动不安，伸展着疲惫的身躯，挪动着椅子，弯腰半站，似乎想从后门口一跃而出，正在这时候铃声再次响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值日组长：哎，你又要跑了啊，地又不扫，真是讨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蔡：我有急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小蔡甩头就跑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1197000"/>
            <a:ext cx="54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场景二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陈和小蔡同学的习惯违背了中学生行为规范的哪些条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4005360"/>
            <a:ext cx="525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课堂有纪律，认真听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认真打扫卫生，工作认真负责，不走逃跑主义路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620640"/>
            <a:ext cx="79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场景三：游戏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晚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0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林和小陈急忙忙冲进了网吧，两人急敲键盘，顺利进入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S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反恐精英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.5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版界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陈：你往左边，我走右边，带上匕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快快快，你头上，小心，噢，娘的，真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蔡：这小子太厉害了，防不胜防啊，再来，我不搞死他就不回去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你说晚上应该不会倒霉吧，被抓就完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陈：胆小就别玩，怕什么啊，有腿没啊你？中午刚查过，晚上吃饱了撑着啊，别废话，快快，我得买点武器好好装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蔡：来，提提神，舒服，看我怎么弄死他，呆会儿去买包芙蓉王，换换口味，这星期本来买衣服的钱又报销了，回去又要挨骂了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尽管烟雾弥漫，两人正全神贯注地玩着，与课堂上的他们判若两人，似乎这才是真实的他们 ）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1197000"/>
            <a:ext cx="5975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场景三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陈和小蔡同学的习惯又违背了中学生行为规范的哪些条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414972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语言有礼貌，不讲脏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上网吧，打游戏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1268280"/>
            <a:ext cx="612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场景四：迟到万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早自修时间已过了一半，小林不紧不慢地走向校门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保安：这位同学你的校徽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蔡：没有，丢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小蔡随手拿出一元钱换回校徽，并很随意地在迟到签名簿上划了几下，字迹非常模糊，正待保安要喊住时候，甩头就跑，在旁边草地上随口吐了一口唾沫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71640" y="119700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场景四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陈和小蔡同学的习惯违背了中学生行为规范的哪些条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335772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不无故迟到、早退、  旷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校园内应佩带校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态度应该诚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讲究卫生，不随地吐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4:22:4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25:45Z</dcterms:modified>
  <cp:revision>18</cp:revision>
  <dc:subject>主题班会课件(分28大类): http://shop62905894.taobao.com</dc:subject>
  <dc:title>主题班会课件(分28大类): http://shop62905894.taobao.com</dc:title>
</cp:coreProperties>
</file>