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3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755-AF5B-47BA-B524-10075865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AF8-8D25-46E9-B559-D56CD39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67F-BC73-46EE-ADFE-7BDB90C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3CF-42F2-4BFF-A5B2-026A6F51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A11-AB9B-4165-8EC0-51163C0D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D40-30B3-4B37-BFF5-258CE981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ED6-BB8A-4CE7-9E81-7272D57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F4B-3D47-4F41-A2A3-07A9199C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5E5-7EAA-4E5E-9859-8572DEB6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7B9-4A50-41AD-A55C-E88C9CF3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B79-EC89-4E9B-959D-A88D654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59A-5697-46AB-BB33-54AB438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BA02-C88E-4165-BAA8-FF51356CD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200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000" y="3114720"/>
            <a:ext cx="70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──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千里之行，始于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280" y="2214720"/>
            <a:ext cx="783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将军风采，做实中新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41280" y="2303640"/>
            <a:ext cx="85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87360" y="2079720"/>
            <a:ext cx="11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我们都是十二、三岁的人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外出不必向父母打招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31640" y="2170080"/>
            <a:ext cx="85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入二厅是指不入游戏厅和舞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48080" y="2664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我们可以因有事或者生病而不请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随便旷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96640" y="28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不要把校外人带进校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不闯进外校去游玩，吵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756960" y="1989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与同学发生摩擦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作自我批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5840" y="907920"/>
            <a:ext cx="8594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80" y="1095480"/>
            <a:ext cx="87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活动四演讲 ：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自由上锁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1640" y="59364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7800" y="162864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组：行为规范共分哪五大部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87040" y="266400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一、自尊自爱，注重仪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二、诚实守信，礼貌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三、遵规守纪，勤奋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四、勤劳俭朴，孝敬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五、严于律己，遵守公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32200" y="2560680"/>
            <a:ext cx="39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组：请说出五种文明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76400" y="351936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请，谢谢，对不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没关系，再见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640" y="59364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31480" y="25909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组：交通方面应注意哪些事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6560" y="35812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遵守交通法规，不闯红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违章骑车，过马路走人行横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跨越隔离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640" y="59364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000" y="-50148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2360" y="998640"/>
            <a:ext cx="6400800" cy="7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7360" y="1133640"/>
            <a:ext cx="451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组：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传统三好生与新型三好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中的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三好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”各指什么内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3699000"/>
            <a:ext cx="6120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720" y="2575080"/>
            <a:ext cx="62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传统三好即品德好、学习好、思想好：新三好是在家做个好孩子，在校做个好学生，在社会做个好公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189000"/>
            <a:ext cx="70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00" y="54000"/>
            <a:ext cx="913608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640" y="189000"/>
            <a:ext cx="75423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7360" y="5545080"/>
            <a:ext cx="76928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280" y="-27792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2360" y="24843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组：任何人都有被误解而委屈的时候。假如上课时你本身没有说话，而老师点了你的名，你想对老师说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640" y="59364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280" y="-27792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1640" y="2754360"/>
            <a:ext cx="895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组、很多学生见到老师都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语文老师好”、“数学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好”之类的礼貌用语，你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为合适吗？请你任意说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们班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5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位任课教师的姓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640" y="593640"/>
            <a:ext cx="70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活动五：我看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200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640" y="2394000"/>
            <a:ext cx="9137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活动六  快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从小讲规范</a:t>
            </a:r>
            <a:r>
              <a:rPr b="1" lang="en-US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000" y="-281160"/>
            <a:ext cx="9144000" cy="683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520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又快又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06640" y="176364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、少数学生早晨做课外作业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你认为这是勤奋的表现吗？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简述理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000" y="-281160"/>
            <a:ext cx="9144000" cy="6831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06640" y="176364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、迟到进教室或者进老师办公室，怎样做才符合要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25200" y="549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又快又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6280" y="-241200"/>
            <a:ext cx="9144000" cy="682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7360" y="1809720"/>
            <a:ext cx="77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、下课后，值日生要负责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5200" y="907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又快又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00" y="-281160"/>
            <a:ext cx="9144000" cy="6831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68240" y="98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抢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06640" y="176364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4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、乘公共汽车，主动 买票 ，不争抢座位，要给 那些人让座？至少列举四类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38720" y="131436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活动七：为创建先进班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献计献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077000" y="1568520"/>
            <a:ext cx="1445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合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《让我们荡起双桨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6149880" y="4375080"/>
            <a:ext cx="1305000" cy="126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52360" y="1898640"/>
            <a:ext cx="72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谢谢光临   感谢指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080" y="9360"/>
            <a:ext cx="904392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6640" y="324000"/>
            <a:ext cx="7215120" cy="496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000" y="5276880"/>
            <a:ext cx="904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，在苏州市观前街口，几名青年男女过马路时翻越隔离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080" y="100080"/>
            <a:ext cx="9045360" cy="65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3080" y="235080"/>
            <a:ext cx="5803560" cy="63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33600" y="54000"/>
            <a:ext cx="2618280" cy="68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十月四日 ，工作人员展示被参观者济南五龙潭公园手抓致死的大量蝴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000"/>
            <a:ext cx="911844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6280" y="142920"/>
            <a:ext cx="8326440" cy="531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1280" y="5499000"/>
            <a:ext cx="900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，升旗仪式结束后，天安门广场附近的长安街上到处是垃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520" y="54000"/>
            <a:ext cx="90885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8080" y="144360"/>
            <a:ext cx="5580000" cy="661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183440" y="368280"/>
            <a:ext cx="10047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0680" y="54000"/>
            <a:ext cx="1003320" cy="66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十月二日，在济南市千佛山公园，一名小学生爬上雕像拍照留念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080" y="1095480"/>
            <a:ext cx="87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活动一：说说你观看这些图片之后的感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080" y="1095480"/>
            <a:ext cx="87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活动二小品：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就医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2000" y="2033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男子爱潇洒，女人爱漂亮，男生留长发显得更加英俊，女生烫发则显得更加俏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280" y="2079720"/>
            <a:ext cx="88664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2000" y="828720"/>
            <a:ext cx="8596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000" y="1224000"/>
            <a:ext cx="893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80" y="1095480"/>
            <a:ext cx="87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活动三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是对是错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4:18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4T01:30:13Z</dcterms:modified>
  <cp:revision>16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