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9.jpeg" ContentType="image/jpeg"/>
  <Override PartName="/ppt/media/image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2B4-C5D1-4449-AF7D-68439687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D3C-65F1-46C4-977E-9E148BD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FCE-579B-4CE5-8BFF-A1764E0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409-D326-447E-B133-08C67E35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11E-B1E3-49E8-910B-ADEB4F7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940-B1B7-474B-B88C-CD38464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200-FDE3-48C2-81FD-442CE86F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B92-7FFA-4CBE-941F-9A0A4A6F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E73-92E6-4D78-8940-7CC6E09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466-F2F0-4D74-B236-4571BC1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ED1-52AE-4F61-9030-5724D67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803-A7DB-42D4-94ED-E859464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B6B-B6D3-464E-A481-5D8DCBF25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" Target="slide3.xm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20960" y="1752480"/>
            <a:ext cx="516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千里之行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始于规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28954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我们应爱惜名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拾金不昧，不受利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12480" y="4572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二、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60240" y="2895480"/>
            <a:ext cx="94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、我们可以佩带首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披头散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2160" y="2782800"/>
            <a:ext cx="94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、我们要生活俭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不乱花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5440" y="2666880"/>
            <a:ext cx="10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、我们应佩带好校徽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红领巾，如遗失，需要及时补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2240" y="2816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我们可以因有事而不请假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随便旷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3520" y="281628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我们可以在操场上骑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280" y="2739960"/>
            <a:ext cx="61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参加各种活动时，要准时，不能吃零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1280" y="281628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不要把校外人带进校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也不闯进外校去游玩，吵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7200" y="2816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观看电影表演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可以说话，随便走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93920" y="2664000"/>
            <a:ext cx="10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评三好生只需要思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品德好和主课成绩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00400" y="-304920"/>
            <a:ext cx="11925360" cy="3809880"/>
            <a:chOff x="-3200400" y="-30492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00400" y="38088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387520" y="-30492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9760" y="121896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773720" y="233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方正舒体"/>
              </a:rPr>
              <a:t>我选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1219320"/>
            <a:ext cx="2209680" cy="165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133720" y="3429000"/>
            <a:ext cx="190476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19720" y="3581280"/>
            <a:ext cx="2057400" cy="2427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705720" y="1219320"/>
            <a:ext cx="1981080" cy="163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1088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036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判断正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46200" y="2892600"/>
            <a:ext cx="10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与同学发生摩擦只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不理他就行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13160" y="11764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三、自由发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895480"/>
            <a:ext cx="445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请举例说明或者以表演的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表现出良好的行为及不好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05720" y="11890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四、讨论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1360" y="2057400"/>
            <a:ext cx="60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请小组讨论，并举例说明，良好的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为对我们的学习生活的影响以及不良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行为习惯对我们的学习生活的影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84840" y="1568520"/>
            <a:ext cx="16315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小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《我为规范开药方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69880" cy="1417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387800" y="125244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歌曲欣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4840" y="2743200"/>
            <a:ext cx="44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华文行楷"/>
                <a:ea typeface="华文行楷"/>
              </a:rPr>
              <a:t>&lt;&lt;</a:t>
            </a:r>
            <a:r>
              <a:rPr b="1" lang="zh-CN" sz="4800" spc="-1" strike="noStrike">
                <a:solidFill>
                  <a:srgbClr val="009900"/>
                </a:solidFill>
                <a:latin typeface="华文行楷"/>
                <a:ea typeface="华文行楷"/>
              </a:rPr>
              <a:t>让我们荡起双桨</a:t>
            </a:r>
            <a:r>
              <a:rPr b="1" lang="zh-CN" sz="4800" spc="-1" strike="noStrike">
                <a:solidFill>
                  <a:srgbClr val="009900"/>
                </a:solidFill>
                <a:latin typeface="华文行楷"/>
                <a:ea typeface="华文行楷"/>
              </a:rPr>
              <a:t>&gt;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10820520" cy="822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2760" y="2520360"/>
            <a:ext cx="1521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《 我们从小讲规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  </a:t>
            </a:r>
            <a:r>
              <a:rPr b="0" lang="zh-CN" sz="48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快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17720" y="1600200"/>
            <a:ext cx="3594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说千条，道万条，讲规范是第一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千件宝，万件宝，不如规范价更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规范是颗水晶石，遵守规范心灵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规范是盏红绿灯，人生道路它引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中学生们守规范，思想品德往上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成年人们守规范，世界变得更美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规范从我来做起，小事体现新风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我们从小讲规范，精心培育规范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66"/>
                </a:solidFill>
                <a:latin typeface="宋体"/>
              </a:rPr>
              <a:t>明日长成参天树，规范花香四季飘。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1219320" cy="90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01000" y="5867280"/>
            <a:ext cx="434880" cy="76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-152280" y="533520"/>
            <a:ext cx="1371600" cy="65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893320" y="1295280"/>
            <a:ext cx="3146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诗歌朗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隶书"/>
                <a:ea typeface="隶书"/>
              </a:rPr>
              <a:t> </a:t>
            </a:r>
            <a:r>
              <a:rPr b="1" lang="zh-CN" sz="5400" spc="-1" strike="noStrike">
                <a:solidFill>
                  <a:srgbClr val="660066"/>
                </a:solidFill>
                <a:latin typeface="隶书"/>
                <a:ea typeface="隶书"/>
              </a:rPr>
              <a:t>&lt;&lt;</a:t>
            </a:r>
            <a:r>
              <a:rPr b="1" lang="zh-CN" sz="5400" spc="-1" strike="noStrike">
                <a:solidFill>
                  <a:srgbClr val="660066"/>
                </a:solidFill>
                <a:latin typeface="隶书"/>
                <a:ea typeface="隶书"/>
              </a:rPr>
              <a:t>种下一个好习惯</a:t>
            </a:r>
            <a:r>
              <a:rPr b="1" lang="zh-CN" sz="5400" spc="-1" strike="noStrike">
                <a:solidFill>
                  <a:srgbClr val="660066"/>
                </a:solidFill>
                <a:latin typeface="隶书"/>
                <a:ea typeface="隶书"/>
              </a:rPr>
              <a:t>&gt;&g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5335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倡导规范、告别陋习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         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人人争做规范中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一、倡导文明礼貌用语，反对讲粗话、脏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二、倡导讲卫生，按时做值日，反对偷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三、倡导文明休息，反对追逐打闹、无故喧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四、倡导注重个人仪表，男生不留长发，女生不穿高跟鞋，             不佩带首饰，反对奇装异服，衣冠不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五、倡导上课专心听讲，积极参与，按时完成作业，反对拖        欠抄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六、倡导养成良好卫生习惯，反对随地吐痰，乱扔废弃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七、倡导爱校护校，维护学校声誉，反对歪曲学校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八、倡导同学间友好相处，互相帮助，反对破坏团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920960" y="1752480"/>
            <a:ext cx="516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千里之行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       </a:t>
            </a:r>
            <a:r>
              <a:rPr b="1" lang="zh-CN" sz="8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始于规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02760" y="954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一、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4240" y="28954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隶书"/>
              </a:rPr>
              <a:t>行为规范共分哪五大部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36400" y="3649680"/>
            <a:ext cx="286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一、自尊自爱，注重仪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二、诚实守信，礼貌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三、遵规守纪，勤奋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四、勤劳俭朴，孝敬父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五、严于律己，遵守公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101080" y="601992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06560" y="27432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上下课时同学们应如何做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4840" y="37339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上、下课起立向老师致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下课时，请老师先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76320" y="25909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交通方面应注意哪些事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6560" y="358128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遵守交通法规，不闯红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违章骑车，过马路走人行横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跨越隔离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14400" y="2560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我校的校风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14400" y="34686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崇德健康，立志博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89200" y="248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上课迟到了，该怎么办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24560" y="32004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教室门口立正喊“报告”，经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同意后，再进入教室，动作要轻、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90720" y="2560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请说出五种文明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2040" y="35812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请，谢谢，对不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没关系，再见。。。。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7760" y="954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520" y="838080"/>
            <a:ext cx="674640" cy="979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91440" y="259092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降国旗时，奏唱国歌的时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我们应该怎样，老师应该怎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24120" y="380988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老师肃立，脱帽、行注目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少先队员行队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5815080"/>
            <a:ext cx="1195560" cy="1042920"/>
          </a:xfrm>
          <a:custGeom>
            <a:avLst/>
            <a:gdLst>
              <a:gd name="textAreaLeft" fmla="*/ 67320 w 1195560"/>
              <a:gd name="textAreaRight" fmla="*/ 1128240 w 11955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4760" h="21600">
                <a:moveTo>
                  <a:pt x="0" y="0"/>
                </a:moveTo>
                <a:lnTo>
                  <a:pt x="24760" y="0"/>
                </a:lnTo>
                <a:lnTo>
                  <a:pt x="24760" y="21600"/>
                </a:lnTo>
                <a:lnTo>
                  <a:pt x="0" y="21600"/>
                </a:lnTo>
                <a:close/>
              </a:path>
              <a:path fill="lightenLess" w="24760" h="21600">
                <a:moveTo>
                  <a:pt x="0" y="0"/>
                </a:moveTo>
                <a:lnTo>
                  <a:pt x="24760" y="0"/>
                </a:lnTo>
                <a:lnTo>
                  <a:pt x="23360" y="1400"/>
                </a:lnTo>
                <a:lnTo>
                  <a:pt x="1400" y="1400"/>
                </a:lnTo>
                <a:close/>
              </a:path>
              <a:path fill="darken" w="24760" h="21600">
                <a:moveTo>
                  <a:pt x="24760" y="0"/>
                </a:moveTo>
                <a:lnTo>
                  <a:pt x="24760" y="21600"/>
                </a:lnTo>
                <a:lnTo>
                  <a:pt x="23360" y="20200"/>
                </a:lnTo>
                <a:lnTo>
                  <a:pt x="23360" y="1400"/>
                </a:lnTo>
                <a:close/>
              </a:path>
              <a:path fill="darkenLess" w="24760" h="21600">
                <a:moveTo>
                  <a:pt x="2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0" y="20200"/>
                </a:lnTo>
                <a:close/>
              </a:path>
              <a:path fill="lighten" w="2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60" h="21600">
                <a:moveTo>
                  <a:pt x="5374" y="10800"/>
                </a:moveTo>
                <a:lnTo>
                  <a:pt x="19387" y="3794"/>
                </a:lnTo>
                <a:lnTo>
                  <a:pt x="193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4:18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8:37Z</dcterms:modified>
  <cp:revision>1</cp:revision>
  <dc:subject>主题班会课件(分28大类): http://shop62905894.taobao.com</dc:subject>
  <dc:title>主题班会课件(分28大类): http://shop62905894.taobao.com</dc:title>
</cp:coreProperties>
</file>