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F5F-F1C5-4ABF-90F1-0E120A8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839-3713-4B7A-B900-D768AE18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8F2-AE10-4B55-AB7A-C1698249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C8F-A656-4DA7-84D1-47E302EF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FF9-BE5C-4FAC-AD52-65DD06C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6F8-BDA6-4EB8-ACB9-B9D6CBFA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4BE-B02A-4C2E-8272-649C67F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0D2-13AC-446C-A69B-2ED2209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D10-B2C6-4568-A683-C37D643E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70-A0CD-4860-9CBA-1C3EC70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A0A-2EA1-47A9-BC65-FC1659F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939-4FBE-4D65-A599-9F56D99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27D-0DB1-4586-82FE-A17AC9D820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56.com/u58/v_MjE1Mjc0ODc.html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333360"/>
            <a:ext cx="684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七周班会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2421000"/>
            <a:ext cx="597708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和班规交朋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5373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8840" y="274680"/>
            <a:ext cx="39477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三大纪律八项注意歌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革命军人个个要牢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大纪律八项要注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一切行动听指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步调一致才能得胜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不拿群众一针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群众对我拥护又喜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一切缴获要归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努力减轻人民的负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大纪律我们要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八项注意切莫忘记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说话态度要和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尊重群众不要耍骄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买卖价钱要公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买公卖不许逞霸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借人东西用过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面归还切莫遗失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若把东西损坏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照价赔偿不差半分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不许打人和骂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军阀作风坚决克服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六爱护群众的庄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军作战处处注意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七不许调戏妇女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流氓习气坚决要除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八不许虐待俘虏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许打骂不许搜腰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遵守纪律人人要自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互相监督切莫违反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革命纪律条条要记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民战士处处爱人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卫祖国永远向前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国人民拥护又欢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413000"/>
            <a:ext cx="8064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一定非常喜欢解放军叔叔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是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中国人民解放军是一支纪律严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英勇善战的队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在工农革命时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毛泽东主席就给这支人民的军队制定了铁的纪律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&lt;&lt;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三大纪律八项注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&gt;&gt;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25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260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找规则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14280"/>
            <a:ext cx="8497800" cy="626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5280" y="32846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后面图片上的小学生违反了什么规则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你会怎样劝说他</a:t>
            </a:r>
            <a:r>
              <a:rPr b="0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每个同学回家制订一份适合自己班上的班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8:07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5:08Z</dcterms:modified>
  <cp:revision>25</cp:revision>
  <dc:subject>主题班会课件(分28大类): http://shop62905894.taobao.com</dc:subject>
  <dc:title>主题班会课件(分28大类): http://shop62905894.taobao.com</dc:title>
</cp:coreProperties>
</file>