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5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8.png" ContentType="image/png"/>
  <Override PartName="/ppt/media/image9.gif" ContentType="image/gif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563-9478-4D48-8FBD-60D9CECB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CB7-56B5-4AF1-9E45-2CA10523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EA2E-FB48-400F-9CF1-9BD472D9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1A6-B33A-44AC-9263-C3E9594C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510F-6975-4D41-8C17-A08F163F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2332-3C5D-4A80-9AC7-B29E6048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3D7F-5724-4456-AAF2-4939C0B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6DE7-BF56-42EC-A899-AA4BBA89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BC0-95FE-4C58-B4DE-1AFF202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950D-14A4-4339-95B3-6CC5D44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B6A-46D5-49E2-9F80-BD9C600D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256-9E59-4D84-A683-1615F67E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CC0-E907-4B50-A4EB-289B39B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8E96-28DB-4F33-894A-41462F46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E4B-9617-4BFE-B0B1-F0E16198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5304-6D11-40B2-B25F-E79FC965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0264-78B2-48FA-9EDA-63D5C407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2EB-67C4-4E2D-B64E-01F03D55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901-45B9-4BF3-BC1C-755055E3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3C1-1B01-4D7C-A965-E1CC4357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E5D-BEDE-4D47-A334-EF135CDB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EE8-7CF4-4CB2-B662-1616541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8F3-987D-44B3-8662-73159668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4AD-4C4E-445E-8258-435871C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BCE1-85FC-4067-821F-AAF22E06529D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566-F8A4-46CF-A71F-A9CF0AEF1A19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0920" y="0"/>
            <a:ext cx="691344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活动时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2349360"/>
            <a:ext cx="417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：交换座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4338720"/>
            <a:ext cx="4608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：按规则交换座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活动感</a:t>
            </a:r>
            <a:r>
              <a:rPr b="0" lang="zh-TW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言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、你认为这两次活动有什么区别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、是什么影响了这两次活动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8360" y="110952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740720" y="5013360"/>
            <a:ext cx="1152360" cy="1316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835280" y="260280"/>
            <a:ext cx="93636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我与班规同行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如果没有班规的约束，我会是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如果没有班规的约束，我们会是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当我违反班规时，我希望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当别人违反班规时，我希望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我心目中的班级应该是这样的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8360" y="110952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1152360" cy="1316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659640" y="18900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1619280" y="260280"/>
            <a:ext cx="93672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701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我们的约定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2401920"/>
            <a:ext cx="7786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一、文明礼仪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二、考勤制度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三、学风纪律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四、环境卫生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五、安全事项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792000" cy="58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2457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900000" y="5805360"/>
            <a:ext cx="7272360" cy="673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740720" y="333360"/>
            <a:ext cx="100800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3680" cy="6770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宋体"/>
                <a:ea typeface="华文宋体"/>
              </a:rPr>
              <a:t>从今天起，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华文宋体"/>
                <a:ea typeface="华文宋体"/>
              </a:rPr>
              <a:t>           我将是一个全新的我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093080" y="5589720"/>
            <a:ext cx="1747800" cy="109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272360" y="44280"/>
            <a:ext cx="1692360" cy="787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042920" y="2611440"/>
            <a:ext cx="7134120" cy="312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4802040"/>
            <a:ext cx="3686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68360" y="2708280"/>
            <a:ext cx="4794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坚持原则，时刻提醒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身作则，互相监督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3:39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4:57Z</dcterms:modified>
  <cp:revision>45</cp:revision>
  <dc:subject>主题班会课件(分28大类): http://shop62905894.taobao.com</dc:subject>
  <dc:title>主题班会课件(分28大类): http://shop62905894.taobao.com</dc:title>
</cp:coreProperties>
</file>