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AA04-971D-4B4D-9CE5-98083B54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37CE-101C-4991-A3DF-72058DB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CC687-B6DF-447C-A18D-21E9D5C6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36B4B-4B3A-4EB3-AB92-79FEFEA9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56699-3E10-4BD5-9408-2F8638E4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A0876-FC2A-4399-B673-59AE4E9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36A83-5252-453E-91CE-1F332C70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D9226-E7BC-4300-A9C3-419C4AA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A7DA9-6E59-427F-8827-155099B1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A4FB8-6E9A-4E1B-906A-A672C2A7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F2469-FD58-4E4A-8BC7-ED49A0CE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EA7D6-15C3-4A13-8B2E-12EC5C6B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E801-268A-4A90-AAC4-0343C6B3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DAB01-1C84-4CC9-A848-FA070054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119D4-7168-41C9-903F-4B6D5CD1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77738-9BB0-41E9-8F60-23A21837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EA80B-6913-4491-85B6-BFF6FE3E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EC086-3758-483E-8C78-F1EADC8D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B70BD-6311-4C6D-B878-2C822A1A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51111-E358-4BBC-AF88-ED9ECF25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811C7-C3E6-45A7-A5E7-D32C9F6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28D7E-25D5-4E0A-A17F-E1EECDE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46D08-BE69-4E58-A2B4-E8EBF0C6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4C20-3F44-42BD-8E44-4CF5E120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A674A-1607-41A2-8B2B-776553AC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E52C4-88FE-414F-B412-DAB3B840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33721-5E14-43D2-AB0D-07A278DA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44152-3F45-494B-91C4-4B37F6A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931D1-EE39-4803-A5D7-745D8CD4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E79BD-52CF-43E8-9BE5-C7BC93BB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D5B85-5F58-48AB-82B2-6245144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A834B-D0DA-49FB-BF59-EA599FF2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28BEF-F8DD-45A3-BBCE-4C69F42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96EF8-BEF3-4CC2-B9B8-851758A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0A83-4489-4280-946C-904A968B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30476-9CCC-43B9-947B-15AF4748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2FB19-8856-4B2D-BF97-DBCACD6A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77D0E-6802-4254-9A16-96D1FF1A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5A8E4-D7F1-462A-A41F-4E2D80CB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6FDF4-16EA-4D22-A55D-CE08FA84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24021-BBE6-42DC-8BA9-0B042C92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005D7-94BE-4E89-A4B0-C0A44141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BA2C8-0B98-47B8-8620-DB1D840E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BAA6D-011F-49EF-B14D-2084E80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671A4-71A4-4630-A459-457779A9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A3FC-BC4C-4F86-BA32-558764B7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8ED9F-8AF2-42D2-8189-3377B147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25B62-C412-4648-9BFE-D4938A80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CC3C4-928A-4315-8B13-FB1A8EDF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4CAAA-5F5B-456F-92C5-723598BE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CBF72-9553-44E5-86D9-28D8E3CE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682A3-01A2-4F77-A006-064889D2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84B7E-BA2E-4712-9F86-C6A9CA54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907E7-4502-49BD-9991-1A6FD0EA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FDC1C-2052-4BAE-8CF0-BBDDF86B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8DCA4-1B6E-46FC-9423-19B82A39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CCD2-BB08-4385-A584-297B727B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26D3C-DA64-4DFE-94F2-1DCBF48F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8A62B-B631-4003-8684-458DBEC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A54B0-C326-414E-ABB9-987B0C2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C39B3-9879-43C3-A41E-16505D3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16AA0-A282-4152-A871-E447B3A4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DBF3E-DE83-4B16-AA67-063EFDF2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410B21-1486-4231-9466-0A00A076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90BC0-39E7-4673-8D71-16B5C6C8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BFE96-0918-433D-94DF-F054500E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C6255-8A5D-4211-816F-7BBDB672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CE90-0760-42D7-839E-40327F53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85FC4-9FB6-41AE-A7B3-0233C6EC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69513-BC66-40DD-A3AB-D2592560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D6E5E-3E18-46C9-B8A0-932E35D5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3F7A1-C283-4C54-9FE2-C7A49602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725AD-B7EC-47FA-B1FC-37229F4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FA463-935E-4681-BF56-6FF4C387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09E99-F008-4E67-83B4-423957DE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6C238-5541-407E-B908-BD87D704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4EFEB-0D8E-4E58-A118-322BBBB2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4D20-BDB7-4B9F-BBD0-1EBAE4E3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BBE4-E0E8-4829-BE17-880BF540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8765-5198-4D2E-8C97-FEE1279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2288-52AD-495E-B65E-2421D31F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DE6F-36BB-4FEF-B905-3E3DB115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7922-8BE4-426A-89E1-5DD58809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99B6-C085-49E8-86EA-145F941C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6D6A-DC71-4E73-9C70-1304F3C5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697A-F8CA-4E37-8033-30905D89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5DB9-3AEA-4EA9-9D91-38122071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9C47-96E1-406F-AFB9-75ADF401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293A-B41A-4339-8769-809B7B52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4962-C74D-4E59-8BE9-D53BC03A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B55F-21D4-4773-B593-4E78CB6C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6DFD-539F-4FDD-99B0-29729D7B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BA96-8169-46EA-B388-D7ABAD31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77F7-4717-4DC9-8CC8-B4ADC41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38D6-E02A-430A-836E-73C967E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1FD8-122C-401C-9D3C-2449530B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8FD5-C18F-496A-8FF1-F6B0D1EF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1A3F-84FA-482B-B1C3-726E9324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0EC4-5605-40EA-8FC7-81A8B0E3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7DAFC-1A00-437D-8773-875B53F5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3E0A-AD43-4E04-969D-5654BC66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C041-DDF0-47C3-9FC5-24EEDA6C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303E-ED68-41F0-8484-AC2468DB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737C-A086-4457-AAB0-68B22D1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ABB6-CEA4-4476-A2A3-95289F23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994F-E505-4EED-934C-623F692D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3E44D-F554-4F78-AFDB-E3F3BB63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538DF-84FE-40B2-94B2-8A4363AB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297A-E696-4B91-888B-48994CEB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AC1B-F2E1-4A73-BA8B-990D8C45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82E9-25C1-48C9-838E-5D01CA36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4549-5DAF-471E-9EA9-99B0F9DA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00F84-D814-4EBA-BB1C-81A2F653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FA38-2C6B-45C9-9F89-F5059AC8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0AA54-5381-4081-AD3E-4941A218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AC5A9-A3D3-40C5-8DB9-7D010D09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FB207-8C7B-42D7-8763-4F1CD429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7359-DFF8-4D47-A8F3-4C1011F5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99EB5-9557-4D6F-A663-6F2CDE51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1766A-A5E2-4CE8-89A5-E0A6CF7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31A7-6F61-486F-A38F-72A5B1C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D5C7-A3C1-47B9-AFB6-49E44DC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E0B15-0FEC-47AE-815A-FFA32EA0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1DE82-3089-47EC-9B44-56FEFF5B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BBE3-9239-4AC0-BEA5-730A81B3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14DF-248F-427F-96F4-5AF5F1E4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86815-5717-4B48-87E1-AC36EF01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E9AB0-70C3-4BA1-83DE-C69C488A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39F2F-6F8F-4FB5-ADF8-567DDB23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7B415-70D6-49EB-8BF3-FEF3F3CE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08417-1AE9-44F6-9D2F-3B2506E6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CC68-9D95-4D14-A84D-006B4F54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8D60-0EB6-4E00-BF63-04EB53CC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3AE5A-57C9-4D2D-8CB4-5D8B3A10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CD6CC-1750-461A-A9B9-F76405CA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CB11-9C01-44DF-AA31-D65EBB9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242A-5C06-4D7B-9A5E-4BF2DB15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6C9B-B7F7-42E3-8393-EE8EB213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824F1-1B2B-465B-BE5D-9E52E881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47254-0E49-40F0-B52F-F2FE7F2F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4266-28F9-47E4-88C3-2707C237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13E2-20AD-49A2-A68F-37A3CB47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5CF49-5B94-4916-A5C5-328925D4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571B0-C9EC-413E-A870-1C88C1B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1FCDE-1878-4828-A622-FAAC845D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1FD5B-A9FE-4AD4-B620-F2974B9D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0D48-0321-4608-A6BF-B4DEC2E2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C950C-7B1D-4DC1-A559-7746B5CB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27F87-0649-4996-AF7B-208E89E5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F6CE5-8FC4-49FB-B45E-D7ABFE6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4B3AF-08D3-4416-8A25-45C8B179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3D31A-687E-4FFA-AA56-1CB6B819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9F9FB-99B9-442C-AD22-401C9E26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59ADE-0B0E-4C1E-A618-C20189F2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D4243-DC24-4C27-9263-7096DE4A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985DF-68A7-4DB4-BCDE-14BDCDFC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1DA2-7574-4EA1-8F88-BFF68191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DB4C-D1F1-416F-8181-80A15D0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69A89-CD09-4CFB-B53B-965831B8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E45F7-647C-4B29-9071-7DD804B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6F140-1155-4013-B13B-FF973492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E4477-C9A0-4C8D-B350-33E7031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39B0B-31F4-4CBA-9A10-61DBC27E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F5401-98B0-4EE2-A096-C349EC12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4F8EF-7622-4B8A-8E38-5125C605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43B0F-1841-422F-88D6-02652398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7FB7F-5143-42D5-952A-055F64BA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B9E0B-6B66-4E47-8158-9C20E6B9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895-A8B6-47B3-BDB5-8B2CC3DFEF04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E749-9F84-49BE-BA31-A85AA9EDBC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2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F4EF-2EF0-4DBA-904A-9B2AC8B06CB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0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C812-0E02-499D-8ABC-D916DB04C69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8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7BF5-F9CC-4FD7-A92E-8CE9E9278552}" type="slidenum">
              <a:rPr b="0" lang="zh-CN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4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C5F3-5C26-426D-83DB-4B44D30E1224}" type="slidenum">
              <a:rPr b="0" lang="zh-CN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6061-D281-4D36-8CFF-0B7EC80840F4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FDD2-02FC-48FF-91B9-AA673B72D8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A744-3D2A-4286-BB58-6FD961F06F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916A-52A3-4C84-B8B9-94AB13ACA61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8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40F2-E26F-4D7C-8C98-C4CC7A0A607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9A85-D2BE-495C-9427-1EB92ADD69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92B4-E6E2-450F-B6A5-7F4E1F180F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0A3F-9E54-4FA3-9771-7850015631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0&amp;tn=baiduimagedetail&amp;word=%BF%A8&#872;+%BD%BB&#872;%B9%E6%D4%F2&amp;in=26275&amp;cl=2&amp;cm=1&amp;sc=0&amp;lm=-1&amp;pn=3&amp;rn=1&amp;di=736779012&amp;ln=8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0&amp;tn=baiduimagedetail&amp;word=%BF%A8&#872;+%BD%BB&#872;%B9%E6%D4%F2&amp;in=4660&amp;cl=2&amp;cm=1&amp;sc=0&amp;lm=-1&amp;pn=0&amp;rn=1&amp;di=2303586964&amp;ln=8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0&amp;tn=baiduimagedetail&amp;word=%B9%D8%D3&#1712;%B2&#555;%B5%C4%C2%FE%BB%AD&#892;&#428;&amp;in=16106&amp;cl=2&amp;cm=1&amp;sc=0&amp;lm=-1&amp;pn=7&amp;rn=1&amp;di=1012330884&amp;ln=376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371600"/>
            <a:ext cx="8089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Monotype Corsiva"/>
                <a:ea typeface="华文行楷"/>
              </a:rPr>
              <a:t>什么是规则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规则：规定出来供大家共同遵守的制度或章程。（普遍性）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　　规则可以是由书面形式规定的成文条例；也可以是约定俗成，流传下来的不成文规定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　　而更多的时候，规则是因为得到每个社会公民承认和遵守而存在的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　　规则，是以一种可持续可预测的方式运用信息的系统性决策程序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　　规则是多种多样的，规则使我们的生活社会更有条理。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幼圆"/>
              </a:rPr>
              <a:t>讲规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所谓规则意识，是指是发自内心的、以规则为自己行动准绳的意识。比如说遵守校规、遵守法律、遵守社会公德、遵守游戏规则的意识。偷车一事，规则意识是现代社会每个公民都必备的一种意识。规则意识有三个层次，它首先是指关于规则的知识。比如说，不偷不盗、爱国守法、明礼诚信、团结友善、勤俭自强、敬业奉献、爱护环境、讲究卫生、遵守学校纪律、尊敬师长，等等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99ff"/>
                </a:solidFill>
                <a:latin typeface="Arial"/>
                <a:ea typeface="幼圆"/>
              </a:rPr>
              <a:t>小结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华文彩云"/>
              </a:rPr>
              <a:t>无论是名人还是一个伟大的人，规则是每个人必须遵守的规章制度，规则是为人服务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-152640" y="685800"/>
            <a:ext cx="9070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99"/>
                </a:solidFill>
                <a:latin typeface="Arial"/>
                <a:ea typeface="华文行楷"/>
              </a:rPr>
              <a:t>谈谈你的感受</a:t>
            </a:r>
            <a:endParaRPr b="0" lang="en-US" sz="8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-991080" y="502920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09480" y="1676520"/>
            <a:ext cx="7467840" cy="32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04920"/>
            <a:ext cx="847080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685800"/>
            <a:ext cx="85345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895480" y="5334120"/>
            <a:ext cx="30481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二小组主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0880" y="-1600200"/>
            <a:ext cx="838224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和规则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方正舒体"/>
                <a:ea typeface="方正舒体"/>
              </a:rPr>
              <a:t>名人故事</a:t>
            </a:r>
            <a:r>
              <a:rPr b="0" lang="zh-CN" sz="4400" spc="-1" strike="noStrike">
                <a:solidFill>
                  <a:srgbClr val="dbbd71"/>
                </a:solidFill>
                <a:latin typeface="方正舒体"/>
                <a:ea typeface="方正舒体"/>
              </a:rPr>
              <a:t>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《列宁守纪的故事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有一次列宁去克里姆林宫理发室理发。当时，这个理发室只有两个理发师，忙不过来，很多人都坐着排队，等候理发。列宁进去后，大家连忙让座，并且请列宁先理，可是列宁却微笑着对大家说：“谢谢同志们的好意。不过这样做是要不得的，每个人都应该遵守公共秩序，按照先后次序理发。”他说完后，就随手搬了一把椅子，坐在最后一个位置上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方正舒体"/>
                <a:ea typeface="方正舒体"/>
              </a:rPr>
              <a:t>名人故事</a:t>
            </a:r>
            <a:r>
              <a:rPr b="0" lang="zh-CN" sz="4400" spc="-1" strike="noStrike">
                <a:solidFill>
                  <a:srgbClr val="dbbd71"/>
                </a:solidFill>
                <a:latin typeface="方正舒体"/>
                <a:ea typeface="方正舒体"/>
              </a:rPr>
              <a:t>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ahoma"/>
              </a:rPr>
              <a:t>《无论谁都要遵守制度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ahoma"/>
              </a:rPr>
              <a:t>一次，周恩来去北戴河，需要看世界地图和一些书籍。工作人员给北戴河文化馆打电话，说有位领导要看世界地图和其他一些书籍。接电话的小黄回答：“我们有规定，图书不外借，要看请自己来。”周恩来便冒雨到图书馆借书。小黄一见是周总理，心里很懊悔，总理和蔼的说：“无论谁都要遵守制度。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979a5"/>
                </a:solidFill>
                <a:latin typeface="Arial"/>
                <a:ea typeface="华文行楷"/>
              </a:rPr>
              <a:t>看完两个故事后，谈谈你的感受吧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七嘴八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圣王者不贵义而贵法，法必明，令必行，则已矣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——</a:t>
            </a: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《韩非子</a:t>
            </a: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八说》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求必欲得，禁必欲止，令必欲行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——</a:t>
            </a: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《管子</a:t>
            </a: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版法》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言无二贵，法无两适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——</a:t>
            </a: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《韩非子</a:t>
            </a: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问辩》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1447920" y="0"/>
            <a:ext cx="5562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名人说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严禁煽动民族仇恨、宣扬民族歧视，破坏民族团结。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绿灯亮时，准许车辆、行人通行，但转弯的车辆不准妨碍直行的车辆和被放行的行人通行；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参加升国旗仪式，身穿校服，佩戴校章，讲究整洁，准时到位，行注目礼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答案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国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交通规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校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533520" y="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家来猜猜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8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4:45Z</dcterms:modified>
  <cp:revision>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