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5D45-C72A-4F25-8982-C9072D46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575-A0B6-48C0-9C02-B40526C0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E205-A332-4415-A1E6-5182D2C7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B13-25F6-47A7-87C0-C48E60F2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4762-1C92-4F21-BCA6-8904E366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0F8B-F151-488E-9F4C-B109CDD5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3C1E-E112-4216-81FA-B181CBBB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AA5-DEF4-47DA-94FE-0A906ADA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4EF7-7829-4DE2-97FB-0977B636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096-0114-469E-A1F8-451A466E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A3C-178A-492D-A0FE-0B214803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C15-0296-4865-AA4E-A13D258A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8AF8-D009-4AD8-ADA3-5D9C64BC81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3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411280" y="1341360"/>
            <a:ext cx="4179960" cy="23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帅哥美女们好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35280" y="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潜龙学校第七周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32000" y="1700280"/>
            <a:ext cx="6408720" cy="23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没有规则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,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不成方圆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7" name=""/>
          <p:cNvSpPr/>
          <p:nvPr/>
        </p:nvSpPr>
        <p:spPr>
          <a:xfrm>
            <a:off x="4624920" y="623736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持人：刘劲　肖铭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33840" y="547560"/>
            <a:ext cx="37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怎么看待规则？规则对你有什么用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0640" y="12682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规则可以是由书面形式规定的成文条例；也可以是约定俗成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流传下来的不成文规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299736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社会是由人集合而成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社会活动是人的活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们活动的动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目的往往不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果没有行为的规矩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各行其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社会就会混乱不堪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陷入毫无秩序的彼此冲突之中．所以规则十分的重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340000" y="260280"/>
            <a:ext cx="415440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口水大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4" name=""/>
          <p:cNvSpPr/>
          <p:nvPr/>
        </p:nvSpPr>
        <p:spPr>
          <a:xfrm>
            <a:off x="3399840" y="4724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规则：用口水把报纸喷湿就是胜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25120" y="1341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游戏到此结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8880" y="31417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现在大家想象一下——如果这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游戏没有规则，玩家看到这游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名字，会有何想法，会怎么玩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92960" y="549360"/>
            <a:ext cx="51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规则作为人们生活的规范和准则，它存在于生活的时时处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影响着人们生活的方方面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429264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活中有哪些规则与我们息息相关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68600" y="1916280"/>
            <a:ext cx="247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既然大家对规则都有如此深的见解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妨大家都参与我们七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班班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制定吧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333360"/>
            <a:ext cx="851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八个小组分别讨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&amp; 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学习 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&amp; ⒋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纪律   ⒌礼仪⒍ 小组  ⒎卫生   ⒏品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规则：班规的制定必须结合班级实际情况，不要说大话空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每条班规必须包括奖励和惩罚两项，奖罚分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每一部分班规的制定不超过五条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48988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83960" y="707040"/>
            <a:ext cx="7290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今天的班会到此结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82080" y="-849600"/>
            <a:ext cx="1277640" cy="88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帅哥美女们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01:40:1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33:59Z</dcterms:modified>
  <cp:revision>6</cp:revision>
  <dc:subject>主题班会课件(分28大类): http://shop62905894.taobao.com</dc:subject>
  <dc:title>主题班会课件(分28大类): http://shop62905894.taobao.com</dc:title>
</cp:coreProperties>
</file>