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6.jpeg" ContentType="image/jpeg"/>
  <Override PartName="/ppt/media/image12.png" ContentType="image/png"/>
  <Override PartName="/ppt/media/image11.png" ContentType="image/png"/>
  <Override PartName="/ppt/media/image9.png" ContentType="image/png"/>
  <Override PartName="/ppt/media/image6.gif" ContentType="image/gif"/>
  <Override PartName="/ppt/media/image7.gif" ContentType="image/gif"/>
  <Override PartName="/ppt/media/image19.gif" ContentType="image/gif"/>
  <Override PartName="/ppt/media/image5.png" ContentType="image/png"/>
  <Override PartName="/ppt/media/image10.png" ContentType="image/png"/>
  <Override PartName="/ppt/media/image17.gif" ContentType="image/gif"/>
  <Override PartName="/ppt/media/image3.png" ContentType="image/png"/>
  <Override PartName="/ppt/media/image14.gif" ContentType="image/gif"/>
  <Override PartName="/ppt/media/image20.png" ContentType="image/png"/>
  <Override PartName="/ppt/media/image18.png" ContentType="image/png"/>
  <Override PartName="/ppt/media/image15.gif" ContentType="image/gif"/>
  <Override PartName="/ppt/media/image2.png" ContentType="image/png"/>
  <Override PartName="/ppt/media/image1.jpeg" ContentType="image/jpeg"/>
  <Override PartName="/ppt/media/image4.gif" ContentType="image/gif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FB2A-AA3B-4E88-8D75-68242BD51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EE37-2920-45E2-870D-A46875F9A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96BC-4B14-41DA-BF9C-AB98A8008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82D3-810B-4346-853E-80113BA0A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E1217-73A3-4C6A-90F4-4A0EA62A8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7502A-9B2D-46E2-A427-66D7B1A24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50D7E-8366-47FE-841A-4529F515D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E96D4-5E64-4BB0-8B6E-0A0A894EA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5F538-5141-4E2F-ADA5-17588B86A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6FAAA-7C65-45A5-A9E8-374CC77AC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2612D-1219-4F75-B67E-AA9DB527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A7CA-19E3-4FCE-8D9D-585262B6A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28922-07DC-489A-802C-6ABCAB94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02351-E441-41C7-BEEE-8FF11EEC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99A1A-BC37-4FAF-AB74-E955608DE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D8AE0-D13B-4681-87DB-F8F8C112D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FF76E-B998-489B-B806-64BB17729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C88E-FF69-4A47-B141-699FD937C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BFE5-59DA-4F24-8896-76911A6F4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30D4-7C96-49DA-81ED-455978E32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F4CF-174E-4363-92F4-733F5E337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3FE2-FE93-4368-BA3B-037321DD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BEB5-7244-45CA-A552-CDEDED6F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FF44-344C-4097-90C6-29C30532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5408-8D44-4D73-98AF-D8A02D373C02}" type="slidenum">
              <a:rPr b="0" lang="zh-TW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B83E3-25A2-4004-B53E-0D6BFAD8DCDC}" type="slidenum">
              <a:rPr b="0" lang="zh-TW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image" Target="../media/image15.gif"/><Relationship Id="rId8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image" Target="../media/image18.png"/><Relationship Id="rId4" Type="http://schemas.openxmlformats.org/officeDocument/2006/relationships/image" Target="../media/image19.gif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42800" y="67428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66"/>
                </a:solidFill>
                <a:latin typeface="Verdana"/>
                <a:ea typeface="華康少女文字W6"/>
              </a:rPr>
              <a:t>我与班规同行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2340000" y="3914640"/>
            <a:ext cx="314280" cy="4669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2124000" y="2762280"/>
            <a:ext cx="314280" cy="4665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4064040" y="4229280"/>
            <a:ext cx="458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627280" y="270828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Verdana"/>
              </a:rPr>
              <a:t>班级</a:t>
            </a:r>
            <a:r>
              <a:rPr b="1" lang="zh-TW" sz="3200" spc="-1" strike="noStrike">
                <a:solidFill>
                  <a:srgbClr val="ff6600"/>
                </a:solidFill>
                <a:latin typeface="Verdana"/>
              </a:rPr>
              <a:t>:</a:t>
            </a:r>
            <a:r>
              <a:rPr b="0" lang="zh-CN" sz="3200" spc="-1" strike="noStrike">
                <a:solidFill>
                  <a:srgbClr val="ff6600"/>
                </a:solidFill>
                <a:latin typeface="Verdana"/>
              </a:rPr>
              <a:t>初一（</a:t>
            </a:r>
            <a:r>
              <a:rPr b="0" lang="en-US" sz="3200" spc="-1" strike="noStrike">
                <a:solidFill>
                  <a:srgbClr val="ff6600"/>
                </a:solidFill>
                <a:latin typeface="Verdana"/>
              </a:rPr>
              <a:t>2</a:t>
            </a:r>
            <a:r>
              <a:rPr b="0" lang="zh-CN" sz="3200" spc="-1" strike="noStrike">
                <a:solidFill>
                  <a:srgbClr val="ff6600"/>
                </a:solidFill>
                <a:latin typeface="Verdana"/>
              </a:rPr>
              <a:t>）班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159360" y="3801960"/>
            <a:ext cx="201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cc"/>
                </a:solidFill>
                <a:latin typeface="Verdana"/>
              </a:rPr>
              <a:t>主持人</a:t>
            </a:r>
            <a:r>
              <a:rPr b="1" lang="zh-TW" sz="2800" spc="-1" strike="noStrike">
                <a:solidFill>
                  <a:srgbClr val="ff66cc"/>
                </a:solidFill>
                <a:latin typeface="Verdana"/>
              </a:rPr>
              <a:t>:</a:t>
            </a:r>
            <a:r>
              <a:rPr b="1" lang="en-US" sz="2800" spc="-1" strike="noStrike">
                <a:solidFill>
                  <a:srgbClr val="ff66cc"/>
                </a:solidFill>
                <a:latin typeface="Verdana"/>
              </a:rPr>
              <a:t>   </a:t>
            </a:r>
            <a:r>
              <a:rPr b="1" lang="zh-CN" sz="2800" spc="-1" strike="noStrike">
                <a:solidFill>
                  <a:srgbClr val="ff66cc"/>
                </a:solidFill>
                <a:latin typeface="Verdana"/>
              </a:rPr>
              <a:t>李文艳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140360" y="3699000"/>
            <a:ext cx="2016000" cy="79200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1042920" y="620640"/>
            <a:ext cx="1008000" cy="8064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250920" y="0"/>
            <a:ext cx="6913440" cy="174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新細明體"/>
              </a:rPr>
              <a:t>活动时间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新細明體"/>
              <a:ea typeface="新細明體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39640" y="2349360"/>
            <a:ext cx="417672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活动</a:t>
            </a: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1</a:t>
            </a: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：交换座位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4360" y="4338720"/>
            <a:ext cx="4608360" cy="225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活动</a:t>
            </a: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2</a:t>
            </a: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：按规则交换座位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87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666"/>
                </a:solidFill>
                <a:latin typeface="Verdana"/>
                <a:ea typeface="華康墨字體(P)"/>
              </a:rPr>
              <a:t>活动感</a:t>
            </a:r>
            <a:r>
              <a:rPr b="0" lang="zh-TW" sz="5400" spc="-1" strike="noStrike">
                <a:solidFill>
                  <a:srgbClr val="006666"/>
                </a:solidFill>
                <a:latin typeface="Verdana"/>
                <a:ea typeface="華康墨字體(P)"/>
              </a:rPr>
              <a:t>言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99444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812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1</a:t>
            </a:r>
            <a:r>
              <a:rPr b="0" lang="zh-CN" sz="4000" spc="-1" strike="noStrike">
                <a:solidFill>
                  <a:srgbClr val="006699"/>
                </a:solidFill>
                <a:latin typeface="Verdana"/>
              </a:rPr>
              <a:t>、你认为这两次活动有什么区别？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812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lang="zh-CN" sz="4000" spc="-1" strike="noStrike">
                <a:solidFill>
                  <a:srgbClr val="006699"/>
                </a:solidFill>
                <a:latin typeface="Verdana"/>
              </a:rPr>
              <a:t>、是什么影响了这两次活动？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68360" y="1109520"/>
            <a:ext cx="8280360" cy="4478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7740720" y="5013360"/>
            <a:ext cx="1152360" cy="13161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6300720" y="189000"/>
            <a:ext cx="936720" cy="7920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1835280" y="260280"/>
            <a:ext cx="936360" cy="6858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8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87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666"/>
                </a:solidFill>
                <a:latin typeface="Verdana"/>
                <a:ea typeface="華康墨字體(P)"/>
              </a:rPr>
              <a:t>我与班规同行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9944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81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Verdana"/>
                <a:ea typeface="宋体"/>
              </a:rPr>
              <a:t>（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  <a:ea typeface="宋体"/>
              </a:rPr>
              <a:t>1</a:t>
            </a:r>
            <a:r>
              <a:rPr b="0" lang="zh-CN" sz="2400" spc="-1" strike="noStrike">
                <a:solidFill>
                  <a:srgbClr val="006699"/>
                </a:solidFill>
                <a:latin typeface="Verdana"/>
                <a:ea typeface="宋体"/>
              </a:rPr>
              <a:t>）如果没有班规的约束，我会是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  <a:ea typeface="宋体"/>
              </a:rPr>
              <a:t>__________________________</a:t>
            </a:r>
            <a:r>
              <a:rPr b="0" lang="zh-CN" sz="2400" spc="-1" strike="noStrike">
                <a:solidFill>
                  <a:srgbClr val="006699"/>
                </a:solidFill>
                <a:latin typeface="Verdana"/>
                <a:ea typeface="宋体"/>
              </a:rPr>
              <a:t>。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81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Verdana"/>
                <a:ea typeface="宋体"/>
              </a:rPr>
              <a:t>（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06699"/>
                </a:solidFill>
                <a:latin typeface="Verdana"/>
                <a:ea typeface="宋体"/>
              </a:rPr>
              <a:t>）如果没有班规的约束，我们会是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  <a:ea typeface="宋体"/>
              </a:rPr>
              <a:t>_____________________________</a:t>
            </a:r>
            <a:r>
              <a:rPr b="0" lang="zh-CN" sz="2400" spc="-1" strike="noStrike">
                <a:solidFill>
                  <a:srgbClr val="006699"/>
                </a:solidFill>
                <a:latin typeface="Verdana"/>
                <a:ea typeface="宋体"/>
              </a:rPr>
              <a:t>。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81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Verdana"/>
                <a:ea typeface="宋体"/>
              </a:rPr>
              <a:t>（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  <a:ea typeface="宋体"/>
              </a:rPr>
              <a:t>3</a:t>
            </a:r>
            <a:r>
              <a:rPr b="0" lang="zh-CN" sz="2400" spc="-1" strike="noStrike">
                <a:solidFill>
                  <a:srgbClr val="006699"/>
                </a:solidFill>
                <a:latin typeface="Verdana"/>
                <a:ea typeface="宋体"/>
              </a:rPr>
              <a:t>）当我违反班规时，我希望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  <a:ea typeface="宋体"/>
              </a:rPr>
              <a:t>______________________________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81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Verdana"/>
                <a:ea typeface="宋体"/>
              </a:rPr>
              <a:t>（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  <a:ea typeface="宋体"/>
              </a:rPr>
              <a:t>4</a:t>
            </a:r>
            <a:r>
              <a:rPr b="0" lang="zh-CN" sz="2400" spc="-1" strike="noStrike">
                <a:solidFill>
                  <a:srgbClr val="006699"/>
                </a:solidFill>
                <a:latin typeface="Verdana"/>
                <a:ea typeface="宋体"/>
              </a:rPr>
              <a:t>）当别人违反班规时，我希望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  <a:ea typeface="宋体"/>
              </a:rPr>
              <a:t>______________________________</a:t>
            </a:r>
            <a:r>
              <a:rPr b="0" lang="zh-CN" sz="2400" spc="-1" strike="noStrike">
                <a:solidFill>
                  <a:srgbClr val="006699"/>
                </a:solidFill>
                <a:latin typeface="Verdana"/>
                <a:ea typeface="宋体"/>
              </a:rPr>
              <a:t>。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81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Verdana"/>
                <a:ea typeface="宋体"/>
              </a:rPr>
              <a:t>（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  <a:ea typeface="宋体"/>
              </a:rPr>
              <a:t>5</a:t>
            </a:r>
            <a:r>
              <a:rPr b="0" lang="zh-CN" sz="2400" spc="-1" strike="noStrike">
                <a:solidFill>
                  <a:srgbClr val="006699"/>
                </a:solidFill>
                <a:latin typeface="Verdana"/>
                <a:ea typeface="宋体"/>
              </a:rPr>
              <a:t>）我心目中的班级应该是这样的，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  <a:ea typeface="宋体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  <a:ea typeface="宋体"/>
              </a:rPr>
              <a:t>______________________________</a:t>
            </a:r>
            <a:r>
              <a:rPr b="0" lang="zh-CN" sz="2400" spc="-1" strike="noStrike">
                <a:solidFill>
                  <a:srgbClr val="006699"/>
                </a:solidFill>
                <a:latin typeface="Verdana"/>
                <a:ea typeface="宋体"/>
              </a:rPr>
              <a:t>。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468360" y="1109520"/>
            <a:ext cx="8280360" cy="4478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7740720" y="5013360"/>
            <a:ext cx="1152360" cy="13161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6659640" y="189000"/>
            <a:ext cx="936720" cy="7920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1619280" y="260280"/>
            <a:ext cx="936720" cy="6858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8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8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701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6666"/>
                </a:solidFill>
                <a:latin typeface="Verdana"/>
                <a:ea typeface="華康墨字體(P)"/>
              </a:rPr>
              <a:t>我们的约定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23640" y="2401920"/>
            <a:ext cx="77864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Verdana"/>
                <a:ea typeface="宋体"/>
              </a:rPr>
              <a:t>一、文明礼仪</a:t>
            </a:r>
            <a:r>
              <a:rPr b="0" lang="zh-CN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Verdana"/>
                <a:ea typeface="宋体"/>
              </a:rPr>
              <a:t>二、考勤制度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Verdana"/>
                <a:ea typeface="宋体"/>
              </a:rPr>
              <a:t>三、学风纪律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Verdana"/>
                <a:ea typeface="宋体"/>
              </a:rPr>
              <a:t>四、环境卫生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Verdana"/>
                <a:ea typeface="宋体"/>
              </a:rPr>
              <a:t>五、安全事项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5796000" y="1700280"/>
            <a:ext cx="792000" cy="5810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1908000" y="4292640"/>
            <a:ext cx="863640" cy="6332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0" y="245736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>
            <a:off x="0" y="508464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6"/>
          <a:stretch/>
        </p:blipFill>
        <p:spPr>
          <a:xfrm>
            <a:off x="900000" y="5805360"/>
            <a:ext cx="7272360" cy="6732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7"/>
          <a:stretch/>
        </p:blipFill>
        <p:spPr>
          <a:xfrm>
            <a:off x="7740720" y="333360"/>
            <a:ext cx="1008000" cy="7952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77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" dur="770" fill="hold"/>
                                        <p:tgtEl>
                                          <p:spTgt spid="1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5" dur="77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7" dur="77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8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83680" cy="67705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华文宋体"/>
                <a:ea typeface="华文宋体"/>
              </a:rPr>
              <a:t>从今天起，</a:t>
            </a:r>
            <a:br>
              <a:rPr sz="4400"/>
            </a:br>
            <a:r>
              <a:rPr b="1" lang="zh-CN" sz="4400" spc="-1" strike="noStrike">
                <a:solidFill>
                  <a:srgbClr val="ff3399"/>
                </a:solidFill>
                <a:latin typeface="华文宋体"/>
                <a:ea typeface="华文宋体"/>
              </a:rPr>
              <a:t>           我将是一个全新的我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278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6699"/>
                </a:solidFill>
                <a:latin typeface="Verdana"/>
              </a:rPr>
              <a:t>     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7093080" y="5589720"/>
            <a:ext cx="1747800" cy="10983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7272360" y="44280"/>
            <a:ext cx="1692360" cy="7876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5"/>
          <a:stretch/>
        </p:blipFill>
        <p:spPr>
          <a:xfrm>
            <a:off x="1042920" y="2611440"/>
            <a:ext cx="7134120" cy="3128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 txBox="1"/>
          <p:nvPr/>
        </p:nvSpPr>
        <p:spPr>
          <a:xfrm>
            <a:off x="2556000" y="4802040"/>
            <a:ext cx="36860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谢谢！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268360" y="2708280"/>
            <a:ext cx="47944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坚持原则，时刻提醒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以身作则，互相监督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blinds dir="horz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6T13:39:31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1:33:44Z</dcterms:modified>
  <cp:revision>44</cp:revision>
  <dc:subject>主题班会课件(分28大类): http://shop62905894.taobao.com</dc:subject>
  <dc:title>主题班会课件(分28大类): http://shop62905894.taobao.com</dc:title>
</cp:coreProperties>
</file>