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903-F904-4703-ADF0-0C9C0783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FF9-8176-4243-8CE5-4A721E16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7DF-6C60-457F-AC6A-346C1F03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9DD-C175-4B54-97D6-B0C4A6AE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36B-1600-424D-AA48-C192B09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CA1-2CB1-4E97-BF88-CA4AC36C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126-FE09-4690-BFEE-33AD0E91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C0B-D3EF-4D37-AE94-1D71C84B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2F7-B66A-42B8-B3F0-9570F52A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052-B4C8-49DE-AD9A-74AF0E0C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CCB-31FB-41A8-9276-9107FE7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435-8943-4652-AA4E-A98F4068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64B5-0611-4B6E-8D92-E993746508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与文明握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仪表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穿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语言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都知道，礼貌用语记得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待长辈要用“您”， 早晨见面说声“早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时互相问问“好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“再见”别忘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求人，“请”字先，最后别忘说谢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影响别人 “对不起”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答请说“没关系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明做个好孩子， 人人夸奖数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举止文明：       一点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早晨起早点儿， 胸牌领巾戴齐点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见到老师礼貌点儿， 打扫卫生积极点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楼道走路安静点儿， 上课听讲专心点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言声音洪亮点儿， 作业写得工整点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帮助同学热心点儿，同学之间友善点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接受批评虚心点儿， 改正错误及时点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益智游戏多玩点儿， 课外好书多读点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护花草主动点儿， 文明歌谣记牢点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卫生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校园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室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园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它公共场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场景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上起床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场景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到学校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场景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里来了客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打花巴掌》新编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月一，我们是团结的班集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月二，同学之间是伙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月三，关心集体记心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月四，做事不能自顾自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月五，勤奋诚实不怕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月六，同学就象亲骨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月七，吃喝穿戴莫攀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月八，朋友有难帮一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月九，共同进步手拉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十月十，歌唱童谣要坚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4:00:0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2:22Z</dcterms:modified>
  <cp:revision>7</cp:revision>
  <dc:subject>主题班会课件(分28大类): http://shop62905894.taobao.com</dc:subject>
  <dc:title>主题班会课件(分28大类): http://shop62905894.taobao.com</dc:title>
</cp:coreProperties>
</file>