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8C0B-3767-4569-A28D-1061A0977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38ED-E5F3-45CF-9345-79923D49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B6EE-C434-45CC-9AB5-F47BB28F2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AB51-7855-49BF-B852-F6E9972C2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E043-5E2C-44C5-91F0-B6BF41C2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0A40-49BB-4B35-A5F5-ACC09FDF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8108-D6EF-415B-88FE-E5EB067C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172D-16A8-480E-8E59-08336C66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E540-A9B7-4BAE-9D93-205167BE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3AED-D7B9-4BEE-9489-C51B4B3C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21A5-4A70-47C1-B721-D0D234D5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AAE7-BB39-4E5E-B220-0F5D4DF7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2D27-879A-448B-85D0-C5ED07E994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:/Documents%20and%20Settings/Administrator/Local%20Settings/Temp/Rar$DI00.515/&#22269;&#24198;&#33410;&#22825;&#23433;&#38376;&#21319;&#26071;&#20202;&#24335;.avi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58920" y="1484280"/>
            <a:ext cx="158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讲文明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552760" y="2421000"/>
            <a:ext cx="1731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知礼仪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995640" y="3357720"/>
            <a:ext cx="259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创和谐校园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272280" y="4340160"/>
            <a:ext cx="20448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主题班会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"/>
          <p:cNvSpPr/>
          <p:nvPr/>
        </p:nvSpPr>
        <p:spPr>
          <a:xfrm>
            <a:off x="1677240" y="5006880"/>
            <a:ext cx="216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班级：八年级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时间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0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设计：达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10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10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953400" y="1341360"/>
            <a:ext cx="10335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中学生“十个文明形象”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02880" y="765720"/>
            <a:ext cx="454680" cy="47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升降国旗，奏唱国歌时肃立行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26520" y="488520"/>
            <a:ext cx="454680" cy="63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与人相处，语言文明，友善宽容，明礼诚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50160" y="480600"/>
            <a:ext cx="454680" cy="63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公共场合，轻声交谈，举止文雅，着装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5440" y="694080"/>
            <a:ext cx="454680" cy="47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孝敬父母，尊敬师长，乐于助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69080" y="480600"/>
            <a:ext cx="454680" cy="63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乘车购物，不拥不挤，座位让给有困难的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94520" y="822240"/>
            <a:ext cx="454680" cy="38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行车走路，遵守交通规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18160" y="437760"/>
            <a:ext cx="454680" cy="66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保护环境，垃圾废物不乱扔，绿地草坪不践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41800" y="439560"/>
            <a:ext cx="454680" cy="66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⑧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爱护公用设施，节约公用资源，遵守公共秩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65800" y="1341360"/>
            <a:ext cx="454680" cy="30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社会交往热情、友好、大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7800" y="3250080"/>
            <a:ext cx="4546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⑩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情趣健康，远离不利于身心健康的场所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628640" y="1955160"/>
            <a:ext cx="3228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做一个讲文明，知礼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的中学生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，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以小我铸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大我，共同构建我们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和谐校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867280" y="836640"/>
            <a:ext cx="28116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476360" y="5013360"/>
            <a:ext cx="261144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升旗仪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79280" y="620640"/>
            <a:ext cx="597708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11640" cy="3218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716360" y="0"/>
            <a:ext cx="4392720" cy="3213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0" y="3770280"/>
            <a:ext cx="4211640" cy="3043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4753080" y="3789360"/>
            <a:ext cx="4356000" cy="3024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50920" y="3265560"/>
            <a:ext cx="28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这样的脚印并不好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50920" y="335736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3284640"/>
            <a:ext cx="36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这不是展示雕刻技艺的地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64000" y="3357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26160" y="4175280"/>
            <a:ext cx="790200" cy="26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水在滴，资源正流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356000" y="407664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56000" y="18900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6160" y="333360"/>
            <a:ext cx="790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举手之劳，校园可以更美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0360" cy="31003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068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716360" y="3716280"/>
            <a:ext cx="4248360" cy="3111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0" y="3716280"/>
            <a:ext cx="4140360" cy="3168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01280" y="3176640"/>
            <a:ext cx="168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文化长廊”需要呵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11640" y="47628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70880" y="72720"/>
            <a:ext cx="485280" cy="35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墙壁涂鸦，这不是艺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11640" y="378936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12120" y="3933720"/>
            <a:ext cx="7902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角落的那个柜子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79880" cy="5445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608360" y="0"/>
            <a:ext cx="4535640" cy="5445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022400" y="563076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为我们提供安全保障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消防栓受到的“礼遇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28800" y="563076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这不是画纸，也不是枪靶，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守卫教室的那扇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3" action="ppaction://hlinksldjump"/>
          </p:cNvPr>
          <p:cNvSpPr/>
          <p:nvPr/>
        </p:nvSpPr>
        <p:spPr>
          <a:xfrm>
            <a:off x="8172360" y="6381720"/>
            <a:ext cx="647640" cy="333360"/>
          </a:xfrm>
          <a:prstGeom prst="rightArrow">
            <a:avLst>
              <a:gd name="adj1" fmla="val 50000"/>
              <a:gd name="adj2" fmla="val 485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2124000" y="2349360"/>
            <a:ext cx="4467240" cy="16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！再见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04920" y="-3160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2095560" y="2205000"/>
            <a:ext cx="4781520" cy="16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留给生活一朵微笑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" name=""/>
          <p:cNvSpPr/>
          <p:nvPr/>
        </p:nvSpPr>
        <p:spPr>
          <a:xfrm>
            <a:off x="815040" y="6602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诗朗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01520" y="4653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朗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11280" y="156780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小品欣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46560" y="472428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演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56000" y="2781360"/>
            <a:ext cx="424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校园文明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420200" y="1413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揪出校园不文明行为</a:t>
            </a:r>
            <a:r>
              <a:rPr b="0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36960" y="2636640"/>
            <a:ext cx="487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小组讨论并列举身边的不文明行为，然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组竞答，并记录积分（每找出一种，记一分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808200" y="4311720"/>
            <a:ext cx="2179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现场直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010600" y="1493280"/>
            <a:ext cx="50241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障碍游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游戏规则：四个小组，每组二人，依次进行。其中一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布蒙住眼睛，扮演盲人，另一人扮演哑巴，“哑巴”作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拐杖扶“盲人”在教室内按指定路线行走，两人均不准出声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班上其他同学将不动声色地在他们行进的过程中设置障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哑巴”用身体语言引导“盲人”通过障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979280" y="805680"/>
            <a:ext cx="42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文明人”自测：你是一个文明的人吗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1482840"/>
            <a:ext cx="650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升国旗时，你能肃立，行注目礼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能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时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981080" y="2430720"/>
            <a:ext cx="821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你平时说脏话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说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很少说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常说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3397320"/>
            <a:ext cx="637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路上见到老师，你会主动上前问好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时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426096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你有过破坏公物、乱扔粉笔的行为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没有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过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6560" y="5104080"/>
            <a:ext cx="626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你能和同学友好相处、并互相帮助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的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很少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没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39800" y="1152720"/>
            <a:ext cx="620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你会乱扔垃圾吗？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没有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偶尔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2160720"/>
            <a:ext cx="78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看见校园有垃圾，你会捡起来并扔进垃圾桶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会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时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410544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你能按时独立完成作业，不抄袭别人作业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能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时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3097440"/>
            <a:ext cx="78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你能够做到上课认真听讲，不讲话做小动作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会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时     　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042160"/>
            <a:ext cx="744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参加各种集会能准时到达，安静听讲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能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时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244160" y="1818360"/>
            <a:ext cx="64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明：选择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，选择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，选择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2655000"/>
            <a:ext cx="777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数为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30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：你是个讲文明，懂礼貌的人。举止言谈文明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与老师、父母、同学相处融洽，人际关系好，是个受欢迎的人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3572280"/>
            <a:ext cx="75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数为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22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：一般情况下，你是个文明的人，但有时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没有认真对待一些事情，特别是一些小事，人际关系一般，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比较受欢迎的人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467100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数为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14—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：许多情况下，你是个不文明的人，人际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定很差，是个不受欢迎的人。要注意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250" autoRev="1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" dur="250" autoRev="1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" dur="250" autoRev="1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250" autoRev="1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9" dur="250" autoRev="1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" dur="250" autoRev="1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25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4" dur="25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" dur="25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331280" y="63324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猜谜大比拼（礼貌用语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26120" y="1411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双胞胎赖被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56680" y="1413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对不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67800" y="198792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叶落花也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95480" y="1987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谢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18200" y="263592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无可奈何花落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263700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感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04440" y="3306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愿花常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56680" y="3284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不用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67800" y="386064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辛苦了司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95480" y="387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劳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87280" y="436464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放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54320" y="4867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单人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35080" y="54853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二次会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37600" y="4384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不要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16280" y="4960800"/>
            <a:ext cx="12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对不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65320" y="5608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再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74480" y="60616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行为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65320" y="6111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走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3:07:05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微软用户</cp:lastModifiedBy>
  <dcterms:modified xsi:type="dcterms:W3CDTF">2010-10-02T13:00:21Z</dcterms:modified>
  <cp:revision>17</cp:revision>
  <dc:subject>主题班会课件(分28大类): http://shop62905894.taobao.com</dc:subject>
  <dc:title>主题班会课件(分28大类): http://shop62905894.taobao.com</dc:title>
</cp:coreProperties>
</file>