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3.png" ContentType="image/png"/>
  <Override PartName="/ppt/media/image17.jpeg" ContentType="image/jpeg"/>
  <Override PartName="/ppt/media/image25.jpeg" ContentType="image/jpeg"/>
  <Override PartName="/ppt/media/image4.jpeg" ContentType="image/jpeg"/>
  <Override PartName="/ppt/media/image6.png" ContentType="image/png"/>
  <Override PartName="/ppt/media/explode.wav" ContentType="audio/x-wav"/>
  <Override PartName="/ppt/media/image22.jpeg" ContentType="image/jpeg"/>
  <Override PartName="/ppt/media/image7.png" ContentType="image/png"/>
  <Override PartName="/ppt/media/image16.jpeg" ContentType="image/jpeg"/>
  <Override PartName="/ppt/media/image5.png" ContentType="image/png"/>
  <Override PartName="/ppt/media/image8.jpeg" ContentType="image/jpeg"/>
  <Override PartName="/ppt/media/image11.jpeg" ContentType="image/jpeg"/>
  <Override PartName="/ppt/media/image9.jpeg" ContentType="image/jpeg"/>
  <Override PartName="/ppt/media/image27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20.jpeg" ContentType="image/jpeg"/>
  <Override PartName="/ppt/media/image13.jpeg" ContentType="image/jpeg"/>
  <Override PartName="/ppt/media/drumroll.wav" ContentType="audio/x-wav"/>
  <Override PartName="/ppt/media/image24.jpeg" ContentType="image/jpeg"/>
  <Override PartName="/ppt/media/image14.jpeg" ContentType="image/jpeg"/>
  <Override PartName="/ppt/media/image15.jpeg" ContentType="image/jpeg"/>
  <Override PartName="/ppt/media/image18.jpeg" ContentType="image/jpeg"/>
  <Override PartName="/ppt/media/image19.jpeg" ContentType="image/jpeg"/>
  <Override PartName="/ppt/media/chimes.wav" ContentType="audio/x-wav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ED93-3222-4710-A373-632F1E63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8FBC-521B-4FA6-AEE0-0AF02C6F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02FF-ED6D-4D56-83FA-7255769F7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9A9F-B050-4981-B571-455F0D3F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CEA5-A883-4518-B6DF-515E60F6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E5D5-3AE4-4AB4-A070-1DA0DC3D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A02C-86FD-4B58-BF31-2518F248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695F-0237-4BFB-A4BB-7760C20B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50BB-9A78-42A5-B9FF-E763AC15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0242-1413-4DF9-B0F8-148EFAD5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B647-87DD-4972-8CCE-F6CDB183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8960-27F1-4425-A223-88770A0B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64F3-0D8E-48F2-BD80-C95380A6EE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explod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explode.wav" TargetMode="External"/><Relationship Id="rId2" Type="http://schemas.microsoft.com/office/2007/relationships/media" Target="file:///tmp/home/.config/libreoffice/4/user/gallery/explode.wav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54936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宋体"/>
                <a:ea typeface="华文行楷"/>
              </a:rPr>
              <a:t>----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  <a:ea typeface="华文行楷"/>
              </a:rPr>
              <a:t>团结、合作、进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1620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1143059-r2r3v73eJm" descr="http://photos.gznet.com/photos/1143059/1143059-r2r3v73eJm.jpg"/>
          <p:cNvPicPr/>
          <p:nvPr/>
        </p:nvPicPr>
        <p:blipFill>
          <a:blip r:embed="rId1"/>
          <a:stretch/>
        </p:blipFill>
        <p:spPr>
          <a:xfrm>
            <a:off x="539640" y="2060640"/>
            <a:ext cx="8375760" cy="4568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【书利华教育网 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04920" y="228600"/>
            <a:ext cx="8229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 Black"/>
                <a:ea typeface="华文行楷"/>
              </a:rPr>
              <a:t>世界是这样的美好，人生是如此的充满意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 Black"/>
                <a:ea typeface="华文行楷"/>
              </a:rPr>
              <a:t>而富有挑战的人生才是令人渴望的人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 Black"/>
                <a:ea typeface="华文行楷"/>
              </a:rPr>
              <a:t>让我们学会拼搏，迎接挑战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【书利华教育网 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00"/>
            </a:gs>
            <a:gs pos="50000">
              <a:srgbClr val="ff0000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06280"/>
            <a:ext cx="914400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我们现在的高三（</a:t>
            </a:r>
            <a:r>
              <a:rPr b="1" lang="en-US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）班是一个团队，我们既要团结协作，又要参与竞争。对于团队来说，成绩不是唯一的追求，我们每个人都有责任和义务使她变得更好。在（</a:t>
            </a:r>
            <a:r>
              <a:rPr b="1" lang="en-US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）班这个集体里，没有高低贵贱，没有孰轻孰重，我们都需要拥有集体意识和团队精神，都需要遵守学校的规章制度，这也是我们学校得以生存和发展的保障，没有任何人可以任何理由作为自己违章的借口。如果我们能加强自我控制，改善自我形象，做事不太情绪化，不以物喜，不以己悲，我们不就会更好更成熟而更有收获吗？当然，我们的班干部、团员和成绩好一点的同学更应该作好表率，这样我们的（</a:t>
            </a:r>
            <a:r>
              <a:rPr b="1" lang="en-US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）班才会有正气，才会有生机，才会被我们自己热爱和自豪，并创造令人羡慕的奇迹！我们的人生也将由此而诞生一个新的起点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   </a:t>
            </a: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在高三的一年里，我们需学会从零开始，卧薪尝胆，全心全意谋发展。现在我们肩负着责任，肩负着明天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作为团队的一分子，请记住：</a:t>
            </a: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大家好才是真的好！</a:t>
            </a:r>
            <a:r>
              <a:rPr b="1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【书利华教育网 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228600"/>
            <a:ext cx="449568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爱拼才会赢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一时失志不免怨叹 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一时落魄不免胆寒 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那通失去希望 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每日醉茫茫 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无魂有体亲像稻草人 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人生可比是海上的波浪 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有时起有时落 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好运歹命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228600"/>
            <a:ext cx="4343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总吗要照起工来行 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三分天注定 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七分靠打拼 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爱拼才会赢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usic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一时失志不免怨叹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) 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一时落魄不免胆寒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) 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那通失去希望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) 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每日醉茫茫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) 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无魂有体亲像稻草人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) 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爱拼才会赢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15328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【书利华教育网 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5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9900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66ff33"/>
                </a:solidFill>
                <a:latin typeface="宋体"/>
              </a:rPr>
              <a:t>唐太宗贞观年间，长安城一家磨坊有一匹马和一头驴子，它们是好朋友。马在外面拉东西，驴子在屋里推磨。贞观三年，这匹马被玄奘大师选中西去取经。</a:t>
            </a:r>
            <a:r>
              <a:rPr b="1" lang="zh-CN" sz="3200" spc="-1" strike="noStrike">
                <a:solidFill>
                  <a:srgbClr val="66ff33"/>
                </a:solidFill>
                <a:latin typeface="宋体"/>
              </a:rPr>
              <a:t>17</a:t>
            </a:r>
            <a:r>
              <a:rPr b="1" lang="zh-CN" sz="3200" spc="-1" strike="noStrike">
                <a:solidFill>
                  <a:srgbClr val="66ff33"/>
                </a:solidFill>
                <a:latin typeface="宋体"/>
              </a:rPr>
              <a:t>年后，这匹马驮着佛经回到长安。它到磨坊会见老朋友，向驴子描述取经的旅程：浩瀚无边的沙漠，高入云霄的山岭……驴子惊叹：</a:t>
            </a:r>
            <a:r>
              <a:rPr b="1" lang="zh-CN" sz="3200" spc="-1" strike="noStrike">
                <a:solidFill>
                  <a:srgbClr val="66ff33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66ff33"/>
                </a:solidFill>
                <a:latin typeface="宋体"/>
              </a:rPr>
              <a:t>你有多么丰富的见闻呀！那么遥远的道路，我连想都不敢想。</a:t>
            </a:r>
            <a:r>
              <a:rPr b="1" lang="zh-CN" sz="3200" spc="-1" strike="noStrike">
                <a:solidFill>
                  <a:srgbClr val="66ff33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66ff33"/>
                </a:solidFill>
                <a:latin typeface="宋体"/>
              </a:rPr>
              <a:t>老马说：</a:t>
            </a:r>
            <a:r>
              <a:rPr b="1" lang="zh-CN" sz="3200" spc="-1" strike="noStrike">
                <a:solidFill>
                  <a:srgbClr val="66ff33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66ff33"/>
                </a:solidFill>
                <a:latin typeface="宋体"/>
              </a:rPr>
              <a:t>其实，我们跨过的距离是大体相等的，当我向西域前进的时候，你一步也没停止。不同的是，我同玄奘大师有一个遥远的目标，按照始终如一的方向前进，所以我们打开了一个广阔的世界。而你被蒙住了眼睛，一生就围着磨盘打转，所以永远也走不出这个狭隘的天地。</a:t>
            </a:r>
            <a:r>
              <a:rPr b="1" lang="zh-CN" sz="3200" spc="-1" strike="noStrike">
                <a:solidFill>
                  <a:srgbClr val="66ff33"/>
                </a:solidFill>
                <a:latin typeface="宋体"/>
              </a:rPr>
              <a:t>"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【书利华教育网 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99"/>
            </a:gs>
            <a:gs pos="50000">
              <a:srgbClr val="66ff33"/>
            </a:gs>
            <a:gs pos="100000">
              <a:srgbClr val="66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286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一次，法国一家报纸进行有奖智力竞赛，其中有一道这样的题目：如果法国最大的博物馆卢浮宫失火，只允许抢救出一幅画，你会救哪一幅？在成千上万的答卷中，贝尔纳以最佳答案获得该题的奖金。他的回答是：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我救离出口最近的那幅画。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他的理由是：成功的最佳目标不是最有价值的那个，而是最可能实现的那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一群孩子提着篮子在海边捡贝壳，其中有个孩子决心捡最美丽的贝壳。夕阳西下，小伙伴们提着漂亮的贝壳，满怀成功的喜悦，唱着欢快的歌儿归去，这个孩子还提着空篮，孤独的行在沙滩上。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46483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卢浮宫收藏的任何一幅画都是有价值的，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离出口最近的那幅画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，既有价值，救它又最可能实现，自然是最佳目标。有价值而最可能实现的目标远胜于最有价值却不能实现的目标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。————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放弃与获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【书利华教育网 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311040"/>
            <a:ext cx="8686800" cy="62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【书利华教育网 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32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【书利华教育网 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67080" cy="3809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3733920"/>
            <a:ext cx="4952880" cy="3100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267080" y="0"/>
            <a:ext cx="50673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【书利华教育网 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67080" cy="3352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3551400"/>
            <a:ext cx="4419720" cy="3306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495680" y="0"/>
            <a:ext cx="4648320" cy="3352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33520" y="32767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浙江大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xx_jxl" descr=""/>
          <p:cNvPicPr/>
          <p:nvPr/>
        </p:nvPicPr>
        <p:blipFill>
          <a:blip r:embed="rId4"/>
          <a:stretch/>
        </p:blipFill>
        <p:spPr>
          <a:xfrm>
            <a:off x="4572000" y="3562200"/>
            <a:ext cx="4572000" cy="329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【书利华教育网 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浙江大学是一所具有悠久历史的全国重点大学，现任校长是中国工程院院士、人工智能专家潘云鹤教授。校园依山傍水，环境幽雅，花木繁茂，碧草如茵，景色宜人，与西湖美景交相辉映，相得益彰，是读书治学的理想园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浙江大学的学科涵盖哲学、经济学、法学、教育学、文学、历史学、理学、工学、农学、医学、管理学等十一大门类。学校现有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110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个本科专业，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39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个博士后流动站，具有一级学科博士、硕士学位授权点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31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个，博士学位授权点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181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个，硕士学位授权点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264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个，另有临床医学专业博士学位授权点以及工商管理（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MBA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、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建筑学、法律（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JM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、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工程、临床医学、公共卫生、口腔医学、公共管理（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MPA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、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农业推广、教育学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个专业硕士学位授权点。学校现有国家重点学科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个，国家重点（专业）实验室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个，国家工程研究中心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个，国家工程技术研究中心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个，国家人文社科重点研究基地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个，国家级教学人才培养基地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个，国家级基础课程教学基地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个，国家级大学生文化教育基地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个，国家生命科学与技术人才培养基地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个，国家集成电路人才培养基地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个，国家示范性软件学院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个。学校师资力量雄厚，现有教职工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8400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余人，其中中国科学院院士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人，中国工程院院士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人；教授及其他正高职人员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1100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余人，副教授及其他副高职人员近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2400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人。全校有全日制在校学生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40000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余人。研究生近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16000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【书利华教育网 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522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3366"/>
                </a:solidFill>
                <a:latin typeface="_x000b__x000c_,arial"/>
                <a:ea typeface="华文行楷"/>
              </a:rPr>
              <a:t>一个很普通的日子，却因为一份好的心情，就可以很美丽：</a:t>
            </a:r>
            <a:br>
              <a:rPr sz="2400"/>
            </a:br>
            <a:r>
              <a:rPr b="1" i="1" lang="zh-CN" sz="2400" spc="-1" strike="noStrike">
                <a:solidFill>
                  <a:srgbClr val="003366"/>
                </a:solidFill>
                <a:latin typeface="宋体"/>
                <a:ea typeface="华文行楷"/>
              </a:rPr>
              <a:t>如果你正不开心，希望这些多彩的图片也带给你一份好心情</a:t>
            </a:r>
            <a:br>
              <a:rPr sz="2400"/>
            </a:br>
            <a:r>
              <a:rPr b="1" i="1" lang="zh-CN" sz="2400" spc="-1" strike="noStrike">
                <a:solidFill>
                  <a:srgbClr val="003366"/>
                </a:solidFill>
                <a:latin typeface="宋体"/>
                <a:ea typeface="华文行楷"/>
              </a:rPr>
              <a:t>总相信，只要用心感受生活，每一天都可以如此多彩而芬芳</a:t>
            </a:r>
            <a:r>
              <a:rPr b="1" i="1" lang="zh-CN" sz="2400" spc="-1" strike="noStrike">
                <a:solidFill>
                  <a:srgbClr val="003366"/>
                </a:solidFill>
                <a:latin typeface="Times New Roman"/>
                <a:ea typeface="华文行楷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1143059-qRNw82C!Vc" descr="http://photos.gznet.com/photos/1143059/1143059-qRNw82C!Vc.jpg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5105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2287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【书利华教育网 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495680" y="152280"/>
            <a:ext cx="4419720" cy="2792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4191120" cy="3048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72000" y="3048120"/>
            <a:ext cx="4267080" cy="3581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0" y="3200400"/>
            <a:ext cx="4038480" cy="3657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402360" y="3276720"/>
            <a:ext cx="11552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上 海 交 通 大 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【书利华教育网 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上海交通大学是教育部直属、由教育部和上海市共建的全国重点大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　　创办于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1896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年，是我国历史最悠久的高等学府之一。一个世纪以来，形成了“起点高、基础厚、要求严、重实践、求创新”的优良传统和办学特色，为国家培养了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10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多万优秀人才，包括一批杰出的政治家、社会活动家、实业家、科学家、教授和工程技术专家，为国家的繁荣和科学技术的发展作出了重要贡献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　　现已成为一所以坚实的理科为基础，强大的工科为主干，管、农、文、法等学科具有特色，具有国内一流水平，并有较大国际影响的全国重点大学。通信与电子系统、船舶与海洋工程、自动控制、复合材料、金属塑性加工等若干个学科已接近世界一流水平。大规模集成电路、计算机、光纤技术、系统工程等一批新兴学科在国内具有重要地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　　现设有船舶海洋与建筑工程、机械与动力工程、电子信息与电气工程、材料科学与工程、理学、生命科学技术、人文、化学化工、管理、国际与公共事务、外国语、农业与生物、环境科学与工程、药学、医学、法学、媒体与设计、微电子、信息安全工程、软件等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20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个学院，塑性成形工程，体育等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个直属系，成人教育学院、网络教育学院、国际教育学院、技术学院等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4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个非专业分类学院。目前有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60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个本科专业，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18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个一级学科博士学位授权点，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93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个二级学科博士点、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146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个硕士点，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6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个专业硕士学位授权点。　　上海交通大学教学设施先进，校园环境优美。校园面积约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202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公顷，校舍建筑总面积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93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万平方米，固定资产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24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亿元。图书馆藏书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230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万册，期刊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3802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余种，其中外文期刊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1343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种。到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2005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年，闵行校区将建成方圆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5000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亩的现代化大学校园，成为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21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世纪黄浦江上游的一颗璀璨的科教明珠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　　学校有教授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580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名、副教授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840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名。其中有中国科学院院士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8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名、中国工程院院士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14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名，博士生导师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568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名，国家“长江计划”特聘教授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23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名，国家杰出青年科学基金获得者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22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名，高校青年教师奖获得者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11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名，有博士学位教师比例达到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44%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。 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【书利华教育网 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" y="533520"/>
            <a:ext cx="8686800" cy="30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生的选择很重要，你要选对你自己的人生之路。同时，你必须有理想，为理想而努力是幸福的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我们的身上，既肩负着父辈和我们自己的希望和梦想，也肩负着国家和民族的命运和责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们是人，不是一般的动物，我们既有欲望和情感，更具智慧和理性。在人生的不同阶段我们拥有不同的责任和义务，我们不只拥有今天，还有明天。俗言：人无远虑，必有近忧，短浅的目光永远无法缔造长远的辉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让理性的光芒照亮我们的人生旅程，因为我们渴望明天，我们渴望成功，我们渴望超越过去，迈向人生新的颠峰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960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【书利华教育网 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53452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33520" y="0"/>
            <a:ext cx="822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人的命运更多的是由自己把握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让我们一起聆听生命之音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【书利华教育网 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高考是一种成长的经历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   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是雨后的美丽彩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【书利华教育网 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95280" y="1600200"/>
            <a:ext cx="70106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ff33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66ff33"/>
                </a:solidFill>
                <a:latin typeface="黑体"/>
                <a:ea typeface="黑体"/>
              </a:rPr>
              <a:t>当圣火第一次点燃是希望在跟随 </a:t>
            </a:r>
            <a:br>
              <a:rPr sz="3600"/>
            </a:br>
            <a:r>
              <a:rPr b="1" i="1" lang="zh-CN" sz="3600" spc="-1" strike="noStrike">
                <a:solidFill>
                  <a:srgbClr val="66ff33"/>
                </a:solidFill>
                <a:latin typeface="黑体"/>
                <a:ea typeface="黑体"/>
              </a:rPr>
              <a:t>当终点已不再永久是心灵在体会 </a:t>
            </a:r>
            <a:br>
              <a:rPr sz="3600"/>
            </a:br>
            <a:r>
              <a:rPr b="1" i="1" lang="zh-CN" sz="3600" spc="-1" strike="noStrike">
                <a:solidFill>
                  <a:srgbClr val="66ff33"/>
                </a:solidFill>
                <a:latin typeface="黑体"/>
                <a:ea typeface="黑体"/>
              </a:rPr>
              <a:t>不在乎等待几多轮回 </a:t>
            </a:r>
            <a:br>
              <a:rPr sz="3600"/>
            </a:br>
            <a:r>
              <a:rPr b="1" i="1" lang="zh-CN" sz="3600" spc="-1" strike="noStrike">
                <a:solidFill>
                  <a:srgbClr val="66ff33"/>
                </a:solidFill>
                <a:latin typeface="黑体"/>
                <a:ea typeface="黑体"/>
              </a:rPr>
              <a:t>不在乎欢笑伴着泪水 </a:t>
            </a:r>
            <a:br>
              <a:rPr sz="3600"/>
            </a:br>
            <a:r>
              <a:rPr b="1" i="1" lang="zh-CN" sz="3600" spc="-1" strike="noStrike">
                <a:solidFill>
                  <a:srgbClr val="66ff33"/>
                </a:solidFill>
                <a:latin typeface="黑体"/>
                <a:ea typeface="黑体"/>
              </a:rPr>
              <a:t>超越梦想一起飞 </a:t>
            </a:r>
            <a:br>
              <a:rPr sz="3600"/>
            </a:br>
            <a:r>
              <a:rPr b="1" i="1" lang="zh-CN" sz="3600" spc="-1" strike="noStrike">
                <a:solidFill>
                  <a:srgbClr val="66ff33"/>
                </a:solidFill>
                <a:latin typeface="黑体"/>
                <a:ea typeface="黑体"/>
              </a:rPr>
              <a:t>你我需要真心面对 </a:t>
            </a:r>
            <a:br>
              <a:rPr sz="3600"/>
            </a:br>
            <a:r>
              <a:rPr b="1" i="1" lang="zh-CN" sz="3600" spc="-1" strike="noStrike">
                <a:solidFill>
                  <a:srgbClr val="66ff33"/>
                </a:solidFill>
                <a:latin typeface="黑体"/>
                <a:ea typeface="黑体"/>
              </a:rPr>
              <a:t>让生命回味这一刻 </a:t>
            </a:r>
            <a:br>
              <a:rPr sz="3600"/>
            </a:br>
            <a:r>
              <a:rPr b="1" i="1" lang="zh-CN" sz="3600" spc="-1" strike="noStrike">
                <a:solidFill>
                  <a:srgbClr val="66ff33"/>
                </a:solidFill>
                <a:latin typeface="黑体"/>
                <a:ea typeface="黑体"/>
              </a:rPr>
              <a:t>让岁月铭记这一回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15228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66ff33"/>
                </a:solidFill>
                <a:latin typeface="黑体"/>
                <a:ea typeface="黑体"/>
              </a:rPr>
              <a:t>超越梦想一起飞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【书利华教育网 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4920" y="510552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祝大家心情愉快，高三学有所成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I  love  you  .  Good  luck  to  you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将来到九寨沟漫步，到三亚看海，去领略别样的人生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610480" y="5638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【书利华教育网 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55627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华文行楷"/>
                <a:ea typeface="华文行楷"/>
              </a:rPr>
              <a:t>愿  每  个  日  子  都  圆  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1143059-lJFJE3F7ks" descr="http://photos.gznet.com/photos/1143059/1143059-lJFJE3F7ks.jpg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472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【书利华教育网 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【书利华教育网 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2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【书利华教育网 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【书利华教育网 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亚龙湾气候宜人，冬可避寒、夏可消暑、自然风光优美、青山连绵起伏、海湾波平浪静、湛蓝的海水清澈如镜，柔软的沙滩洁白如银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亚归来不看海，除却亚龙不是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是游人对亚龙湾由衷的赞誉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953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【书利华教育网 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6984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【书利华教育网 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九寨归来不看水——春之九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09480"/>
            <a:ext cx="8915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春天的九寨是这样的浪漫清新，这样的平静坦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她让我们领略了自然的造化是如此的神奇丰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【书利华教育网 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【书利华教育网 www.ShuLiHua.Net】</dc:creator>
  <dc:description>【书利华教育网 www.ShuLiHua.Net】</dc:description>
  <cp:keywords>【书利华教育网 www.ShuLiHua.Net】</cp:keywords>
  <dc:language>en-US</dc:language>
  <cp:lastModifiedBy>User</cp:lastModifiedBy>
  <dcterms:modified xsi:type="dcterms:W3CDTF">2013-04-14T02:43:04Z</dcterms:modified>
  <cp:revision>44</cp:revision>
  <dc:subject>【书利华教育网 www.ShuLiHua.Net】</dc:subject>
  <dc:title>【书利华教育网 www.ShuLiHua.Net】</dc:title>
</cp:coreProperties>
</file>