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D2E-2870-4148-A03A-1A7EF0B3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BA6-9585-4575-B3CF-BE6BE5F3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6DE-4F03-4254-B50A-F802CA6B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3E88-C526-4F4E-BB6D-C8419D22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214-1E69-42A9-81B7-28682C5A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157A-484E-48F8-BF1A-F1BDF771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899B-23CE-469F-B897-E4A0BE76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FA4-60F4-47FA-9BD1-86465ADD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193-8C15-441F-8C2E-694DE95F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DEC3-01E1-45FE-8750-F86282D9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8E3-A3DB-4966-A279-40D6756C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153-A29D-468A-B92B-E0073018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A3FF-E1AB-4940-873F-C450B2B1BF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1052640"/>
            <a:ext cx="8064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000000"/>
                </a:solidFill>
                <a:latin typeface="Arial"/>
                <a:ea typeface="黑体"/>
              </a:rPr>
              <a:t>谢谢你的爱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005360"/>
            <a:ext cx="86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一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班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2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周主题班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42920" y="765000"/>
            <a:ext cx="136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初步感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421000"/>
            <a:ext cx="48243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真实的故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两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1125360"/>
            <a:ext cx="770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湖北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岁的农民父亲胡介甫将自己的肾脏移植给了患“尿毒症”的儿子，固执的父亲不容拒绝地告诉儿子胡立新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：“没什么比你的命更重要？我宁可自己没命，也不能看着你死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6028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其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58920" y="620640"/>
            <a:ext cx="7632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沈阳市五里河公园里，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岁的男孩童童掉进鲨鱼池。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3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岁的母亲刘燕当时也顾不上将手上的相机和肩上的背包放下，直接跳入鲨鱼池中将儿子救出。刘燕在接受采访时只说了一句话：“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儿子就是我的全部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0" y="333360"/>
            <a:ext cx="10947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其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56360" y="549360"/>
            <a:ext cx="93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苹果树的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9200" y="907920"/>
            <a:ext cx="2009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深 入 感 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3284640"/>
            <a:ext cx="48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我和爸爸妈妈的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119700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我的爸爸妈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63640" y="162864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父母的期望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4221000"/>
            <a:ext cx="86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能切切实实为父母做些什么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08000" y="1773360"/>
            <a:ext cx="6337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爸爸妈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我要对你说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47640" y="1989000"/>
            <a:ext cx="61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以周杰伦的歌曲《听妈妈的话》结束班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2:25:27Z</dcterms:created>
  <dc:creator>微软用户</dc:creator>
  <dc:description/>
  <dc:language>en-US</dc:language>
  <cp:lastModifiedBy>User</cp:lastModifiedBy>
  <dcterms:modified xsi:type="dcterms:W3CDTF">2013-04-14T02:41:58Z</dcterms:modified>
  <cp:revision>1</cp:revision>
  <dc:subject/>
  <dc:title>幻灯片 1</dc:title>
</cp:coreProperties>
</file>