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9A9-06B7-45A4-9073-361BEAA3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587-EA0D-4871-BD8F-3C0A6746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CBE-D0AD-4775-B908-73817173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77E-80BD-4B52-8352-785050A4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93F8-CACD-4BF1-9A5E-2C823DD5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AAEC-B280-4602-83AC-DFF85C1C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8A43-0915-4DB5-828F-636F930B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D620-B62D-460A-A3A0-C7E940CB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7AEC-BB37-4FA8-A65A-E0339956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3365-0B11-460F-BA09-FE645632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2F46-4A51-4B6B-96DC-C48B00F0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07C-200E-4C71-96A7-84432A1E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497F-F5D9-4830-B212-8F3FEEE8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151D-5236-4E22-A512-64D567A7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5008-2EC6-4139-BBFA-7548238C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7D44-0BBB-49E5-B4DB-E9453489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DE48-97E7-48CA-843F-FEDA42B6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552-4AB7-47AD-82A6-FB07DFC2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104-AF7B-4A09-88A4-C5266E0D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AFD-A2B1-4F11-B265-288A8745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585-1F6F-4B82-A6F2-E14E79D0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8AF-5764-4D2F-A9F4-4BC8F94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BDD-BF3F-4D16-BDCE-827FB65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C66-2E14-4D07-A109-A1652187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C81C-0DCC-4079-AF57-8D6AC537C84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2212-831C-4064-898A-7D5670C886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自信</a:t>
            </a: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irley23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2349360"/>
            <a:ext cx="8229600" cy="435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勤奋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机智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爱心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勇敢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细致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谦和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韧劲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正直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730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我们班，如果以欣赏的眼光看人，每个同学都有自身的长处，让我们在欣赏别人的同时，交流所获得的积极而丰富的情感体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728720" cy="170028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244000" y="6237360"/>
            <a:ext cx="720720" cy="43164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56000" y="141264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激励小语赠同学。要求：为同学们设计一个鼓舞人心的口头语，并写在纸片上。如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先相信自己，然后别人才会相信你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哪怕是最果断的人，只要他失去自信，也会变成懦夫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5724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活动二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c0039"/>
                </a:solidFill>
                <a:latin typeface="Arial"/>
              </a:rPr>
              <a:t>团结篇：</a:t>
            </a:r>
            <a:endParaRPr b="0" lang="en-US" sz="8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2720" y="2709720"/>
            <a:ext cx="44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团结——成功的基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765000"/>
            <a:ext cx="6400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每一个人都要生活在集体之中，无论是学习，工作、生活、娱乐，每个人都离不开与他人的接触与合作。所以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不是这个世界上每个人成就都是个人的，它们的成功凝聚着千千万万人的汗水，泪水和血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411280" y="765000"/>
            <a:ext cx="6400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人的智慧和力量是有限的。但是，如果把个人的智慧和力量融入集体之中，就会变成取之不尽，用之不竭的集体智慧和力量；创造出非凡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03640" y="-9349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84360" y="333360"/>
            <a:ext cx="6400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俗话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没有土壤，泰山不能成其大；没有细流，河海不能就其深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楼大厦是由一砖一石砌成，集体由一个个的个人组成，个人组成集体，集体有力量，可是这要依赖每一个人的力量汇集而成；集体有智慧，可是这智慧要依赖每一个人的聪明才智。集体是温暖的大家庭，这温暖也同样来源于每个成员献出的爱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87640" y="-1755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68360" y="189000"/>
            <a:ext cx="640080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根筷子轻轻一折就会被折断，十根筷子牢牢抱成团。个人不能脱离集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集体需要每个人的支持。这正如滴水与大海；二者辅车相依，缺一不可。良好的集体就像一个温暖的大家庭，能给人以关心和帮助。是每个成员获得战胜困难和挫折的信心和力量的源泉；良好的集体是陶冶个人情操和品格的熔炉，是人们之间建立、发展和巩固纯真友谊的桥梁和纽带；良好的集体更是个人成才、全面发展的良好环境和基本条件，是个人聪明才智施展的活动舞台和广阔天地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c0039"/>
                </a:solidFill>
                <a:latin typeface="Arial"/>
              </a:rPr>
              <a:t>自由发言时间：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怎么样组建一个团结的集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411280" y="76464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我的意见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43200" y="-1219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340000" y="0"/>
            <a:ext cx="680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5c"/>
                </a:solidFill>
                <a:latin typeface="Arial"/>
              </a:rPr>
              <a:t>一</a:t>
            </a:r>
            <a:r>
              <a:rPr b="1" lang="zh-CN" sz="4400" spc="-1" strike="noStrike">
                <a:solidFill>
                  <a:srgbClr val="e4005c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e4005c"/>
                </a:solidFill>
                <a:latin typeface="Arial"/>
              </a:rPr>
              <a:t>同学间的互助互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班级这个大家庭必不可少的一点。其实，只要每一个人献出一份爱心，拥有一份真心，拿出一份热心，就可以造就一份温暖——温暖自己、温暖别人、温暖集体。热爱自己的集体，是每一个在这个集体的人应尽的义务；真诚地接受集体中的每一个成员，是履行这项义务的基础。别人有了困难，应该义不容辞地去帮助他；要有集体荣誉感，肯为班作贡献。当班被学校表扬时，我们应该感到光荣，继续努力；当班被学校批评时，我们应感到羞耻，自我检讨，改正错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62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c0039"/>
                </a:solidFill>
                <a:latin typeface="Arial"/>
              </a:rPr>
              <a:t>请先看一则材料：</a:t>
            </a:r>
            <a:r>
              <a:rPr b="1" lang="zh-CN" sz="6000" spc="-1" strike="noStrike">
                <a:solidFill>
                  <a:srgbClr val="8c0039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0920" y="1052640"/>
            <a:ext cx="67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……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因有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自称‵天才′的家伙的相聚，就有了狂风、闪电、雷雨——这些青春之歌中的旋律，却是我们身体中无法磨灭的年轮。”在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的三年成为我们每一位同学对青春的诠释。我们可以在全国数理化竞赛中摘取奖项；可以在高考中取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的平均成绩；可以在大合唱、艺术节中大放异彩；也可以用每人一张的课程表做成扑克牌来“打发时光”……在这样的一个集体里，你很难不刻苦学习，也很难不思维活跃。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340000" y="17460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5c"/>
                </a:solidFill>
                <a:latin typeface="Arial"/>
              </a:rPr>
              <a:t>二</a:t>
            </a:r>
            <a:r>
              <a:rPr b="1" lang="zh-CN" sz="3600" spc="-1" strike="noStrike">
                <a:solidFill>
                  <a:srgbClr val="e4005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e4005c"/>
                </a:solidFill>
                <a:latin typeface="Arial"/>
              </a:rPr>
              <a:t>为集体服务、为集体争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会使班集体团结得到升华。同学们要乐意为班集体服务，才有可能争光。如果一个学生眼里没有自己的班集体，只爱顾着自己的事，对做出损害班集体荣誉的事毫不在乎，为班集体干点事觉得吃亏……说到底也是自私。希望我们班的同学们剔除自私心，用一颗真诚的心爱着自己的班集体，让这盘沙凝聚起来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19640" y="-153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24000" y="-360"/>
            <a:ext cx="702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5c"/>
                </a:solidFill>
                <a:latin typeface="Arial"/>
              </a:rPr>
              <a:t>三、 相互尊重、加强合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我们再去歧视同学，那么我们就不会有一个团结友爱的集体，我们就不会再一起进步，我们能同在一个班集体，这是我们的缘分。我们应该珍惜这份缘分，珍惜这份友谊。我们应该团结互助，一起努力向前！让所有人都知道高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班是一个团结的大家庭！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24000" y="33336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集体是大众力量的凝聚，集体是聪明才智的结晶，集体的成败取决于每一个个体。我们只有热爱集体，团结合作才能发挥自己的作用。 我们班才有凝聚力，否则班级就是一盘散沙，风一吹就散了。所以，从你做起，从我做起，伸出你充满爱心的双手，关心帮助班中需要帮助的同学，并为集体的荣耀争一口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谐的集体靠大家共同建立！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16720" y="1741320"/>
            <a:ext cx="263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明天会更好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0" y="1341360"/>
            <a:ext cx="648036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c0039"/>
                </a:solidFill>
                <a:latin typeface="Arial"/>
              </a:rPr>
              <a:t>找一找我们班的问题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c0039"/>
                </a:solidFill>
                <a:latin typeface="Arial"/>
              </a:rPr>
              <a:t>最大的问题：</a:t>
            </a:r>
            <a:endParaRPr b="0" lang="en-US" sz="8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68000" y="155736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自信</a:t>
            </a: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36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8c0039"/>
                </a:solidFill>
                <a:latin typeface="Arial"/>
              </a:rPr>
              <a:t>自信篇：</a:t>
            </a:r>
            <a:endParaRPr b="0" lang="en-US" sz="8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40000" y="2923920"/>
            <a:ext cx="662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信又叫自信心，是相信自己有能力实现自己愿望的心理，是对自己力量的充分肯定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1700280"/>
            <a:ext cx="51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什么是自信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195640" y="189000"/>
            <a:ext cx="6697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你现在打开布鲁金斯学会的网站，就会发现在该学会的网页上发现一句格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e4005c"/>
                </a:solidFill>
                <a:latin typeface="Arial"/>
              </a:rPr>
              <a:t>不是因为有些事情难以做到，我们才失去自信；而是因为我们失去了自信，有些事情才显得难以做到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6191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c0039"/>
                </a:solidFill>
                <a:latin typeface="Arial"/>
              </a:rPr>
              <a:t>自信心的重要性：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11280" y="1197000"/>
            <a:ext cx="655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信心的人，可以化渺小为伟大，化平庸为神奇。信心可以改变恶劣的现状，使我们充满激情去笑对困难，过关斩将，实现理想。即使在最困难的时候，仍能保持乐观奋进的拼搏精神。可以说，人的一生取得的任何一次成功，都是伴随着自尊自信取得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09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c0039"/>
                </a:solidFill>
                <a:latin typeface="Arial"/>
              </a:rPr>
              <a:t>那么如何培养自信心呢？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善于发现自己的长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给自己一个微笑。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会积极的自我暗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会自我激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感受别人的欣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成功的体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充实自我，提高自身素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740720" y="1916280"/>
            <a:ext cx="647640" cy="28872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028000" y="6093000"/>
            <a:ext cx="936720" cy="50472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c0039"/>
                </a:solidFill>
                <a:latin typeface="Arial"/>
              </a:rPr>
              <a:t>活动一：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请同学们拿一张纸写出自己的优点，多多益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懂得欣赏别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3:42:56Z</dcterms:created>
  <dc:creator>user</dc:creator>
  <dc:description/>
  <dc:language>en-US</dc:language>
  <cp:lastModifiedBy>User</cp:lastModifiedBy>
  <dcterms:modified xsi:type="dcterms:W3CDTF">2013-04-14T02:41:41Z</dcterms:modified>
  <cp:revision>13</cp:revision>
  <dc:subject/>
  <dc:title>自信·团结</dc:title>
</cp:coreProperties>
</file>