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56E-BDC3-4E7D-9DF1-C5E71385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D05-3068-4362-A88B-276602B1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AD5-FB5B-4AA7-9E7E-928A9F97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792-8AC2-4DFC-8161-B0B276E2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2CE7-46EC-4E0C-A342-C236D858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5D82-B309-4995-B420-4BC64509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343F-23CF-4AD2-B91A-1284D23F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8221-3EB1-4AF6-915E-00F85ACD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4168-4656-45F5-BD34-B3201746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A8E4-87EE-44A0-89BD-8189B1D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867D-335A-4F3E-AB25-027645E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FC5-1A56-4905-98DB-E0F473A4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347A-7257-410C-9637-9142840C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3AE7-BEF1-486A-8259-62C536B3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67F3-270D-467A-8CF8-5E3203E4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1BD1-C8A1-408B-A5DA-6CC3047F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7FFF-9F7F-4CB7-9EBF-340F88F0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B0E-4C4A-46AB-88F6-D8A6C15E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F86-A8AD-4F9C-9D32-488FBE76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EC8-81C7-43CA-8F1D-0CCF455E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E2D-B1FA-41D6-8BEA-18FF7931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A71-E1AA-4EE1-8DF6-949CCACF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F68-00AA-461B-A96A-84BAACB7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386-0439-4A17-BAD9-5F660F41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4771-275A-452A-8CEB-29728307AE6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6CDA-209B-4806-AFD3-F2F2270C3C95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1844640"/>
            <a:ext cx="75182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竞争合作 共创理想 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40600" y="2844000"/>
            <a:ext cx="386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游戏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-----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《你想挑战吗》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835280" y="1125360"/>
            <a:ext cx="4897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三篇</a:t>
            </a:r>
            <a:r>
              <a:rPr b="1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---</a:t>
            </a:r>
            <a:r>
              <a:rPr b="1" lang="zh-CN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现场体验篇</a:t>
            </a:r>
            <a:endParaRPr b="1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26828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在一个细颈的瓶子里，用绳子栓着小球，请三个代表拉住绳子。现假设这个绳子就代表你自己，然后在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秒中内瓶中会注满水。我们想在最短的时间里逃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最后请小组成员谈谈成功或失败的原因，我们能从中得到什么启示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270828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竞争合作、共创理想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87640" y="98100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四篇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1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在建立良好班集体中，如何处理同学间的竞争关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你有一本很好的数学参考复习用书，同学向你借这本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考试前，学习非常紧张，有同学经常让你给他解答问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提高班级整体成绩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你会怎么做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对其他同学有什么建议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值日、教室大扫除、出班刊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班级常规管理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---------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843280" y="1197000"/>
            <a:ext cx="25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五篇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3111480" y="3213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班主任寄语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1844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参与竞争，学会合作，共创理想，享受成功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87280" y="256536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的竞争与合作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6380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3807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75400" y="285228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416c6"/>
                </a:solidFill>
                <a:latin typeface="Arial"/>
              </a:rPr>
              <a:t>竞争与合作，生存发展的条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71640" y="620640"/>
            <a:ext cx="2592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一篇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66400" y="4762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16c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416c6"/>
                </a:solidFill>
                <a:latin typeface="Arial"/>
              </a:rPr>
              <a:t>、从自然界层面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2766960" cy="306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360" y="551664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4028"/>
                </a:solidFill>
                <a:latin typeface="Arial"/>
              </a:rPr>
              <a:t>合作中求生存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716360" y="3103560"/>
            <a:ext cx="4427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726360" y="619920"/>
            <a:ext cx="9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416c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4416c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4416c6"/>
                </a:solidFill>
                <a:latin typeface="Arial"/>
              </a:rPr>
              <a:t>、从社会层面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5905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15040" y="548640"/>
            <a:ext cx="95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416c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4416c6"/>
                </a:solidFill>
                <a:latin typeface="Arial"/>
              </a:rPr>
              <a:t>、从学习层面看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3413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情景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1    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张婷和王帆是好朋友，在小学时，张婷成绩一般，王帆家虽然贫困，但她的成绩在班里却是名列前茅，张婷就在心里暗下决心，要赶上王帆。经过一个学期的努力，张婷终于如愿以偿，赶上王帆，而且直到上初中两个人的成绩也是不相上下，在班里数一数二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437000"/>
            <a:ext cx="871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问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张婷为什么能成功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正当竞争对我们每个人有什么好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981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情景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2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可是上高中后，两人的成绩渐渐拉开了差距。张婷无论怎样努力，数学总是不如王帆。一天张婷趁王帆不在教室，偷偷地把王帆的数学书拿走，扔到了厕所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42900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问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张婷为什么会这么做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你怎么看待张婷的行为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换成是你会怎么做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想一想不正当竞争还会带来哪些危害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2000" y="47556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416c6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4416c6"/>
                </a:solidFill>
                <a:latin typeface="Arial"/>
              </a:rPr>
              <a:t>、从历史层面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3022560" cy="396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924360" y="1413000"/>
            <a:ext cx="3724200" cy="396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83800" y="1700280"/>
            <a:ext cx="11552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既生瑜，何生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537372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周瑜之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3640" y="328464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五指论英雄”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63640" y="1125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二篇</a:t>
            </a:r>
            <a:r>
              <a:rPr b="1" lang="en-US" sz="8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---</a:t>
            </a:r>
            <a:r>
              <a:rPr b="1" lang="zh-CN" sz="8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故事篇</a:t>
            </a:r>
            <a:endParaRPr b="1" lang="en-US" sz="8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9368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从前，有一位长者听到五个手指在议论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拇指说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：我最粗，干什么事都离不开我。别的四个手指都没用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食指说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：大拇指太粗，中指太长，无名指太细，小拇指太短，他们都不行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指说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：我的个子最高，顶天立地、只要我一个人就能做很多事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无名指说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：真讨厌，大家都不给我一个名字，我真不愿意和他们在一起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拇指说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：他们长得那么长、那么粗，有什么用？我是小而灵，不知道浓缩的是精华吗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我的作用最大。</a:t>
            </a:r>
            <a:br>
              <a:rPr sz="2400"/>
            </a:b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　　长者听了他们的对话，语重心长地对他们说：你们都说自己最有用，那么我   就请你们来比一比，看看到底谁的作用大。于是这位长者拿出两只碗，其中一只里面放了一些小豆子，要求五只手指分别把这些小豆子拿到另一只碗里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结果怎么样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这个故事让你明白了什么道理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3:49:1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41:10Z</dcterms:modified>
  <cp:revision>23</cp:revision>
  <dc:subject>主题班会课件(分28大类): http://shop62905894.taobao.com</dc:subject>
  <dc:title>主题班会课件(分28大类): http://shop62905894.taobao.com</dc:title>
</cp:coreProperties>
</file>