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camera.wav" ContentType="audio/x-wav"/>
  <Override PartName="/ppt/media/image22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6.wmf" ContentType="image/x-wmf"/>
  <Override PartName="/ppt/media/image24.jpeg" ContentType="image/jpeg"/>
  <Override PartName="/ppt/media/image21.png" ContentType="image/png"/>
  <Override PartName="/ppt/media/image16.jpeg" ContentType="image/jpeg"/>
  <Override PartName="/ppt/media/chimes.wav" ContentType="audio/x-wav"/>
  <Override PartName="/ppt/media/image14.jpeg" ContentType="image/jpeg"/>
  <Override PartName="/ppt/media/image13.jpeg" ContentType="image/jpeg"/>
  <Override PartName="/ppt/media/image23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003-FED9-4C2A-9E77-A2730E64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A54-C8BE-409A-ABDC-BB0D5B47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886-B05A-4571-ACEC-7E0A4FD1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326-9F82-45CD-8429-4B8B188D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57A6-BBFA-4FC3-8F8D-05FED633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CE71-FCCE-43EE-BAF7-825A186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4512-C691-4DFE-BF03-F99B741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23CC-045A-4B3E-980B-DA31F5CD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9BF5-3CEE-412D-BEEB-3B9A33F4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8834-AFD2-4939-8B7E-3F17BA9A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BE3A-893B-481D-B399-756B320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420-2B9A-4015-B464-B4DF5D4B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AC09-7AF5-4BA3-A082-2902D973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1EFB-64B0-4D66-A89A-B2CD130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5048-AE54-4105-B872-4311561F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180-6DBF-46EF-A16D-EB1BD442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79D5-2ABF-4D38-8910-9C38EBDD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E0A-B4CC-4DE1-9880-23B16A2B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005-D8E9-4809-859B-A6CA0D97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F82-2F43-4A7A-B31C-71B22E85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3B7-B2A5-4ED2-9D4E-A8DD3EC9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890-354A-4440-9E5D-A2E2F593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24C-547D-4EBC-8F72-C42F20E8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2F4-E36F-4962-A8CF-CC0F9618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2B39-22F2-4C16-A1D5-34CBB6E383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5BB8-D3DF-4947-A44E-7F98A1A9B2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ports.163.com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3467160" cy="563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434280"/>
            <a:ext cx="9144000" cy="423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03760" y="0"/>
            <a:ext cx="4440240" cy="2109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39640" y="189000"/>
            <a:ext cx="202752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团结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419640" y="836640"/>
            <a:ext cx="2133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华文彩云"/>
              </a:rPr>
              <a:t>宽容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华文彩云"/>
              <a:ea typeface="华文彩云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12000" y="692280"/>
            <a:ext cx="2438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奋进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" name=""/>
          <p:cNvSpPr/>
          <p:nvPr/>
        </p:nvSpPr>
        <p:spPr>
          <a:xfrm>
            <a:off x="3600720" y="4076640"/>
            <a:ext cx="457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-----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让我们风雨同行向前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98920" y="524988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七三班 主题班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439560" cy="439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05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四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心平气和的与其交谈</a:t>
            </a:r>
            <a:br>
              <a:rPr sz="44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遏制矛盾进一步深化的处理办法就是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静下心来与其交谈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可能在你先心平气和之后对方也不好意思在争吵下去，也会转“仇敌”为友好，与你聊起来。或许在这其中你和对方还会成为无话不谈的好朋友呢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打不相识嘛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其实在日常生活中，这样的事很多。处理同学间矛盾的方法不只这些，聪明的你或许会发现更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295280" y="533520"/>
            <a:ext cx="6647040" cy="7617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1523880"/>
            <a:ext cx="6934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每天对身边的人多微笑三次，把欢乐传递下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每天花五分钟想一想自己拥有的，试着去感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每天原谅一个伤害你的人，让痛苦的能量到你这里为止，做“痛苦终结者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每天做一件帮助他人的好事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别人让你感到不愉快时，尽量去理解他，试着去了解他的苦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每天锻炼身体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每天称赞别人的优点，并尽量去学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别人的成绩鼓掌，而不去嫉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00200"/>
            <a:ext cx="6858000" cy="470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79440" y="329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78720" y="609480"/>
            <a:ext cx="187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奋进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        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隶书"/>
              </a:rPr>
              <a:t>羚羊和狮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在非洲一望无际的草原上，有一个由各种动物组成的自然界动物社会。每天草原上羚羊睁开眼睛，所想的第一件事就是，我必须跑的更快，否则我会被狮子吃掉。与此同时，狮子从睡梦中醒来，首先在脑海里闪现的第一个念头就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我必须跑的更快以追上更多的羚羊，否则我就会被饿死。于是与此同时，羚羊和狮子一跃而起，迎着朝阳跑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生活就是这样，无论你是羚羊还是狮子，每当太阳升起的时候，就要毫不迟疑的向前奔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大家先看一个小小的对话，看有什么启发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内容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学校举行文艺表演，他们是我们班上最能歌善舞的同学，我作为文娱委员当然要请他们在晚会上表演一两个节目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文：    小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，你这么能歌善舞，能在晚会上为我们表演一个节目吗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：  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自卑地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哎哟，我这歌喉和舞姿哪能见人呢，不要叫我出丑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文：   班上的同学都很喜欢你的歌舞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：    这是他们抬举我罢了，我哪有那么好的才能，而且我也没有这个胆量，你还是放过我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文：  那我也不勉强了。小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，你的歌舞也很出众，你愿意为我们作表演吗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：   哎，谢谢你的称赞。有机会让我在班上表演我当然乐意啦，而且这也是作为班集体的一分子的责任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会尽力而为的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文：   谢谢你的支持。小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，你愿意参加表演吗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：   表演是我的强项，班上除了我还有人敢认第一吗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表演当然是非我莫属啦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!(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指着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B)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不过他和我同台表演似乎不太相配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问：“表演中的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分别是什么心理的表现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848360" cy="5029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A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自卑心理 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B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自信心理 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C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自大心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　　     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自大－－过高地评价自己，看不到自己的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自信－－恰当地评价自己的优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自卑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----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过低地评价自己，看不到自己的优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758680" y="685800"/>
            <a:ext cx="4204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集体。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需要每个成员象星星般闪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才会成为同学前进的明灯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你要自信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但不自大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更不用自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每人贡献自己应有的力量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共同克服所有的困难！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3697200" cy="3668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st Wish For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9144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倡议书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267440" cy="6400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422280"/>
            <a:ext cx="6096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10900"/>
                </a:solidFill>
                <a:latin typeface="Arial"/>
                <a:ea typeface="Arial"/>
              </a:rPr>
              <a:t>心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湖水是你的眼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梦想满天星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心情是一个传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亘古不变地等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成长是一扇树叶的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童年有一群亲爱的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春天是一段路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沧海桑田的拥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那些我爱的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那些离逝的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那些永远的誓言一遍一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那些爱我的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那些沉淀的泪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那些永远的誓言一遍一遍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我们都曾有过一张天真而忧伤的脸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手握阳光我们望着遥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轻的一天天一年又一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长大间我们是否还会再唱起</a:t>
            </a:r>
            <a:r>
              <a:rPr b="1" lang="zh-CN" sz="2400" spc="-1" strike="noStrike">
                <a:solidFill>
                  <a:srgbClr val="e10900"/>
                </a:solidFill>
                <a:latin typeface="Arial"/>
                <a:ea typeface="Arial"/>
              </a:rPr>
              <a:t>心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长大间我们是否还会再唱起</a:t>
            </a:r>
            <a:r>
              <a:rPr b="1" lang="zh-CN" sz="2400" spc="-1" strike="noStrike">
                <a:solidFill>
                  <a:srgbClr val="e10900"/>
                </a:solidFill>
                <a:latin typeface="Arial"/>
                <a:ea typeface="Arial"/>
              </a:rPr>
              <a:t>心愿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7228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5480" y="1676520"/>
            <a:ext cx="727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We  are the one 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0760" y="38955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ff"/>
                </a:solidFill>
                <a:latin typeface="隶书"/>
                <a:ea typeface="隶书"/>
              </a:rPr>
              <a:t>团结吧，七三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24000" y="260280"/>
            <a:ext cx="4321080" cy="129564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3816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39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312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位智者和他的徒弟正漫步于河边，智者问徒弟：“怎样才能使一滴水永不干涸？”徒弟大惑，然后曰：“将它托入掌心。”师父笑曰：“非也、非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4869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将它投入大海之中。”……是啊！一滴水只有在大海中才不会干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5480" y="1676520"/>
            <a:ext cx="727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We  are the one 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50760" y="38955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ff"/>
                </a:solidFill>
                <a:latin typeface="隶书"/>
                <a:ea typeface="隶书"/>
              </a:rPr>
              <a:t>团结吧，七三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38240" y="1066680"/>
            <a:ext cx="504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隶书"/>
              </a:rPr>
              <a:t>冬天里，大雁由北往南飞，总是要排成“一”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隶书"/>
              </a:rPr>
              <a:t>或“人”字形。可加拿大的大雁都要排成“人”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隶书"/>
              </a:rPr>
              <a:t>知道是为什么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30760" y="2438280"/>
            <a:ext cx="549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它们觉得这样雁群所受的阻力最小，也能更好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应付外界的入侵。在“人”字形的最上边会有一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领头的大雁，由它领着雁群飞向同一个方向。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因为飞在最前面，所以它所受的阻力也最大。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这只头雁累了的时候，马上会有另一只大雁来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上，每只大雁都要轮流做一次头雁，都要首当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冲地面对困难，并且为其他大雁分担困难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而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只大雁受伤或劳累过度而掉队时，所有的大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都不会再前进，而是围在这只大雁的四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30560" y="303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来自大自然的讯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114800" y="1981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39625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00"/>
                </a:solidFill>
                <a:latin typeface="Times New Roman"/>
                <a:ea typeface="楷体_GB2312"/>
              </a:rPr>
              <a:t>风中红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8769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00"/>
                </a:solidFill>
                <a:latin typeface="Times New Roman"/>
                <a:ea typeface="楷体_GB2312"/>
              </a:rPr>
              <a:t>——</a:t>
            </a:r>
            <a:r>
              <a:rPr b="1" lang="zh-CN" sz="5400" spc="-1" strike="noStrike">
                <a:solidFill>
                  <a:srgbClr val="333300"/>
                </a:solidFill>
                <a:latin typeface="Times New Roman"/>
                <a:ea typeface="楷体_GB2312"/>
              </a:rPr>
              <a:t>团结就是力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14720" y="1219320"/>
            <a:ext cx="651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ffff"/>
                </a:solidFill>
                <a:latin typeface="隶书"/>
                <a:ea typeface="隶书"/>
              </a:rPr>
              <a:t>一花独放不是春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ffff"/>
                </a:solidFill>
                <a:latin typeface="隶书"/>
                <a:ea typeface="隶书"/>
              </a:rPr>
              <a:t>        </a:t>
            </a:r>
            <a:r>
              <a:rPr b="1" i="1" lang="zh-CN" sz="5400" spc="-1" strike="noStrike">
                <a:solidFill>
                  <a:srgbClr val="66ffff"/>
                </a:solidFill>
                <a:latin typeface="隶书"/>
                <a:ea typeface="隶书"/>
              </a:rPr>
              <a:t>百花齐放满园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3838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 rot="5400000">
            <a:off x="-2286360" y="228600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案例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0"/>
            <a:ext cx="754380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大概内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阿虎、小刚、小军是某中学一年级学生。有一天，他们在操场上上活动课，突然，一个蓝球“嘭”的一声打在阿虎的头上。阿虎问：“谁扔的，想找死！”这时，有两个同学跑过来忙向阿虎道歉：“对不起，请原谅。”阿虎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不起就行了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由分说，上去就对这两个同学拳打脚踢。一边打还一边对小刚、小军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我打，反正打人不犯法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3640" y="5084640"/>
            <a:ext cx="5689440" cy="1773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 rot="5400000">
            <a:off x="-2171880" y="2400120"/>
            <a:ext cx="6324480" cy="19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案例二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0"/>
            <a:ext cx="716292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大概内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天学校组织活动，某个学生表现不佳，受到老师的批评，这个同学没有听从老师的安排，这个班的其他同学纷纷指责，一时间，乱成一团、、、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正确处理同学们之间的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矛盾的几点解决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一）学会道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道 歉 能 减 轻 内 心 的 不 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道 歉 能 化 解 矛 盾 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道 歉 是 一 种 高 尚 的 精 神 境 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3200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舒体"/>
                <a:ea typeface="方正舒体"/>
              </a:rPr>
              <a:t>当你与同学发生矛盾时，首先要做的是站在对方的位置，用对方当时的心理来思考一下这件事，是自己的过失还是对方的    不对。只有这样我们才能体谅对方的心情，才不会在一顿大吵大闹中互相埋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74400" y="1922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、心理换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8132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、退一步海阔天空</a:t>
            </a:r>
            <a:br>
              <a:rPr sz="4400"/>
            </a:b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退一步海阔天空，忍一时风平浪静”。在你和你的同学发生了争执时，不要一时昏 了头脑，不吵个脸红脖子粗决不罢休，或许在你退一步之后，这场争吵便停止了。不要认为在这个过程中自己让一步就是畏惧，是退缩，是没有本事的表现，相反，就在你忍让的那一时刻起，你周围的人会对你的行为发出无声的赞叹：你是一个不拘小节，心胸开阔的人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15:07:27Z</dcterms:created>
  <dc:creator>ZD</dc:creator>
  <dc:description/>
  <dc:language>en-US</dc:language>
  <cp:lastModifiedBy>User</cp:lastModifiedBy>
  <dcterms:modified xsi:type="dcterms:W3CDTF">2013-04-14T02:37:40Z</dcterms:modified>
  <cp:revision>46</cp:revision>
  <dc:subject/>
  <dc:title>PowerPoint 演示文稿</dc:title>
</cp:coreProperties>
</file>