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gif" ContentType="image/gif"/>
  <Override PartName="/ppt/media/image7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AD0D-2667-4E0E-83F9-E2DCF5099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0179-C1A6-4384-9E72-70F468D31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E220-4E70-41F7-9F46-9DFB395C0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2BAD-9F4F-499C-81E3-8D32498C2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87F1-5645-4504-A836-AF8D07A06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504A-CC0E-4667-93E6-38399BC95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361B-B451-40E8-AEDC-F4FB679F2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0773-9120-4368-9B89-FD0790C61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625D-E92C-41DC-A13A-385E73665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593E-4F32-42D3-8EF4-F32030F35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452D-8F9B-49E9-A6A2-742D1EA86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CC1B-1E90-40C1-BCB7-BFA3909A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D4F5F-37FD-4719-9D3A-C98BE15734E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" Target="slide1.xm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556000" y="2852640"/>
            <a:ext cx="5111640" cy="105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宋体"/>
              </a:rPr>
              <a:t>学会交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宋体"/>
              <a:ea typeface="宋体"/>
            </a:endParaRPr>
          </a:p>
        </p:txBody>
      </p:sp>
      <p:sp>
        <p:nvSpPr>
          <p:cNvPr id="43" name=""/>
          <p:cNvSpPr/>
          <p:nvPr/>
        </p:nvSpPr>
        <p:spPr>
          <a:xfrm>
            <a:off x="3489840" y="1341360"/>
            <a:ext cx="332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高一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）班主题班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734520" y="6165720"/>
            <a:ext cx="17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2008.11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77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770" fill="hold"/>
                                        <p:tgtEl>
                                          <p:spTgt spid="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900000" y="620640"/>
            <a:ext cx="61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如何与老师建立良好关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71640" y="1773360"/>
            <a:ext cx="43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ahoma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ahoma"/>
              </a:rPr>
              <a:t>尊重老师的劳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71640" y="2637000"/>
            <a:ext cx="43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ahoma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ahoma"/>
              </a:rPr>
              <a:t>要有礼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71640" y="3500280"/>
            <a:ext cx="43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ahoma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ahoma"/>
              </a:rPr>
              <a:t>大胆表现你的才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71640" y="429264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ahoma"/>
              </a:rPr>
              <a:t>4.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Tahoma"/>
              </a:rPr>
              <a:t>对老师提建议要委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71640" y="508464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ahoma"/>
              </a:rPr>
              <a:t>5.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Tahoma"/>
              </a:rPr>
              <a:t>当老师批评错了时也别在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71640" y="580536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ahoma"/>
              </a:rPr>
              <a:t>6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ahoma"/>
              </a:rPr>
              <a:t>懂得感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794600" y="5493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可敬的老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4932360" cy="37321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156360" y="7650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图片背后的故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4560" y="1466280"/>
            <a:ext cx="8569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当汶川县映秀镇的群众徒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手搬开垮塌的镇小学教学楼的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角时，被眼前的一幕惊呆了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名男子跪仆在废墟上，双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紧紧搂着两个孩子，两个孩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还活着，而他已经气绝！由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紧抱孩子的手臂已经僵硬，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援人员只得含泪将之锯掉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把孩子救出。这就是该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岁的老师张米亚。“摘下我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翅膀，送给你飞翔。”多才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艺、最爱唱歌的张米亚老师用生命诠释了这句歌词，用血肉之躯为他的学生牢牢把守住了生命之门。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900000" y="620640"/>
            <a:ext cx="61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如何与家长建立良好关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71640" y="1773360"/>
            <a:ext cx="43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ahoma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ahoma"/>
              </a:rPr>
              <a:t>懂得感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71640" y="278136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ahoma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ahoma"/>
              </a:rPr>
              <a:t>要理解父母的良苦用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378936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ahoma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ahoma"/>
              </a:rPr>
              <a:t>主动与父母沟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71640" y="472428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ahoma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ahoma"/>
              </a:rPr>
              <a:t>主动分担力所能及的家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411280" y="1916280"/>
            <a:ext cx="3897360" cy="4176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1187280" y="549360"/>
            <a:ext cx="6769440" cy="12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ff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宋体"/>
              </a:rPr>
              <a:t>春风化细雨 沐浴我心田</a:t>
            </a:r>
            <a:endParaRPr b="1" lang="en-US" sz="1800" spc="1" strike="noStrike">
              <a:ln w="12600">
                <a:solidFill>
                  <a:srgbClr val="00ff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ff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宋体"/>
              </a:rPr>
              <a:t>感谢您 老师</a:t>
            </a:r>
            <a:endParaRPr b="1" lang="en-US" sz="1800" spc="1" strike="noStrike">
              <a:ln w="12600">
                <a:solidFill>
                  <a:srgbClr val="00ff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77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2" dur="770" fill="hold"/>
                                        <p:tgtEl>
                                          <p:spTgt spid="1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4" dur="77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6" dur="77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5704200" y="572040"/>
            <a:ext cx="25581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我来自偶然像一颗尘土 </a:t>
            </a:r>
            <a:br>
              <a:rPr sz="2400"/>
            </a:b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有谁看出我的脆弱 </a:t>
            </a:r>
            <a:br>
              <a:rPr sz="2400"/>
            </a:b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我来自何方我情归何处 </a:t>
            </a:r>
            <a:br>
              <a:rPr sz="2400"/>
            </a:b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谁在下一刻呼唤我 </a:t>
            </a:r>
            <a:br>
              <a:rPr sz="2400"/>
            </a:b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天地虽宽这条路却难走 </a:t>
            </a:r>
            <a:br>
              <a:rPr sz="2400"/>
            </a:b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我看遍这人间坎坷辛苦 </a:t>
            </a:r>
            <a:br>
              <a:rPr sz="2400"/>
            </a:b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我还有多少爱我还有多少泪 </a:t>
            </a:r>
            <a:br>
              <a:rPr sz="2400"/>
            </a:b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要苍天知道我不认输 </a:t>
            </a:r>
            <a:br>
              <a:rPr sz="2400"/>
            </a:b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感恩的心感谢有你 </a:t>
            </a:r>
            <a:br>
              <a:rPr sz="2400"/>
            </a:b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伴我一生让我有勇气作我自己 </a:t>
            </a:r>
            <a:br>
              <a:rPr sz="2400"/>
            </a:b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感恩的心感谢命运 </a:t>
            </a:r>
            <a:br>
              <a:rPr sz="2400"/>
            </a:b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花开花落我一样会珍惜 </a:t>
            </a:r>
            <a:br>
              <a:rPr sz="2400"/>
            </a:b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感恩的心感谢有你 </a:t>
            </a:r>
            <a:br>
              <a:rPr sz="2400"/>
            </a:b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伴我一生让我有勇气作我自己 </a:t>
            </a:r>
            <a:br>
              <a:rPr sz="2400"/>
            </a:b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感恩的心感谢命运 </a:t>
            </a:r>
            <a:br>
              <a:rPr sz="2400"/>
            </a:b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花开花落我一样会珍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49640" y="1844640"/>
            <a:ext cx="2558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我来自偶然像一颗尘土 </a:t>
            </a:r>
            <a:br>
              <a:rPr sz="2400"/>
            </a:b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有谁看出我的脆弱 </a:t>
            </a:r>
            <a:br>
              <a:rPr sz="2400"/>
            </a:b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我来自何方我情归何处 </a:t>
            </a:r>
            <a:br>
              <a:rPr sz="2400"/>
            </a:b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谁在下一刻呼唤我 </a:t>
            </a:r>
            <a:br>
              <a:rPr sz="2400"/>
            </a:b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天地虽宽这条路却难走 </a:t>
            </a:r>
            <a:br>
              <a:rPr sz="2400"/>
            </a:b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我看遍这人间坎坷辛苦 </a:t>
            </a:r>
            <a:br>
              <a:rPr sz="2400"/>
            </a:b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我还有多少爱我还有多少泪 </a:t>
            </a:r>
            <a:br>
              <a:rPr sz="2400"/>
            </a:b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要苍天知道我不认输 </a:t>
            </a:r>
            <a:br>
              <a:rPr sz="2400"/>
            </a:b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感恩的心感谢有你 </a:t>
            </a:r>
            <a:br>
              <a:rPr sz="2400"/>
            </a:b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伴我一生让我有勇气作我自己 </a:t>
            </a:r>
            <a:br>
              <a:rPr sz="2400"/>
            </a:b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感恩的心感谢命运 </a:t>
            </a:r>
            <a:br>
              <a:rPr sz="2400"/>
            </a:b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花开花落我一样会珍惜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 rot="21266400">
            <a:off x="968040" y="667800"/>
            <a:ext cx="2662200" cy="74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3300"/>
                </a:solidFill>
                <a:latin typeface="宋体"/>
              </a:rPr>
              <a:t>感恩的心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ff3300"/>
              </a:solidFill>
              <a:latin typeface="宋体"/>
              <a:ea typeface="宋体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924360" y="5732640"/>
            <a:ext cx="863640" cy="66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4" dur="267205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335320" y="692280"/>
            <a:ext cx="44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你认为良好的人际交往必要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73480" y="1643040"/>
            <a:ext cx="829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、很有必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、有必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C</a:t>
            </a: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、无所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D</a:t>
            </a: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、没必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077200" y="620640"/>
            <a:ext cx="47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作为高中生我们主要有那些交往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34600" y="19033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与同学的交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455120" y="299736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与老师的交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55120" y="407664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与家长的交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108160" y="476280"/>
            <a:ext cx="505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你与班里同学的关系怎样？班里同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乐意和你交朋友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1989000"/>
            <a:ext cx="85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你认为一个好朋友应该具备的品质是什么？请从以下所列的品质中选出你认为最重要的五项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4221000"/>
            <a:ext cx="75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认真、勤奋、礼貌、踏实、 善良、活泼、大方、随和、健壮、可爱、幽默、宽容、热心、谦虚、诚实、开朗、豪爽、成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53240" y="4221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礼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45600" y="4221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善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25240" y="4724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宽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05240" y="5229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热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53240" y="5229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诚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596240" y="47628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这些品质你都具备了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8360" y="2276640"/>
            <a:ext cx="849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你认为你自身存在的影响你人际交往的最大的毛病是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003640" y="2060640"/>
            <a:ext cx="3856320" cy="38559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24000" y="1916280"/>
            <a:ext cx="1428480" cy="14284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84360" y="3284640"/>
            <a:ext cx="4124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Verdana"/>
                <a:ea typeface="方正舒体"/>
              </a:rPr>
              <a:t>查找自身存在的言行垃圾并及时丢进垃圾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0" y="620640"/>
            <a:ext cx="6121440" cy="3311280"/>
            <a:chOff x="0" y="620640"/>
            <a:chExt cx="6121440" cy="3311280"/>
          </a:xfrm>
        </p:grpSpPr>
        <p:sp>
          <p:nvSpPr>
            <p:cNvPr id="72" name=""/>
            <p:cNvSpPr/>
            <p:nvPr/>
          </p:nvSpPr>
          <p:spPr>
            <a:xfrm rot="1462800">
              <a:off x="3024000" y="1850760"/>
              <a:ext cx="792000" cy="915840"/>
            </a:xfrm>
            <a:prstGeom prst="irregularSeal1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297080" y="997920"/>
              <a:ext cx="792000" cy="1011960"/>
            </a:xfrm>
            <a:prstGeom prst="irregularSeal1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rot="4495200">
              <a:off x="4710240" y="2739960"/>
              <a:ext cx="947160" cy="843120"/>
            </a:xfrm>
            <a:prstGeom prst="irregularSeal2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16000" y="620640"/>
              <a:ext cx="936720" cy="47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0" y="903960"/>
              <a:ext cx="1008000" cy="37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1640" y="1377720"/>
              <a:ext cx="1008000" cy="9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232000" y="1565640"/>
              <a:ext cx="648000" cy="37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089080" y="1851120"/>
              <a:ext cx="648000" cy="28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888000" y="2229480"/>
              <a:ext cx="720720" cy="47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16360" y="2702880"/>
              <a:ext cx="792360" cy="37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616720" y="3460320"/>
              <a:ext cx="504720" cy="4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6516720" y="4941720"/>
            <a:ext cx="1079280" cy="914400"/>
            <a:chOff x="6516720" y="4941720"/>
            <a:chExt cx="1079280" cy="914400"/>
          </a:xfrm>
        </p:grpSpPr>
        <p:sp>
          <p:nvSpPr>
            <p:cNvPr id="84" name=""/>
            <p:cNvSpPr/>
            <p:nvPr/>
          </p:nvSpPr>
          <p:spPr>
            <a:xfrm>
              <a:off x="6516720" y="4941720"/>
              <a:ext cx="1079280" cy="914400"/>
            </a:xfrm>
            <a:prstGeom prst="irregularSeal1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825600" y="51577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</a:rPr>
                <a:t>恶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5301720" y="4336920"/>
            <a:ext cx="1347120" cy="1258200"/>
            <a:chOff x="5301720" y="4336920"/>
            <a:chExt cx="1347120" cy="1258200"/>
          </a:xfrm>
        </p:grpSpPr>
        <p:sp>
          <p:nvSpPr>
            <p:cNvPr id="87" name=""/>
            <p:cNvSpPr/>
            <p:nvPr/>
          </p:nvSpPr>
          <p:spPr>
            <a:xfrm rot="1351800">
              <a:off x="5435280" y="4508640"/>
              <a:ext cx="1079280" cy="914400"/>
            </a:xfrm>
            <a:prstGeom prst="irregularSeal2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4520" y="47246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</a:rPr>
                <a:t>流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 rot="4495200">
            <a:off x="5856480" y="3728160"/>
            <a:ext cx="720720" cy="8427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6516720" y="4941720"/>
            <a:ext cx="1079280" cy="914400"/>
            <a:chOff x="6516720" y="4941720"/>
            <a:chExt cx="1079280" cy="914400"/>
          </a:xfrm>
        </p:grpSpPr>
        <p:sp>
          <p:nvSpPr>
            <p:cNvPr id="91" name=""/>
            <p:cNvSpPr/>
            <p:nvPr/>
          </p:nvSpPr>
          <p:spPr>
            <a:xfrm>
              <a:off x="6516720" y="4941720"/>
              <a:ext cx="1079280" cy="914400"/>
            </a:xfrm>
            <a:prstGeom prst="irregularSeal1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825600" y="51577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</a:rPr>
                <a:t>恶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">
            <a:hlinkClick r:id="rId3" action="ppaction://hlinksldjump"/>
          </p:cNvPr>
          <p:cNvSpPr/>
          <p:nvPr/>
        </p:nvSpPr>
        <p:spPr>
          <a:xfrm>
            <a:off x="7885080" y="5877000"/>
            <a:ext cx="1258920" cy="981000"/>
          </a:xfrm>
          <a:custGeom>
            <a:avLst/>
            <a:gdLst>
              <a:gd name="textAreaLeft" fmla="*/ 63360 w 1258920"/>
              <a:gd name="textAreaRight" fmla="*/ 1195560 w 1258920"/>
              <a:gd name="textAreaTop" fmla="*/ 63360 h 981000"/>
              <a:gd name="textAreaBottom" fmla="*/ 917640 h 981000"/>
            </a:gdLst>
            <a:ahLst/>
            <a:rect l="textAreaLeft" t="textAreaTop" r="textAreaRight" b="textAreaBottom"/>
            <a:pathLst>
              <a:path w="27717" h="21600">
                <a:moveTo>
                  <a:pt x="0" y="0"/>
                </a:moveTo>
                <a:lnTo>
                  <a:pt x="27717" y="0"/>
                </a:lnTo>
                <a:lnTo>
                  <a:pt x="27717" y="21600"/>
                </a:lnTo>
                <a:lnTo>
                  <a:pt x="0" y="21600"/>
                </a:lnTo>
                <a:close/>
              </a:path>
              <a:path fill="lightenLess" w="27717" h="21600">
                <a:moveTo>
                  <a:pt x="0" y="0"/>
                </a:moveTo>
                <a:lnTo>
                  <a:pt x="27717" y="0"/>
                </a:lnTo>
                <a:lnTo>
                  <a:pt x="26317" y="1400"/>
                </a:lnTo>
                <a:lnTo>
                  <a:pt x="1400" y="1400"/>
                </a:lnTo>
                <a:close/>
              </a:path>
              <a:path fill="darken" w="27717" h="21600">
                <a:moveTo>
                  <a:pt x="27717" y="0"/>
                </a:moveTo>
                <a:lnTo>
                  <a:pt x="27717" y="21600"/>
                </a:lnTo>
                <a:lnTo>
                  <a:pt x="26317" y="20200"/>
                </a:lnTo>
                <a:lnTo>
                  <a:pt x="26317" y="1400"/>
                </a:lnTo>
                <a:close/>
              </a:path>
              <a:path fill="darkenLess" w="27717" h="21600">
                <a:moveTo>
                  <a:pt x="277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7" y="20200"/>
                </a:lnTo>
                <a:close/>
              </a:path>
              <a:path fill="lighten" w="277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484360" y="0"/>
            <a:ext cx="3745080" cy="143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透视自我</a:t>
            </a:r>
            <a:endParaRPr b="0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>
    <p:randomBar dir="ver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9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35120" y="2602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小品表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1197000"/>
            <a:ext cx="88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同学甲在教室的过道里走路时不小心把同学乙的书本碰到了地上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2997360"/>
            <a:ext cx="36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吵起来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4149720"/>
            <a:ext cx="36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处理得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24000" y="260280"/>
            <a:ext cx="88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同在一个学校，一个班级或者是一个寝室生活中难免会遇到磕磕碰碰。当有矛盾时我们要学会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2133720"/>
            <a:ext cx="1439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宽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76360" y="2133720"/>
            <a:ext cx="7667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忍一时风平浪静，退一步海阔天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3141720"/>
            <a:ext cx="5327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设身处地的替他人着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4005360"/>
            <a:ext cx="4392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真诚地提出你的建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5013360"/>
            <a:ext cx="4392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欣赏别人的优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046880" y="165240"/>
            <a:ext cx="789840" cy="70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同学交往中的几点建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03640" y="1197000"/>
            <a:ext cx="53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真心相待、诚心与共。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03640" y="2205000"/>
            <a:ext cx="53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学会理解与宽容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03640" y="3284640"/>
            <a:ext cx="53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交往要有“度”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3640" y="4221000"/>
            <a:ext cx="53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要大胆说“不”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02:05:04Z</dcterms:created>
  <dc:creator>YlmF</dc:creator>
  <dc:description/>
  <dc:language>en-US</dc:language>
  <cp:lastModifiedBy>User</cp:lastModifiedBy>
  <dcterms:modified xsi:type="dcterms:W3CDTF">2013-04-14T02:37:06Z</dcterms:modified>
  <cp:revision>11</cp:revision>
  <dc:subject/>
  <dc:title>幻灯片 1</dc:title>
</cp:coreProperties>
</file>