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23.png" ContentType="image/pn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22.png" ContentType="image/png"/>
  <Override PartName="/ppt/media/image17.gif" ContentType="image/gif"/>
  <Override PartName="/ppt/media/image16.gif" ContentType="image/gif"/>
  <Override PartName="/ppt/media/image15.jpeg" ContentType="image/jpeg"/>
  <Override PartName="/ppt/media/image14.gif" ContentType="image/gif"/>
  <Override PartName="/ppt/media/image7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527-28E4-4603-8A88-7447A4E5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3E7-AEB0-46D8-8DD6-8433C099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E57-43FE-4833-AE11-DF908ED7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BAC7-8D6D-48AF-AC11-80D8709B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29F-5D01-4C0C-AEAD-1D351EB3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B6A-1C28-45AB-BA2E-973D5732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21C-753D-4888-BD6A-6E6A728B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984-4451-4F13-9AE0-4E34335E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1515-2359-4CBE-AEFF-6FC476AA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02B-F2D5-4542-A921-C26C432F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EE1-3271-4657-A2D6-FFF90554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798-7344-4135-BBD5-1A14A2A9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3FD2-58F2-42F3-AF40-61CDAAD030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834920" y="3573360"/>
            <a:ext cx="661644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33399"/>
                </a:solidFill>
                <a:latin typeface="华文彩云"/>
                <a:ea typeface="华文彩云"/>
              </a:rPr>
              <a:t>——</a:t>
            </a:r>
            <a:r>
              <a:rPr b="0" i="1" lang="zh-CN" sz="3600" spc="-1" strike="noStrike">
                <a:solidFill>
                  <a:srgbClr val="333399"/>
                </a:solidFill>
                <a:latin typeface="华文彩云"/>
                <a:ea typeface="华文彩云"/>
              </a:rPr>
              <a:t>高一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33399"/>
                </a:solidFill>
                <a:latin typeface="华文彩云"/>
                <a:ea typeface="华文彩云"/>
              </a:rPr>
              <a:t>                </a:t>
            </a:r>
            <a:r>
              <a:rPr b="0" i="1" lang="zh-CN" sz="3600" spc="-1" strike="noStrike">
                <a:solidFill>
                  <a:srgbClr val="333399"/>
                </a:solidFill>
                <a:latin typeface="华文彩云"/>
                <a:ea typeface="华文彩云"/>
              </a:rPr>
              <a:t>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03280" y="1916280"/>
            <a:ext cx="626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“</a:t>
            </a: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友”你  同  行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5" name=""/>
          <p:cNvSpPr/>
          <p:nvPr/>
        </p:nvSpPr>
        <p:spPr>
          <a:xfrm>
            <a:off x="3419640" y="6238800"/>
            <a:ext cx="21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147492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你言我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3213000"/>
            <a:ext cx="735948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对“朋友”的理解是什么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4102200"/>
            <a:ext cx="2158920" cy="2055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47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实话实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2637000"/>
            <a:ext cx="735948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请同学谈谈自己的一位好朋友，他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她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什么地方吸引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5329080" cy="52880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544500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什么才是真正的朋友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6960" y="4005360"/>
            <a:ext cx="229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那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29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短剧表演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52720" y="404640"/>
            <a:ext cx="324036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校园绑架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481040"/>
            <a:ext cx="7272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故事背景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小贤和小蔡是一对好朋友。入学的时候，小贤的成绩非常糟糕，年级排名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888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名。经过小蔡一年的努力和帮助，小贤的成绩突发猛进，跃居年级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188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名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到了初二，小贤便开始对小蔡的苦心叮嘱感到厌烦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这个时候，第三者出现了！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小鸿和小贤一拍即合，而小鸿是个行为不良的学生。接着，小贤就学会了逃课、抽烟、打架……成绩一落千丈…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眼见小贤一步步的深陷……小蔡虽苦劝无果，但从没放弃…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468360" y="765000"/>
            <a:ext cx="7416720" cy="5400360"/>
            <a:chOff x="468360" y="765000"/>
            <a:chExt cx="7416720" cy="540036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468360" y="765000"/>
              <a:ext cx="7416720" cy="54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332000" y="1107360"/>
              <a:ext cx="2087640" cy="119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80000" y="1022040"/>
              <a:ext cx="1726920" cy="119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27640" y="1965240"/>
              <a:ext cx="1295640" cy="119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1280" y="1279080"/>
              <a:ext cx="16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嘻嘻，别动！打……打劫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7640" y="2394000"/>
              <a:ext cx="14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呜呜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03280" y="13662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Microsoft Sans Serif"/>
                  <a:ea typeface="黑体"/>
                </a:rPr>
                <a:t>IP IC IQ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卡，统统都给我密码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7272360" cy="5300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87280" y="1700280"/>
            <a:ext cx="223236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55840" y="1938240"/>
            <a:ext cx="225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这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omen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我心乱如麻啊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1125360"/>
            <a:ext cx="201600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1268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说！二选一？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732720" y="1557360"/>
            <a:ext cx="525240" cy="476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6720" y="765000"/>
            <a:ext cx="7344000" cy="539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9640" y="4149720"/>
            <a:ext cx="1800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5640" y="1341360"/>
            <a:ext cx="1656000" cy="10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148428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出卖我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保护我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221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哪个才是我真正的朋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917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畅所欲言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5240" y="1765080"/>
            <a:ext cx="7872480" cy="32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如果你是小贤，你会怎么选择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你认为，哪个才是小贤的真正朋友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同学们，平时又是怎样分辨哪些是益友，哪些是损友的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34240" y="4734000"/>
            <a:ext cx="1495440" cy="1066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1079640" cy="100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3640" y="25729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友情典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95640" y="4581360"/>
            <a:ext cx="1373400" cy="1390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059280" y="4581360"/>
            <a:ext cx="137304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2060280"/>
            <a:ext cx="735948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《朋友是什么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65760" y="4076640"/>
            <a:ext cx="2370240" cy="1936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92000" y="2340000"/>
            <a:ext cx="30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今天我的好朋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打了我一巴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12000" y="4581360"/>
            <a:ext cx="1384200" cy="1384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92360" y="2349360"/>
            <a:ext cx="51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今天我的好朋友救了我一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9640" y="1052640"/>
            <a:ext cx="151308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66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66ff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2924280"/>
            <a:ext cx="71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受到伤害时写到沙地上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到帮助时要刻在石头上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00000" y="4653000"/>
            <a:ext cx="662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1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d60093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朋友间应该如何做，才会让友谊之花长盛不衰呢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60093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60093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68360" y="1270080"/>
            <a:ext cx="1405440" cy="1388520"/>
            <a:chOff x="2268360" y="1270080"/>
            <a:chExt cx="1405440" cy="138852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2268360" y="1375200"/>
              <a:ext cx="547200" cy="92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 rot="1146000">
              <a:off x="2494080" y="1339560"/>
              <a:ext cx="596520" cy="101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 rot="1868400">
              <a:off x="2723040" y="1384200"/>
              <a:ext cx="695880" cy="117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7812000" y="404640"/>
            <a:ext cx="100800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各抒己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133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说说心里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3240" y="2652840"/>
            <a:ext cx="7856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向平时帮助过自己的朋友说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华文行楷"/>
                <a:ea typeface="华文行楷"/>
              </a:rPr>
              <a:t>谢  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04000" y="5227560"/>
            <a:ext cx="378000" cy="37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7779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272360" cy="5400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友谊合唱《朋友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71640" y="1484280"/>
            <a:ext cx="66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些年  一个人    风也过  雨也走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过泪  有过错    还记得坚持什么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爱过  才会懂    会寂寞  会回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终有梦  终有你    在心中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朋友一生一起走    那些日子不再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句话  一辈子    一生情  一杯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朋友不曾孤单过    一声朋友你会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还有伤  还有痛    还要走  还有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132000" y="836640"/>
            <a:ext cx="172728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《朋友》</a:t>
            </a:r>
            <a:endParaRPr b="1" lang="en-US" sz="1800" spc="1" strike="noStrike">
              <a:ln w="1908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164360" y="5589720"/>
            <a:ext cx="449280" cy="449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093080" y="5516640"/>
            <a:ext cx="57456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9952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899708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6912000" cy="5423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141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大家共同总结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770040"/>
            <a:ext cx="7343640" cy="5251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1720" y="54450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朋友是一种相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623736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7345440" cy="5435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1720" y="54450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朋友是一种相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6696360" cy="532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1720" y="54450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朋友是一种相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4897440" cy="5369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516720" y="9810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朋友是一种相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199280" cy="5399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1720" y="54450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朋友是一种相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4720" y="765000"/>
            <a:ext cx="7236000" cy="5427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1720" y="54450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幼圆"/>
              </a:rPr>
              <a:t>朋友是一种相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539640" y="800280"/>
            <a:ext cx="7131240" cy="5348160"/>
            <a:chOff x="539640" y="800280"/>
            <a:chExt cx="7131240" cy="534816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39640" y="800280"/>
              <a:ext cx="7131240" cy="53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6084720" y="5516640"/>
              <a:ext cx="1511640" cy="576360"/>
            </a:xfrm>
            <a:prstGeom prst="rect">
              <a:avLst/>
            </a:prstGeom>
            <a:solidFill>
              <a:srgbClr val="cd9b69"/>
            </a:solidFill>
            <a:ln w="9360">
              <a:solidFill>
                <a:srgbClr val="cd9b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16360" y="5950080"/>
              <a:ext cx="1511280" cy="142920"/>
            </a:xfrm>
            <a:prstGeom prst="rect">
              <a:avLst/>
            </a:prstGeom>
            <a:solidFill>
              <a:srgbClr val="c9935d"/>
            </a:solidFill>
            <a:ln w="9360">
              <a:solidFill>
                <a:srgbClr val="cd9b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175720" y="256536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朋友是一种相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6308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0:44:57Z</dcterms:created>
  <dc:creator>微软用户</dc:creator>
  <dc:description/>
  <dc:language>en-US</dc:language>
  <cp:lastModifiedBy>User</cp:lastModifiedBy>
  <dcterms:modified xsi:type="dcterms:W3CDTF">2013-04-14T02:36:36Z</dcterms:modified>
  <cp:revision>5</cp:revision>
  <dc:subject/>
  <dc:title>幻灯片 1</dc:title>
</cp:coreProperties>
</file>