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A0A-DAEE-4FBF-8397-5E05591B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886-9FAA-48FE-A1D3-368F3AB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E42-34DE-4F77-B3AD-A5093F26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E57-9400-4053-BDCD-538161EC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9FC-7D87-4463-A97C-1A66A940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C57-CEB3-4709-BD04-CA34A56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8E1-53B4-4AE9-8323-02F8A767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608-8C17-4FD2-9A7A-88D19C5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766-8C93-45A4-B7D8-C0622D9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103-74A6-4FB6-B6C4-9D530AD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380-7D80-4F13-895E-380C12E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60E-118F-4168-AF35-C1EC363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EBC-7D57-4D21-BDBF-CDE05F0B3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3593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897520" y="304920"/>
            <a:ext cx="32464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信心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04920"/>
            <a:ext cx="2286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4876920"/>
            <a:ext cx="25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态度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38280" y="2057400"/>
            <a:ext cx="41911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成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4800600"/>
            <a:ext cx="2819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效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685800"/>
            <a:ext cx="27432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746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交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其实很多人都是这样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只知道有问题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却不能抓住问题的核心和根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学习虽然讲时间，但更重要的是效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48006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4000"/>
                  </a:srgbClr>
                </a:solidFill>
                <a:latin typeface="隶书"/>
              </a:rPr>
              <a:t>你以前优秀，说明你本来就是优秀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4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76720" y="457200"/>
            <a:ext cx="3047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效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33244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在高山之巅的鹰巢里，抓到了一只幼鹰 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5780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你本来是一只雄鹰，只要有雄心，就会飞起来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9144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9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秘诀：磨练自己——召唤成功的力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38862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你本来就与众不同，请别玷污了你自己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9400" y="1324080"/>
            <a:ext cx="90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做到值得信赖。这样，当我们说要做什么或不做什么时，别人能相信我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1680" y="228600"/>
            <a:ext cx="54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明确自律的重要性，把自律作为动力，去做我们认为应该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事，即使我们不愿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5040" y="21024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用不侵犯他人权利的方法达到个人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5040" y="28432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在注重道德行为的场合，大胆地表现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8320" y="3400560"/>
            <a:ext cx="9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．要有勇气承认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2962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．认识到没有一个人是生活在真空中的，那些看起来纯粹  是属于个人范畴的行为，实际上常常会影响到自己周围的人或影响到所处的社会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07680" y="5272200"/>
            <a:ext cx="54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牢记我们身处逆境时的表现就是对自己的意志和是否成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最好考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0720" y="6140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讲真话，尤其是在讲真话对自己不利的时候，更要这样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-76320"/>
            <a:ext cx="62960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风烈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空雁叫霜晨月。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霜晨月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蹄声碎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声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关漫道真如铁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今迈步从头越。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头越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苍山如海，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残阳如血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7600" y="1752480"/>
            <a:ext cx="295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忆秦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娄山关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0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447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直言规劝的朋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85800" y="2576520"/>
            <a:ext cx="1815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诤友”的“诤”，辞典释义为直言规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谓“诤友”，就是勇于当面指出缺点错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敢于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脑发热”的朋友“泼冷水”的人。现实中，无论个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团体，无论是待人处世还是治国安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无“诤友”都十分重要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371600"/>
            <a:ext cx="13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诤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8120" y="685800"/>
            <a:ext cx="27432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746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交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0320" y="368280"/>
            <a:ext cx="188755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正的朋友是一生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财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诤友之所以可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于他们能以高度负责的态度，坦诚相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朋友的缺点、错误决不粉饰，敢于力陈其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其改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朋友不在多，贵在交诤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人们能结识几个诤友，那么前进的道路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会少走弯路，多出成果，事业发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种朋友中，最难结交的便是诤友……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074680"/>
            <a:ext cx="38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人都希望梦想成真，成功却似乎远在天边遥不可及，倦怠和不自信让我们怀疑自己的能力，放弃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，我们不必过多想以后的事，一年、甚至一月之后的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要想着今天我要作些什么，明天我该作些什么，然后努力去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象钟一样，每秒“滴答”摆一下，成功的喜悦就会慢慢浸润我们的生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1320" y="2133720"/>
            <a:ext cx="2286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592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姑娘躺在一起，但是背靠着背。这三个梦似乎有些深意，秀才第二天就赶紧去找算命的解梦。算命的一听，连拍大腿说：“你还是回家吧。你想想，高墙上种菜不是白费劲吗？戴斗笠打雨伞不是多此一举吗？跟姑娘背靠背，不是没戏吗？”秀才一听，心灰意冷，回店收拾包袱准备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店老板非常奇怪，问：“不是明天才考试吗，今天你怎么就回家呢？”秀才如此这般说了一番，店老板乐了：我也会解梦的。我倒觉得，你这次一定要留下来。你想想，墙上种菜不是高种吗？戴斗笠打伞不是说明你这次有备无患吗？跟姑娘背靠背，不是说明你翻身的时候就要到了吗？”秀才一听，更有道理，于是精神振奋地参加考试，居然中了个探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1430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积极的人，象太阳，照到哪里哪里亮，消极的人，象月亮，初一十五不一样。想法决定我们的生活和学习，有什么样的想法，就有什么样的未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14600" y="419112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信心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479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于是，他日渐消沉。第二个人看到了，他说：这只蜘蛛真愚蠢，为什么不从旁边干燥的地方绕一下爬上去？我以后可不能像它那样愚蠢。于是，他变得聪明起来。第三个人看到了，他立刻被蜘蛛屡败屡战的精神感动了。于是，他变得坚强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19520" y="4724280"/>
            <a:ext cx="25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态度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68580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有成功心态者处处都能发觉成功的力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09680" y="24382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勇者无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602360"/>
            <a:ext cx="8763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天动物园管理员们发现袋鼠从笼子里跑出来了，于是开会讨论，一致认为是笼子的高度过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它们决定将笼子的高度由原來的十公尺加高到二十公尺。结果第二天他们发现袋鼠还是跑到外面来，所以他们又决定再将高度加高到三十公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沒想到隔天居然又看到袋鼠全跑到外面，于是管理员们大为紧张，决定一不做二不休，将笼子的高度加高到一百公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长颈鹿和几只袋鼠们闲聊，“你们看，这些人会不会再继续加高你们的笼子？”长颈鹿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难说。”袋鼠说∶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果他们再继续忘记关门的话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/>
  <dc:language>en-US</dc:language>
  <cp:lastModifiedBy>User</cp:lastModifiedBy>
  <dcterms:modified xsi:type="dcterms:W3CDTF">2013-04-14T02:35:23Z</dcterms:modified>
  <cp:revision>9</cp:revision>
  <dc:subject/>
  <dc:title>幻灯片 1</dc:title>
</cp:coreProperties>
</file>