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oin.wav" ContentType="audio/x-wav"/>
  <Override PartName="/ppt/media/whoosh.wav" ContentType="audio/x-wav"/>
  <Override PartName="/ppt/media/camera.wav" ContentType="audio/x-wav"/>
  <Override PartName="/ppt/media/image7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73C-BD0D-4776-B7D0-98F4F140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48F-2778-4DA3-BAFE-79132D22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F8F-74FA-4B26-9A6E-B2886D8D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7FA-0B56-41CE-9488-ECC45606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BE3-A4ED-4D19-867E-FA548637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4F4-67AA-48F2-ABB0-A42861D1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DE2-866A-4FDB-B60C-68D84B0F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2F9-2CB8-4709-872A-CC0DFA8F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70F-3879-4630-8AB3-4ED74DFA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2F48-7500-4EA8-815D-67CCC398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0C1-D4CD-44CB-B4F8-01B91B11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808-4FF9-4870-A950-2CE7F36E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03D6-D0E1-401A-8E7D-DC68C25678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05502200&amp;tn=baiduimagedetail&amp;word=&#23401;&#23376;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oin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lzxxx.com/Article_Show2.asp?ArticleID=346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audio" Target="../media/coin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3581280" y="137124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22860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94040" y="276372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46680" y="2611440"/>
            <a:ext cx="474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676520" y="457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f052d"/>
                </a:solidFill>
                <a:latin typeface="Arial"/>
                <a:ea typeface="隶书"/>
              </a:rPr>
              <a:t>心会和爱走一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</a:t>
            </a:r>
            <a:r>
              <a:rPr b="0" lang="zh-CN" sz="6000" spc="-1" strike="noStrike">
                <a:solidFill>
                  <a:srgbClr val="149e06"/>
                </a:solidFill>
                <a:latin typeface="Arial"/>
                <a:ea typeface="隶书"/>
              </a:rPr>
              <a:t>—</a:t>
            </a:r>
            <a:r>
              <a:rPr b="0" lang="zh-CN" sz="6000" spc="-1" strike="noStrike">
                <a:solidFill>
                  <a:srgbClr val="149e06"/>
                </a:solidFill>
                <a:latin typeface="Arial"/>
                <a:ea typeface="隶书"/>
              </a:rPr>
              <a:t>懂你懂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9560" y="4425840"/>
            <a:ext cx="254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班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找到办法了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989000"/>
            <a:ext cx="3851280" cy="4869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73600" y="1052640"/>
            <a:ext cx="315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Symbol"/>
                <a:ea typeface="Symbol"/>
              </a:rPr>
              <a:t>爸爸妈妈，请蹲下来和我们说话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1916280"/>
            <a:ext cx="4140360" cy="4941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142520" y="3573360"/>
            <a:ext cx="112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292720" y="404640"/>
            <a:ext cx="3851280" cy="7642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Symbol"/>
                <a:ea typeface="Symbol"/>
              </a:rPr>
              <a:t>化解爱的冲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9600" y="1628640"/>
            <a:ext cx="1076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学会宽容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学会虚心接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学会主动沟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学会掌握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学会将心比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2723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心灵导航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沟通与理解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要矛盾，不要冲突，只要快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和父母沟通交流，让他们了解我们的学校生活和朋友关系，并让他们给予一定的指导和经验，因为他们的生活阅历一定要比我们的丰富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父母面前要诚实、谦虚，要理解父母的处境，在生活上有需要的时候一定要根据家里的经济条件，不盲目消费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向父母学习，学习他们的良好品质，当父母有困难的时候主动提供帮助，要学会自立，要在精神上支持父母，努力成为爸爸妈妈的朋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0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84360" y="404280"/>
            <a:ext cx="41767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明明白白我的心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4680" y="2612880"/>
            <a:ext cx="5893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Symbol"/>
                <a:ea typeface="Symbol"/>
              </a:rPr>
              <a:t>孩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0400" y="2637000"/>
            <a:ext cx="58932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Symbol"/>
                <a:ea typeface="Symbol"/>
              </a:rPr>
              <a:t>父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ubOvalCallout"/>
          <p:cNvSpPr/>
          <p:nvPr/>
        </p:nvSpPr>
        <p:spPr>
          <a:xfrm>
            <a:off x="6948360" y="765000"/>
            <a:ext cx="1828800" cy="16002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e5798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孩子，你永远是我们的天使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ubRRectCallout"/>
          <p:cNvSpPr/>
          <p:nvPr/>
        </p:nvSpPr>
        <p:spPr>
          <a:xfrm>
            <a:off x="179280" y="549360"/>
            <a:ext cx="1871640" cy="1873080"/>
          </a:xfrm>
          <a:custGeom>
            <a:avLst/>
            <a:gdLst>
              <a:gd name="textAreaLeft" fmla="*/ 12240 w 1871640"/>
              <a:gd name="textAreaRight" fmla="*/ 1855440 w 1871640"/>
              <a:gd name="textAreaTop" fmla="*/ 12240 h 1873080"/>
              <a:gd name="textAreaBottom" fmla="*/ 1483560 h 18730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爸爸妈妈，我会努力成为你们的好孩子，让你们为我自豪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8840" y="5338800"/>
            <a:ext cx="2628360" cy="825120"/>
          </a:xfrm>
          <a:prstGeom prst="rect">
            <a:avLst/>
          </a:prstGeom>
          <a:solidFill>
            <a:srgbClr val="9f0522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66"/>
                </a:solidFill>
                <a:latin typeface="Symbol"/>
                <a:ea typeface="Symbol"/>
              </a:rPr>
              <a:t>我们是相亲相爱的一家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4640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7772400" cy="511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孩子想说的话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爸爸妈妈，对不起，虽然我们一天天的长大，其实我们还是在你的保护下，无论，我们将来怎样，我们永远只是你的孩子，而你们永远是我们的爸爸妈妈，有句话很早以前就想和你们说，今天终于鼓起勇气，我们只想说：爸爸妈妈，我爱你们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爸爸妈妈想说的话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孩子，你们一天天长大了，所以你们想要自由，也许我们以前对你管的太多了，也许我们应该给你足够的信任，我们应该相信你可以做的很好，我们也有做的不好的地方，希望你的原谅．我们也想说，孩子，我们爱你，只是希望你每一天都能过的很好，希望你的每一步都能很顺利，这是我们对你永远的祝福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62080" y="225360"/>
            <a:ext cx="1070640" cy="8251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Symbol"/>
                <a:ea typeface="Symbol"/>
              </a:rPr>
              <a:t>真心告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4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天是一个特殊的日子，让我们行动起来，为爸爸妈妈做些什么，你可以选择承包家务，也可以选择为爸爸读报，爸爸妈妈一定会为你的行动感到惊喜．而且，千万不要忘记对他们说：“</a:t>
            </a:r>
            <a:r>
              <a:rPr b="1" lang="zh-CN" sz="3200" spc="-1" strike="noStrike">
                <a:solidFill>
                  <a:srgbClr val="9f0522"/>
                </a:solidFill>
                <a:latin typeface="Arial"/>
              </a:rPr>
              <a:t>爸爸妈妈，我爱你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！这就是我们爱的呐喊，这就是我们最想说的话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95320" y="1836000"/>
            <a:ext cx="1828800" cy="427320"/>
          </a:xfrm>
          <a:prstGeom prst="rect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404640"/>
            <a:ext cx="2016000" cy="1584360"/>
          </a:xfrm>
          <a:prstGeom prst="cloudCallout">
            <a:avLst>
              <a:gd name="adj1" fmla="val -36458"/>
              <a:gd name="adj2" fmla="val 2795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Symbol"/>
                <a:ea typeface="Symbol"/>
              </a:rPr>
              <a:t>爱的呐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3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136000" cy="38163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2f752f"/>
              </a:gs>
            </a:gsLst>
            <a:lin ang="5400000"/>
          </a:gradFill>
          <a:ln w="9360">
            <a:solidFill>
              <a:srgbClr val="66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f0522"/>
                </a:solidFill>
                <a:latin typeface="Arial"/>
              </a:rPr>
              <a:t>说一说</a:t>
            </a:r>
            <a:r>
              <a:rPr b="0" lang="zh-CN" sz="4800" spc="-1" strike="noStrike">
                <a:solidFill>
                  <a:srgbClr val="9f0522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9f0522"/>
                </a:solidFill>
                <a:latin typeface="Arial"/>
              </a:rPr>
              <a:t>你这节课学到了什么</a:t>
            </a:r>
            <a:r>
              <a:rPr b="0" lang="zh-CN" sz="4800" spc="-1" strike="noStrike">
                <a:solidFill>
                  <a:srgbClr val="9f0522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24000" y="404640"/>
            <a:ext cx="5256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心灵收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03640" y="259920"/>
            <a:ext cx="264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归纳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谁言寸草心，报得三春晖”，父母的爱终生让我们感动，我们能做的只是付出我们的实际行动让父母放心，让父母体会到我们对他们深深的爱，最后让我们一起大声的说：爸爸妈妈，我爱你们，永远爱你们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后阅读：关于成长的谈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68360" y="1125360"/>
            <a:ext cx="7632720" cy="338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Thank You: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教学目标的确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学会沟通，学会理解，学会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父母与孩子之间的一些小摩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突显出新时代下初中学生的个性特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每个学生先了解自我，也让他们明确这种冲突的产生是不可避免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分析这些小矛盾来引出冲突产生的原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通过学生的讨论来寻找解决冲突的办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学生了解沟通与交流的重要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很多的中学生缺少一种对于亲情的情感体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旨在通过这个课时的学习让学生能理解父母、体会亲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有一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的呐喊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教学重点与难点的确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课教学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点与难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均在于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如何与父母进行有效的沟通，并达到相互理解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点与难点确定的依据：父母与孩子之间产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的冲突”很大程度上归因于沟通渠道不畅，以及没有摆正双方的位置，父母以家长的姿态对待孩子，使孩子找不到亲密感，因此使双方的沟通不能有效的进行，于是如何进行沟通便成为本课的重点和难点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教法与学法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符合新课程，突显学生主体地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法：根据新课程的教材内容，采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兴趣导入法、自身体验法、情感升华法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学生对爱的冲突先形成一个感性的看法，再引导他们摸索理性有效的方法去解决冲突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法：学生可以通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讨论、分享他人成长故事以及结合自身体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方式来确定属于自己与父母的沟通方式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0760" y="14842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兴趣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1557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1484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93960" y="1484280"/>
            <a:ext cx="10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我的幸福家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85080" y="1628640"/>
            <a:ext cx="936720" cy="1657440"/>
          </a:xfrm>
          <a:custGeom>
            <a:avLst/>
            <a:gdLst>
              <a:gd name="textAreaLeft" fmla="*/ 125280 w 936720"/>
              <a:gd name="textAreaRight" fmla="*/ 811440 w 936720"/>
              <a:gd name="textAreaTop" fmla="*/ 289800 h 1657440"/>
              <a:gd name="textAreaBottom" fmla="*/ 120168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94840" y="263700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有时有点不愉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2708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2708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0520" y="2637000"/>
            <a:ext cx="10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我家的小摩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2781360"/>
            <a:ext cx="755640" cy="1800000"/>
          </a:xfrm>
          <a:custGeom>
            <a:avLst/>
            <a:gdLst>
              <a:gd name="textAreaLeft" fmla="*/ 101160 w 755640"/>
              <a:gd name="textAreaRight" fmla="*/ 654480 w 755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72880" y="3860640"/>
            <a:ext cx="137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讨论矛盾产生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8000" y="39337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12760" y="386064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寻找小锦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44000" y="4005360"/>
            <a:ext cx="900000" cy="1728720"/>
          </a:xfrm>
          <a:custGeom>
            <a:avLst/>
            <a:gdLst>
              <a:gd name="textAreaLeft" fmla="*/ 120600 w 900000"/>
              <a:gd name="textAreaRight" fmla="*/ 779400 w 900000"/>
              <a:gd name="textAreaTop" fmla="*/ 302400 h 1728720"/>
              <a:gd name="textAreaBottom" fmla="*/ 12535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5480" y="508464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沟通与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5157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74800" y="508464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真心告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508464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loud"/>
          <p:cNvSpPr/>
          <p:nvPr/>
        </p:nvSpPr>
        <p:spPr>
          <a:xfrm>
            <a:off x="0" y="4724280"/>
            <a:ext cx="2050920" cy="13748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爱的呐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38280" y="22096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281952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281952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7432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484360" y="1052280"/>
            <a:ext cx="122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7983"/>
                </a:solidFill>
                <a:latin typeface="Arial"/>
              </a:rPr>
              <a:t>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7983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7983"/>
                </a:solidFill>
                <a:latin typeface="Arial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7983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7983"/>
                </a:solidFill>
                <a:latin typeface="Arial"/>
              </a:rPr>
              <a:t>L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7983"/>
                </a:solidFill>
                <a:latin typeface="Arial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1341360"/>
            <a:ext cx="380880" cy="4572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24200 h 4572000"/>
              <a:gd name="textAreaBottom" fmla="*/ 444780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38"/>
                  <a:pt x="10800" y="1875"/>
                </a:cubicBezTo>
                <a:lnTo>
                  <a:pt x="10800" y="8993"/>
                </a:lnTo>
                <a:cubicBezTo>
                  <a:pt x="10800" y="9931"/>
                  <a:pt x="5400" y="10868"/>
                  <a:pt x="0" y="10868"/>
                </a:cubicBezTo>
                <a:cubicBezTo>
                  <a:pt x="5400" y="10868"/>
                  <a:pt x="10800" y="11806"/>
                  <a:pt x="10800" y="12743"/>
                </a:cubicBezTo>
                <a:lnTo>
                  <a:pt x="10800" y="19725"/>
                </a:lnTo>
                <a:cubicBezTo>
                  <a:pt x="10800" y="20663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00400"/>
            <a:ext cx="186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640" y="981000"/>
            <a:ext cx="18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F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6720" y="1916280"/>
            <a:ext cx="15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1640" y="285264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M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79640" y="3716280"/>
            <a:ext cx="171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I   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96000" y="4653000"/>
            <a:ext cx="133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96720" y="551664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1371600"/>
            <a:ext cx="609480" cy="4572000"/>
          </a:xfrm>
          <a:custGeom>
            <a:avLst/>
            <a:gdLst>
              <a:gd name="textAreaLeft" fmla="*/ 0 w 609480"/>
              <a:gd name="textAreaRight" fmla="*/ 219960 w 60948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62880" y="1810080"/>
            <a:ext cx="10033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Symbol"/>
                <a:ea typeface="Symbol"/>
              </a:rPr>
              <a:t>我的幸福家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743960" y="1420560"/>
            <a:ext cx="100332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Symbol"/>
                <a:ea typeface="Symbol"/>
              </a:rPr>
              <a:t>有时有点不愉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372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孩子的苦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60640"/>
            <a:ext cx="4788000" cy="3240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30720" y="62064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Symbol"/>
                <a:ea typeface="Symbol"/>
              </a:rPr>
              <a:t>爸爸妈妈的烦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788000" y="2060640"/>
            <a:ext cx="4356000" cy="3240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82200" y="5300640"/>
            <a:ext cx="137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爱翻书包的妈妈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15000" y="530064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代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34336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家庭小摩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同学们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说说你们家里的故事吧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让大家分享你的成长故事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也让大家帮你想想办法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起让我们与爸爸妈妈相处地更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4508640"/>
            <a:ext cx="2376720" cy="2016000"/>
          </a:xfrm>
          <a:custGeom>
            <a:avLst/>
            <a:gdLst>
              <a:gd name="textAreaLeft" fmla="*/ 558360 w 2376720"/>
              <a:gd name="textAreaRight" fmla="*/ 1816560 w 2376720"/>
              <a:gd name="textAreaTop" fmla="*/ 236880 h 2016000"/>
              <a:gd name="textAreaBottom" fmla="*/ 1264680 h 20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Symbol"/>
                <a:ea typeface="Symbol"/>
                <a:hlinkClick r:id="rId1" action="ppaction://hlinksldjump"/>
              </a:rPr>
              <a:t>心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93920" y="1484280"/>
            <a:ext cx="140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Symbol"/>
                <a:ea typeface="Symbol"/>
              </a:rPr>
              <a:t>青春期的叛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1557360"/>
            <a:ext cx="609840" cy="914400"/>
          </a:xfrm>
          <a:prstGeom prst="downArrowCallout">
            <a:avLst>
              <a:gd name="adj1" fmla="val 25002"/>
              <a:gd name="adj2" fmla="val 25000"/>
              <a:gd name="adj3" fmla="val 24990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80360" y="1533600"/>
            <a:ext cx="140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Symbol"/>
                <a:ea typeface="Symbol"/>
              </a:rPr>
              <a:t>父母爱的误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30280" y="263700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Symbol"/>
                <a:ea typeface="Symbol"/>
                <a:hlinkClick r:id="rId1" action="ppaction://hlinksldjump"/>
              </a:rPr>
              <a:t>爱的冲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4249800" cy="782640"/>
          </a:xfrm>
          <a:prstGeom prst="rect">
            <a:avLst/>
          </a:prstGeom>
          <a:solidFill>
            <a:srgbClr val="66ff66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开启心灵之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12360" y="4149720"/>
            <a:ext cx="927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过高的期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过多的干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过度的保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过分的关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过多的指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2349360"/>
            <a:ext cx="1598400" cy="3529080"/>
          </a:xfrm>
          <a:custGeom>
            <a:avLst/>
            <a:gdLst>
              <a:gd name="textAreaLeft" fmla="*/ 213840 w 1598400"/>
              <a:gd name="textAreaRight" fmla="*/ 1384560 w 1598400"/>
              <a:gd name="textAreaTop" fmla="*/ 617760 h 3529080"/>
              <a:gd name="textAreaBottom" fmla="*/ 255780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2" stAng="-5400000" swAng="5400000"/>
                <a:lnTo>
                  <a:pt x="21600" y="11874"/>
                </a:lnTo>
                <a:arcTo wR="21600" hR="7562" stAng="0" swAng="2683092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92"/>
                </a:lnTo>
                <a:arcTo wR="21600" hR="7562" stAng="2683092" swAng="-2326381"/>
                <a:lnTo>
                  <a:pt x="20703" y="9718"/>
                </a:lnTo>
                <a:arcTo wR="21600" hR="7562" stAng="-356711" swAng="-5043289"/>
                <a:close/>
              </a:path>
              <a:path fill="darkenLess" w="21600" h="21600">
                <a:moveTo>
                  <a:pt x="0" y="0"/>
                </a:moveTo>
                <a:arcTo wR="21600" hR="7562" stAng="-5400000" swAng="5400000"/>
                <a:lnTo>
                  <a:pt x="21600" y="11874"/>
                </a:lnTo>
                <a:arcTo wR="21600" hR="7562" stAng="0" swAng="-356711"/>
                <a:lnTo>
                  <a:pt x="20703" y="9718"/>
                </a:lnTo>
                <a:arcTo wR="21600" hR="7562" stAng="-356711" swAng="-5043289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2276640"/>
            <a:ext cx="1511280" cy="36716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642600 h 3671640"/>
              <a:gd name="textAreaBottom" fmla="*/ 266220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27640" y="3573360"/>
            <a:ext cx="431640" cy="576360"/>
          </a:xfrm>
          <a:prstGeom prst="upDownArrow">
            <a:avLst>
              <a:gd name="adj1" fmla="val 50000"/>
              <a:gd name="adj2" fmla="val 265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5:52:30Z</dcterms:created>
  <dc:creator>微软用户</dc:creator>
  <dc:description/>
  <dc:language>en-US</dc:language>
  <cp:lastModifiedBy>User</cp:lastModifiedBy>
  <dcterms:modified xsi:type="dcterms:W3CDTF">2013-04-14T02:35:02Z</dcterms:modified>
  <cp:revision>1</cp:revision>
  <dc:subject/>
  <dc:title>幻灯片 1</dc:title>
</cp:coreProperties>
</file>