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wmf" ContentType="image/x-wmf"/>
  <Override PartName="/ppt/media/image12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3.gif" ContentType="image/gif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5B4-C0F7-452D-A683-FB9A4722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620-8E24-4496-BB06-E67E8F0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94F-43B5-48F5-A2BA-5B0E8A3C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9BE-062E-4B97-BCE2-4F825A78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501-58A3-4CDA-8A25-397043C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6D7-329A-4BC8-9646-3CD797C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FB2-3E18-462A-BD86-5C2DD1A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7AC-540F-452B-B69D-1D3088F9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2BF-921F-478D-8ED4-9CEAFA8F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C65-EA69-4C1A-8A4A-8D73531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661-CB0A-4ADB-84C3-E1849D3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8D9-D466-49ED-BF1F-ACA86DC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E5E-B58D-414F-98A9-46D9F3614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205000"/>
            <a:ext cx="701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在集体中成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404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们继续往前走，到了沃野，他们决定停下。被打耳光的差点淹死。幸好被朋友救起。被救起之后，他拿起一把小剑在石头上刻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532764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5013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今天我的好朋友救了我一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320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朋友好奇的问：“为什么我打了你之后，你写在沙子上，而现在要刻在石头上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138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请同学们猜想一下，这个人会怎么说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另一个笑了笑，回答说：“当被一个朋友伤害时，要写在易忘的地方，风会负责抹去它；相反，如果被帮助，我们要把它刻在心灵深处，那里任何风都不能抹灭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22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通过续写这个故事，同学们有什么感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28000" y="498636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50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24000" y="119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故事给我们的启示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206064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朋友的伤害往往是无心的，帮助却是真心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30686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忘记那些无心的伤害，铭记那些真心的帮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0766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你会发现这世界上你有很多真心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080" y="0"/>
            <a:ext cx="2004840" cy="335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692360" cy="2549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724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朋友相处，难免出现分歧、摩擦、争执等。但如果我们理解、宽容朋友，以宽广的胸怀接纳他人，对他人多一份理解与宽容，友谊之花一定会绽放得更加绚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什么样的人格最具魅力？心理学家经过调查，确定了受欢迎的人和不受欢迎的人分别具有的一些品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受欢迎的品质有：真诚、理解、值得信赖、理智、有理想、体贴、、热情、友好、不自私、幽默、负责任、开朗、信任别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63640" y="299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不受欢迎的品质有：尖刻、多嘴多舌、自私、目光短浅、粗鲁、自高自大、贪婪、不真诚、恶毒、不老实、冷酷、邪恶、说谎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308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具有哪些品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9564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朋友两肋插刀 伤他人自己坐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6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帮朋友出气而打伤他人的李国隆，最近被广西壮族自治区田林县法院判处有期徒刑一年零六个月，并赔偿被害人医疗费用２０００余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００３年４月１７日晚，田林县农某及其哥哥在河边摆茶摊时，为占摊位与林某发生激烈争吵，被该县城管办人员调解平息。但年轻气盛的农某咽不下这口气，叫来好友李国隆等人后，以解决与林某发生的矛盾为由，打电话把林某的男朋友邓某找来。邓某赶到后，农某再次挑起事端，与邓某扭打起来。在一旁喝酒的李国隆上前帮忙，抓起一把椅子，照准邓某的头部狠狠砸去，邓某顿时头破血流。李国隆畏罪潜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８月８日，李国隆被当地公安机关抓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0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活动三、议一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577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假如你是农某的好朋友，你会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过这个案件你学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87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8000" y="-316440"/>
            <a:ext cx="20574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案件告诉我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1260720" y="333360"/>
            <a:ext cx="60195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友谊能带给我们欢乐、支持和信心，也常常使我们陷入两难的境地。有时候，为了照顾朋友的情面，可能不得不做些违心的事情。但是真正的友谊应该是坦诚的，在原则面前一定要坚定，不能以牺牲原则为代价维持所谓的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99240" y="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197000"/>
            <a:ext cx="8353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普通的朋友与真正的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从未看过你哭泣。一个真正的朋友有双肩让你的泪水湿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不知道你父母的姓氏。一个真正的朋友有他们的电话在通讯簿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会带瓶葡萄酒参加你的派对。一个真正的朋友会早点来帮你准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为了帮你打扫而晚点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讨厌你在他睡了后打电话过来。一个真正的朋友会问为什么现在才打电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找你谈论你的困扰。一个真正的朋友找你解决你的困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对你的罗曼史感到好奇。一个真正的朋友可以威胁你说出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在拜访时，像一个客人一样。一个真正的朋友会打开冰箱自己拿东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在吵架后就认为友谊已经结束。一个真正的朋友明白当你们还没打过架就不叫真正的友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个普通的朋友期望你永远在他身边陪他。一个真正的朋友期望他能永远陪在你身旁 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四、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79640" y="260280"/>
            <a:ext cx="53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歌曲：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歌手：无印良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谁能够划船不用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谁能够扬帆没有风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谁能够离开好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没有感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可以划船不用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可以扬帆没有风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但是朋友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你离我远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却不能不感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0" y="2743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057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0" y="5486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0" y="4800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0" y="4114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0" y="3429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0" y="6189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2209680" y="609480"/>
              <a:ext cx="4572000" cy="1676520"/>
              <a:chOff x="2209680" y="609480"/>
              <a:chExt cx="4572000" cy="16765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09680" y="609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971800" y="1143000"/>
                <a:ext cx="2971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3333ff"/>
                    </a:solidFill>
                    <a:latin typeface="Times New Roman"/>
                    <a:ea typeface="华文楷体"/>
                  </a:rPr>
                  <a:t>教师寄语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50920" y="2133720"/>
            <a:ext cx="8675640" cy="1557000"/>
          </a:xfrm>
          <a:prstGeom prst="rect">
            <a:avLst/>
          </a:prstGeom>
          <a:noFill/>
          <a:ln w="57240">
            <a:solidFill>
              <a:srgbClr val="d2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慎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人交的朋友如何，对个人的成长、发展有着很大的影响。与正直、诚实守信、见多识广的朋友交往，不仅能坦诚相待，理解宽容，还能凭借其独特的见识及时指出自己品行、认识上的缺点与不足，对自己的学习、发展提出诚恳的劝告，帮助自己上进。相反，交上一个坏朋友，就会受到坏的影响，对自己的成长不利。因此，在积极寻求友情、热心交友的过程中，一定要慎交友，切不可随随便便，良莠不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交友应遵循有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交友时，我们要努力做到善交益友，乐交诤友、不交损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294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40464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大雁的故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2560" cy="6854040"/>
            <a:chOff x="0" y="0"/>
            <a:chExt cx="9142560" cy="685404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9142560" cy="6854040"/>
            </a:xfrm>
            <a:prstGeom prst="foldedCorner">
              <a:avLst>
                <a:gd name="adj" fmla="val 20583"/>
              </a:avLst>
            </a:prstGeom>
            <a:solidFill>
              <a:srgbClr val="99ccff"/>
            </a:solidFill>
            <a:ln w="0">
              <a:noFill/>
            </a:ln>
            <a:effectLst>
              <a:outerShdw dist="153753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6120" y="853920"/>
              <a:ext cx="8043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340000" y="40464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怎样尊重老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511280" cy="125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940360" y="5300640"/>
            <a:ext cx="1511280" cy="125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1989000"/>
            <a:ext cx="72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课认真听讲，积极思考，主动回答老师的提问；课后认真独立完成作业，制定学习计划，认真复习等。注意——上课精力不集中，思想“开小差”，或者交头接耳、做小动作，作业马马虎虎等行为，都是对老师劳动不尊重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4040"/>
            <a:chOff x="0" y="0"/>
            <a:chExt cx="9142560" cy="685404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2560" cy="6854040"/>
            </a:xfrm>
            <a:prstGeom prst="foldedCorner">
              <a:avLst>
                <a:gd name="adj" fmla="val 20583"/>
              </a:avLst>
            </a:prstGeom>
            <a:solidFill>
              <a:srgbClr val="99ccff"/>
            </a:solidFill>
            <a:ln w="0">
              <a:noFill/>
            </a:ln>
            <a:effectLst>
              <a:outerShdw dist="153753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120" y="853920"/>
              <a:ext cx="8043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76500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界著名的美国西点军校，不仅培养了一大批优秀的军事人才，也培养出了无数了商界的精英。在这个学校有一个久远的传统，就是学生遇到长官问话时，只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种回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报告长官，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”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报告长官，不知道！”“报告长官，不是！”“报告长官，没有借口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除此以外，不能多说一个字。例如，军官派一个士兵去完成一项任务，但由于种种原因，没有及时完成，当军官问他原因时，如果他为自己辩解，说这样或那样的原因导致自己没有按时完成任务，那就错了，他只能说：“报告长官，我没有借口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89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自觉维护集体荣誉－－名言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4000" y="836640"/>
            <a:ext cx="8820000" cy="4281120"/>
            <a:chOff x="324000" y="836640"/>
            <a:chExt cx="8820000" cy="4281120"/>
          </a:xfrm>
        </p:grpSpPr>
        <p:sp>
          <p:nvSpPr>
            <p:cNvPr id="129" name=""/>
            <p:cNvSpPr/>
            <p:nvPr/>
          </p:nvSpPr>
          <p:spPr>
            <a:xfrm>
              <a:off x="395280" y="4292280"/>
              <a:ext cx="87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人要帮助弱者，应当自己成为强者，而不是和他们一样变成弱者。　　　　　　　　 　　　　　　 —— 罗曼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罗兰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" y="836640"/>
              <a:ext cx="88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要永远觉得祖国的土地是稳固地在你脚下，要与集体一起生活，要记住，是集体教育了你。那一天你若和集体脱离，那便是末路的开始。　　　　　　　　　　　—— 奥斯特洛夫斯基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360" y="277956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朵鲜花打扮不出美丽的春天，一个人先进总是单枪匹马，众人先进才能移山填海。　　　　　　　　 —— 雷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大雁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秋天，雁群为了过冬而飞向南方，当你看到它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以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V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字队形飞行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时，你也许已经想到某种科学论点可以说明它们为什么会这样飞。当某一只大雁展翅拍打时，其他的大雁会立即跟进，整个雁群的飞行会抬升。凭借着“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V”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字队形，整个雁群群飞比一只单眼单飞至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增加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1%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飞行能力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一只大雁脱队时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，它立刻会感到独自飞行时的吃力和迟缓，所以它很快又回到队列中，继续利用前一只大雁所造成的浮力了，朝着共同的目标飞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领队的大雁疲倦了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，它会退到侧翼，另一只大雁则会马上接替它的位置。飞行在后的大雁会利用叫声来鼓励前面的同伴来保持整体的速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一只大雁生病了，或是因枪击而受伤落队时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，另外两只大雁会脱队跟随它，帮助并保护它。它们跟着落下的大雁到地面，直到它能够重飞或死去。只有在那时，这两只大雁才会飞走，或者随着另一队雁群来赶上它们自己的队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野雁单飞与群飞的区别在哪里</a:t>
            </a:r>
            <a:br>
              <a:rPr sz="2400"/>
            </a:b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２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找出文中体现野雁团结协作的精神的语句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5734080"/>
            <a:ext cx="1067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45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421000"/>
            <a:ext cx="604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少了一颗钉，一块马掌走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少了一马掌，一匹好马丧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少了一好马，一个骑士丧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少了一骑手，整个战斗失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战斗失败了，整个王国丧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都因少了马掌钉，一切事情全完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78000" y="226692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国童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057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ff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华文行楷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ff5050"/>
                </a:solidFill>
                <a:latin typeface="华文行楷"/>
                <a:ea typeface="华文行楷"/>
              </a:rPr>
              <a:t>在一个集体中，只有集体成员团结合作才能把事情做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7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ff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集体的凝聚力来自集体成员的团结与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116000" y="1125360"/>
            <a:ext cx="72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我是大海中的一滴小水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有我和我的伙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才能形成汹湧澎湃的大海，造福人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我是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_________________________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有我和我的伙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才能形成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______________________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8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——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活动一：续写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请同学们认真看下面的故事，将故事的结尾续写下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6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两个朋友在沙漠中旅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84720" y="537372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今天我的好朋友打我一巴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338292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64000" y="278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旅途中，他们吵架了，一个人还打了另外一个一记耳光。被打者觉得受辱，一言不语，在沙子上写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3:44Z</dcterms:created>
  <dc:creator>微软用户</dc:creator>
  <dc:description/>
  <dc:language>en-US</dc:language>
  <cp:lastModifiedBy>User</cp:lastModifiedBy>
  <dcterms:modified xsi:type="dcterms:W3CDTF">2013-04-14T02:33:57Z</dcterms:modified>
  <cp:revision>1</cp:revision>
  <dc:subject/>
  <dc:title>幻灯片 1</dc:title>
</cp:coreProperties>
</file>