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36C-3278-4376-948B-D3D66D9D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EA7-1F42-41E8-810C-734F2D3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E45-02B7-4D63-9F24-FB59883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75E-94AE-4873-9580-D41C0C2E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74F8-5EBD-4A9F-AE5D-BCFFDDB2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862-8300-42E4-9E9E-F9A7DB0B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643-7E00-4DB6-A178-8B7DD2A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0BE2-D22B-4573-9466-CFB6132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02EB-7829-4D05-ADA9-981EF59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A51-9428-4E3D-8AE2-89D2353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B2EA-503F-47AB-BBBC-34926AF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F42-2825-453B-954E-47DD6272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4BF0-916A-412B-ABE3-8AFDD4E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B3D0-5931-455A-AA16-1A5042D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56BD-90FF-4BD1-AF90-2275F485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FBFA-E3E1-4AF3-8AD9-F6AB008C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6A83-17C9-45A6-A270-5944DDE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29A5-10D2-49BC-B266-8569733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F3CA-560B-4086-BEA7-1E849D3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D218-B92D-4239-BA0D-0FF1057A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8420-6B2B-4E82-9B18-10071AB0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EC9A-3FB0-4E6D-B52F-68AB3C6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CE3-B40C-46BE-8E39-6F1D402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D1D4-E305-446C-AE36-09D2984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479F-66CB-4FE6-8CAD-330F3B4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3B26-1A6B-4F16-93BC-4A637CF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9327-E9AF-4ED7-B615-4B63FCD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8DB9-E65E-4DB2-B41D-10C05266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FD88-A322-41B4-9CC0-92F1E54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2B60-1C1D-4EBF-A852-47941A18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8038-226D-4BE4-A1DF-5F96351E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E02A-E767-423E-8E23-BA8EC6F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440C-E432-4FC6-AA3F-1CF57EA1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6F7-B0E8-43C4-B818-473AB82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450B-B17A-41D1-B85F-E74F1C5D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8F43-4191-411A-A909-FC4ACD83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2789-0D2F-4E27-8353-D4A4398A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1E107-E611-47C9-A5DD-F7A7E5C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97FE-6F5F-417A-B80F-182C896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2FF95-34A9-4011-ACE1-31364A8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92A8-2E27-433E-BF50-5BA5E060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E70D-CB09-415D-9950-36939E64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16AB-F3D0-453E-B18C-6FA45BD0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7A60-9CB9-4F09-BE13-04341229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27B-3111-46AC-A7E8-A6E00E1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E6C7-DFF4-44EA-9166-7767008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31F1-14C6-48E9-8376-B8D45247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3BF8-907C-4758-823B-484C283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0409-DDB5-4A31-81B7-2A11BCF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5500-92CD-4E58-8E60-7C60743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1318-1F76-4847-9936-7E30FDF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F3EF-A562-4CB9-96CB-E84B09E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A28B-00C1-4120-837D-ABB205F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2B2B5-EA6F-4B30-8A85-1327D739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E75C-5D03-4FD6-AB08-575DA775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488-0340-4B79-9EC1-881961B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FAF5-7356-4DC7-AD4B-EBE41BC1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36E2-CB8E-420F-B6AF-BB9858D6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B910-D4E7-4840-8023-7EAB3CC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BDAE-B63A-46F6-86F0-1806AA50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E819-8806-442C-85E1-011D47BA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81E1-26F0-4E40-A6E6-5928E75C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A3F3-36D2-4240-840A-1A020207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85BB9-F35D-4BA4-9AF3-7467485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93F4-529F-43CE-8EC3-E0AF781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DCDE-208D-485D-AC78-8B72F26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B56-F2BB-4A30-A247-6209312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5BB7E-79C9-433D-ADCA-18B366A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A45E7-6DFD-4C7C-967F-F53A5037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ECA9-7A13-4A62-A1C1-393CAA3E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3CA-F42A-4DAA-843F-0D0D86C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E1E-0919-489B-8076-9B634E1F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8DB-6C9D-4436-AF0C-873E56B8DF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B6A-B813-4DC4-B93B-5DEE61CF1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1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1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F2A-1341-4170-BBDA-1356FDEDE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5CAB-2FC8-43A5-AD95-F4A8165E1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0DA7-2D3A-44C7-9CBB-EE60052776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89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1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1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D22-BD65-4673-BCF3-2F03469C4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42920" y="112536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朋友一生一起走</a:t>
            </a:r>
            <a:br>
              <a:rPr sz="6000"/>
            </a:b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——在同学交往中成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50920" y="0"/>
            <a:ext cx="8569080" cy="73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化解不和，相互鼓励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   让我们并肩同行，建立起真正的友谊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友谊，像一缕阳光，温暖了人的心房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解除了我的苦恼和忧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啊，真正的友谊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给人以无限的智慧和欢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友谊　只有诚心才会长大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友谊　只有热心才会开花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友谊　只有忠心才会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互相学习，永攀高峰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让我们风雨同舟，建立起真正的友谊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364600" y="579276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cc00"/>
                </a:solidFill>
                <a:uFillTx/>
                <a:latin typeface="Times New Roman"/>
              </a:rPr>
              <a:t>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468360" y="5130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相逢就是缘，让我们伸出热情的手，奉上真诚的心，共同走过风风雨雨，坎坎坷坷。朋友，让我们一生一起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-304920" y="314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2484360" y="0"/>
            <a:ext cx="3657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d6e0e0"/>
                </a:solidFill>
                <a:latin typeface="隶书"/>
              </a:rPr>
              <a:t>寄语</a:t>
            </a:r>
            <a:endParaRPr b="1" lang="en-US" sz="1800" spc="1" strike="noStrike">
              <a:ln w="9360">
                <a:solidFill>
                  <a:srgbClr val="ff33cc"/>
                </a:solidFill>
                <a:miter/>
              </a:ln>
              <a:solidFill>
                <a:srgbClr val="d6e0e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集体合唱</a:t>
            </a: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:</a:t>
            </a: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友谊地久天长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领唱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刘庆 房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79280" y="5084640"/>
            <a:ext cx="842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要散布阳光到别人心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先得自己心里有阳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692360" y="115920"/>
            <a:ext cx="2087640" cy="720720"/>
          </a:xfrm>
          <a:prstGeom prst="rect">
            <a:avLst/>
          </a:prstGeom>
          <a:solidFill>
            <a:srgbClr val="ff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智慧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2400" y="98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你理想中的好朋友是怎样的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4000" y="2610720"/>
            <a:ext cx="8424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面给出各种“佐料”，请你在其中选出你所喜爱的，拼出一盘美味可口的“大餐”。这也就代表了你心目中的“好朋友”所具有的优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佐料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认真、勤奋、礼貌、踏实、 善良、活泼、大方、随和、健壮、可爱、幽默、宽容、热心、谦虚、诚实、开朗、豪爽、成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请精心选择（最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个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你能否说明选这些“佐料”的理由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发言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李泽军 张慧生 秦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1547640" y="98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同学交往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35280" y="263592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有共同的志趣和追求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有共同的苦闷和烦恼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有相近的性格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能相互理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20606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95280" y="184644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一：自己在某一次事件中，遇到了什么麻烦，那位同学向你伸出友谊之手，当时是什么情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二：联想生活、学习中的某一次，某一位同学遇到了困难，你给予帮助的情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刘庆 王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0"/>
            <a:ext cx="2089080" cy="792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欣赏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5229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思考并用简洁的话语写下朋友的定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rcRect l="0" t="0" r="493" b="420"/>
          <a:stretch/>
        </p:blipFill>
        <p:spPr>
          <a:xfrm>
            <a:off x="0" y="0"/>
            <a:ext cx="2376360" cy="15573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3327480" y="1196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关心他人的九种方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58400" y="1914840"/>
            <a:ext cx="3526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生日问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生病问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特别纪念日问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困难时给予支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为他人的成功出谋划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理解他人的需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欢迎与欢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支持他人实现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）随时伸出你的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" y="2421000"/>
            <a:ext cx="863280" cy="2305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987640" y="260280"/>
            <a:ext cx="5400720" cy="3743280"/>
          </a:xfrm>
          <a:prstGeom prst="rect">
            <a:avLst/>
          </a:prstGeom>
          <a:solidFill>
            <a:srgbClr val="e1f4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人际交往的科学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待人真诚坦率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视、信任并认可他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学会主动倾听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设身处地替他人着想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礼貌待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热情开朗、心胸宽阔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2360" y="4211640"/>
            <a:ext cx="8640720" cy="180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克服不健康的交往心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封锁心理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羞怯心理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失望心理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自满心理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逆反心理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惧怕心理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嫉妒心理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猜疑心理；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怨恨心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rcRect l="0" t="0" r="493" b="420"/>
          <a:stretch/>
        </p:blipFill>
        <p:spPr>
          <a:xfrm>
            <a:off x="0" y="0"/>
            <a:ext cx="2376360" cy="155736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755640" y="1557360"/>
            <a:ext cx="863640" cy="2305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3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0178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95280" y="2644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同学甲在教室的过道里走路时不小心把同学乙的书本碰到了地上，同学甲又没有尊重别人的意识，没有任何道歉的话语，自顾自地走开了。同学乙非赏生气，就拉住同学甲的衣服，怒目而视地以命令的口气向甲大声嚷道：“把我的书本捡起来！”甲非但没有弯腰捡书本，反而责怪乙在教室里大喊大叫没有礼貌，接着两个人就争吵起来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5280" y="48657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同学们仔细分析，谁对谁错。并设身处地地想一想，当你面临这样的冲突时应该如何处理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4765320"/>
            <a:ext cx="8424720" cy="58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赠语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人生之中，只要自己有一颗真诚、宽容的心，一定能得到真正的友谊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348000" y="549360"/>
            <a:ext cx="3024360" cy="863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小品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情景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95640" y="6021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表演者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马志 刁伟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3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e0e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404640"/>
            <a:ext cx="914400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诗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欣赏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《真正的友谊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朗诵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张浩 房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友谊，像一朵鲜花，芬芳我的心灵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   友谊，赶走了我心中的寂寞和痛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啊，真正的友谊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给人以无数的信心和快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友谊　使人躲避虚假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友谊　使人远离冷漠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友谊　使人不再争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0:50:35Z</dcterms:created>
  <dc:creator>Billgates</dc:creator>
  <dc:description/>
  <dc:language>en-US</dc:language>
  <cp:lastModifiedBy>User</cp:lastModifiedBy>
  <dcterms:modified xsi:type="dcterms:W3CDTF">2013-04-14T02:33:27Z</dcterms:modified>
  <cp:revision>77</cp:revision>
  <dc:subject/>
  <dc:title>在人际交往中获得成长</dc:title>
</cp:coreProperties>
</file>