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AD2-3F8F-4A96-B20C-8C095192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D48-2B6D-4547-8D03-08DCA18D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205-0D36-4007-97F3-B06FA02D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E6D-5A63-45F2-BEDF-BC4B477D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C5D-55E5-4E86-90AE-3A16D985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B07-3373-41D6-A7B9-667305CD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1CE-3A59-4514-B1D1-71679F6A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983-CF04-487C-851A-F0BF5887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38E-3249-4711-AA00-76312AB6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B99-F326-4860-912C-895C5AF5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0EB-DAAF-4BD8-AC5B-D1AE1549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75D-6034-43C9-A01B-3B840A8F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E879-70BD-4E27-892F-79C499FC05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676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团结就是力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066680" y="3809880"/>
            <a:ext cx="70866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232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小水滴的故事</a:t>
            </a:r>
            <a:endParaRPr b="0" lang="en-US" sz="2400" spc="1" strike="noStrike">
              <a:ln w="2232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990720" y="533520"/>
            <a:ext cx="7086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232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小水滴的故事</a:t>
            </a:r>
            <a:endParaRPr b="0" lang="en-US" sz="2400" spc="1" strike="noStrike">
              <a:ln w="2232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3623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1,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为什么小水珠离开大海他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的怀抱后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会马上消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39625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2,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如果小水珠不想在这个世界上消失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它该怎么办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2133720"/>
            <a:ext cx="65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小水珠的力量单薄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无法抵御强烈的太阳光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很容易被蒸发掉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但回到大海就不一样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那里有无数的小水珠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它们紧紧团结在一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共同抵御太阳光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所以没有那么容易被蒸发掉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活动一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众志成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1240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活动要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每位同学可以用任何方式站到凳子上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  <a:ea typeface="Arial"/>
              </a:rPr>
              <a:t>,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（落地者不算）要求一分钟时间到的时候，凳子上有最多的人的小组获胜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  <a:ea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6858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品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438280" y="1295280"/>
            <a:ext cx="44960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百花争春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40384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表演者：四年级（</a:t>
            </a:r>
            <a:r>
              <a:rPr b="0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2</a:t>
            </a:r>
            <a:r>
              <a:rPr b="0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班级的不足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之处及其原因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6080" y="914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班级不足主要有三点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 有的同学学习态度不端正，有不完成作业的习惯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下课有打闹现象，由折飞机到玩卡片，玩的花样层出不穷，玩心太重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课堂的纪律不够好。有的同学上课听讲不够专心，抠手指、玩橡皮、弄尺子、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小声说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8:48:12Z</dcterms:created>
  <dc:creator>zzg</dc:creator>
  <dc:description/>
  <dc:language>en-US</dc:language>
  <cp:lastModifiedBy>User</cp:lastModifiedBy>
  <dcterms:modified xsi:type="dcterms:W3CDTF">2013-04-14T02:33:01Z</dcterms:modified>
  <cp:revision>10</cp:revision>
  <dc:subject/>
  <dc:title>PowerPoint 演示文稿</dc:title>
</cp:coreProperties>
</file>