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1DB-6F7C-4C24-A5A8-1929D1AD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BB2-DA5F-43A5-9800-720766B7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FAE-7446-48AD-98DD-CBDCC77A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4CB-7388-471C-9FD4-ABA49BC9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9966-BA10-42EF-8F29-AB0C391F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0F2D-F143-4BE8-9C1A-BDF99A5F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6ECC-07B6-4519-A6D5-8A911D5F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360F-9BD7-4362-BA63-FC0229CE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4958-36E2-45EE-9F05-77D63CD4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ADE6-094F-422D-9C99-D6802B5B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4FE6-E8F4-4AE7-9E45-E327751F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B52-CD65-482F-BEE4-691E1549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5779-457E-4C0F-8CAB-A1527FBD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5FDF-EC0A-4019-BA8C-24331A6D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DA1A-3D8C-4C4E-8D15-BB25C9F8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F76B-B633-4666-817F-75DEAE4F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E70C-F395-47AA-849F-85FC7368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D0F93-528A-46E7-9FCA-7C7BB078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F189-1762-4D90-BD9A-CF2731B2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2209C-CEC0-4312-BC21-CA0C9376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114C9-2897-4DA2-A104-E690ED63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1413E-7E96-4D3A-B64B-7F5F3CAB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B1F-273C-47B8-AF4F-D62D6BC3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53BF3-5DE6-4F05-A681-D4E844D9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129F5-B170-4051-9955-BBD12C51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C4241-3177-44A3-B213-3E22B75D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0F6B-BF39-40D9-825C-D2EEECC4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77CF4-CED6-4232-8BD1-F4E6C004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06B6A-1334-418F-8B09-A0417840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4320C-D801-486D-9393-9E6DB3FD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AA41A-902B-456D-8B00-B562109A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90A18-3779-46DC-B0FC-007F334E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6A514-B8EC-44BC-905A-9EB614C3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8B5-1072-416E-AFCB-702A8430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CE42B-4854-4C9A-B859-2BDA5697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61DF-AB89-4F8B-BBE5-5C44137C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58A35-494A-4AD7-B674-1F2D0D84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F9440-A575-497B-B18D-01AD7436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D6615-5BC8-4BA9-84D1-A43CB7B7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FA8F4-F9F1-4C5F-B490-42ECC55C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236E5-E63B-43F8-AFB6-46CE7D29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FC1D4-8E80-4D59-9FD9-BCF27FF1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B3077-1105-4DBB-A5AB-55167F22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7FE26-F64B-4C05-B284-6DF39E29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EA1-3978-4802-A282-7CCC18AA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AB4E2-267F-4BF5-B34C-C8852F2D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C3585-510E-48CE-83C3-86E92B52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511EA-89AE-45D9-A62C-372925F2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5B1C7-585B-49CE-9848-1F8879BA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C10BC-DF93-4FEB-9E7B-45C4B3DC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02F26-ADDD-466F-8645-1C47D95E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328B0-43DB-40F6-967B-04AF790A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13DD3-48E5-4B9B-98B1-B0DC3800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F9C33-DB9B-49E4-97AD-D2FAE830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36D97-05C0-47EE-8D99-F84E33C4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B1F-73B3-4763-B307-8B3CE9E2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328EF-F911-4065-967F-CA6DA1D0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2CCD7-7083-45C2-80DF-7DC0E1BD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D0DDC-82E2-4D41-B1C5-3758581C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1D3D5-DF7B-4A8D-B538-B92A7CEF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BA5A5-C134-4229-92A7-6D38316B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74125-2E1B-4787-9773-BF5B99E2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E3A07-51A5-486E-84DB-074186C4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842D6-87B0-41BE-8719-0E4069C8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C999E-40C6-4B16-9220-E748F193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BA440-14EB-4B17-9E76-1739A793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1B2-0A60-4961-92EF-088266CE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67963-CD21-41DA-8EA8-D5E66A3B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C094E-8F16-4E29-AFAF-E94BA5C9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C4DB3-36F3-405C-9442-16F2A954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09E-E970-4FBA-B28A-A0F3165F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934-1D9F-44B4-9ABC-B7952325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46e"/>
                </a:solidFill>
                <a:latin typeface="华文琥珀"/>
              </a:rPr>
              <a:t>Click to edit the title text format</a:t>
            </a:r>
            <a:endParaRPr b="0" lang="en-US" sz="3600" spc="-1" strike="noStrike">
              <a:solidFill>
                <a:srgbClr val="56446e"/>
              </a:solidFill>
              <a:latin typeface="华文琥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32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250"/>
                </a:solidFill>
                <a:latin typeface="幼圆"/>
              </a:rPr>
              <a:t>Click to edit the outline text format</a:t>
            </a:r>
            <a:endParaRPr b="0" lang="en-US" sz="3200" spc="-1" strike="noStrike">
              <a:solidFill>
                <a:srgbClr val="3f3250"/>
              </a:solidFill>
              <a:latin typeface="幼圆"/>
            </a:endParaRPr>
          </a:p>
          <a:p>
            <a:pPr lvl="1" marL="743040" indent="-285840">
              <a:spcBef>
                <a:spcPts val="799"/>
              </a:spcBef>
              <a:buClr>
                <a:srgbClr val="3f3250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250"/>
                </a:solidFill>
                <a:latin typeface="幼圆"/>
              </a:rPr>
              <a:t>Second Outline Level</a:t>
            </a:r>
            <a:endParaRPr b="0" lang="en-US" sz="3200" spc="-1" strike="noStrike">
              <a:solidFill>
                <a:srgbClr val="3f3250"/>
              </a:solidFill>
              <a:latin typeface="幼圆"/>
            </a:endParaRPr>
          </a:p>
          <a:p>
            <a:pPr lvl="2" marL="1143000" indent="-228600">
              <a:spcBef>
                <a:spcPts val="799"/>
              </a:spcBef>
              <a:buClr>
                <a:srgbClr val="3f325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250"/>
                </a:solidFill>
                <a:latin typeface="幼圆"/>
              </a:rPr>
              <a:t>Third Outline Level</a:t>
            </a:r>
            <a:endParaRPr b="0" lang="en-US" sz="3200" spc="-1" strike="noStrike">
              <a:solidFill>
                <a:srgbClr val="3f3250"/>
              </a:solidFill>
              <a:latin typeface="幼圆"/>
            </a:endParaRPr>
          </a:p>
          <a:p>
            <a:pPr lvl="3" marL="1600200" indent="-228600">
              <a:spcBef>
                <a:spcPts val="799"/>
              </a:spcBef>
              <a:buClr>
                <a:srgbClr val="3f3250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250"/>
                </a:solidFill>
                <a:latin typeface="幼圆"/>
              </a:rPr>
              <a:t>Fourth Outline Level</a:t>
            </a:r>
            <a:endParaRPr b="0" lang="en-US" sz="3200" spc="-1" strike="noStrike">
              <a:solidFill>
                <a:srgbClr val="3f3250"/>
              </a:solidFill>
              <a:latin typeface="幼圆"/>
            </a:endParaRPr>
          </a:p>
          <a:p>
            <a:pPr lvl="4" marL="2057400" indent="-228600">
              <a:spcBef>
                <a:spcPts val="799"/>
              </a:spcBef>
              <a:buClr>
                <a:srgbClr val="3f3250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250"/>
                </a:solidFill>
                <a:latin typeface="幼圆"/>
              </a:rPr>
              <a:t>Fifth Outline Level</a:t>
            </a:r>
            <a:endParaRPr b="0" lang="en-US" sz="3200" spc="-1" strike="noStrike">
              <a:solidFill>
                <a:srgbClr val="3f3250"/>
              </a:solidFill>
              <a:latin typeface="幼圆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250"/>
                </a:solidFill>
                <a:latin typeface="幼圆"/>
              </a:rPr>
              <a:t>Sixth Outline Level</a:t>
            </a:r>
            <a:endParaRPr b="0" lang="en-US" sz="3200" spc="-1" strike="noStrike">
              <a:solidFill>
                <a:srgbClr val="3f3250"/>
              </a:solidFill>
              <a:latin typeface="幼圆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250"/>
                </a:solidFill>
                <a:latin typeface="幼圆"/>
              </a:rPr>
              <a:t>Seventh Outline Level</a:t>
            </a:r>
            <a:endParaRPr b="0" lang="en-US" sz="3200" spc="-1" strike="noStrike">
              <a:solidFill>
                <a:srgbClr val="3f3250"/>
              </a:solidFill>
              <a:latin typeface="幼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72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56446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6446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56446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6446e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5644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4245-B06C-4879-91B2-02AA7E404813}" type="slidenum">
              <a:rPr b="1" lang="zh-CN" sz="1200" spc="-1" strike="noStrike">
                <a:solidFill>
                  <a:srgbClr val="5644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9360"/>
            <a:ext cx="784872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456f"/>
                </a:solidFill>
                <a:latin typeface="华文琥珀"/>
              </a:rPr>
              <a:t>Click to edit the title text format</a:t>
            </a:r>
            <a:endParaRPr b="0" lang="en-US" sz="4400" spc="-1" strike="noStrike">
              <a:solidFill>
                <a:srgbClr val="57456f"/>
              </a:solidFill>
              <a:latin typeface="华文琥珀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56446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6446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56446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6446e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5644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A2AD-11BB-4A70-9154-AC1F9F9B5D8F}" type="slidenum">
              <a:rPr b="1" lang="zh-CN" sz="1200" spc="-1" strike="noStrike">
                <a:solidFill>
                  <a:srgbClr val="5644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446e"/>
                </a:solidFill>
                <a:latin typeface="华文彩云"/>
              </a:rPr>
              <a:t>Click to edit the outline text format</a:t>
            </a:r>
            <a:endParaRPr b="1" lang="en-US" sz="2800" spc="-1" strike="noStrike">
              <a:solidFill>
                <a:srgbClr val="56446e"/>
              </a:solidFill>
              <a:latin typeface="华文彩云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250"/>
                </a:solidFill>
                <a:latin typeface="幼圆"/>
              </a:rPr>
              <a:t>Second Outline Level</a:t>
            </a:r>
            <a:endParaRPr b="0" lang="en-US" sz="2800" spc="-1" strike="noStrike">
              <a:solidFill>
                <a:srgbClr val="3f3250"/>
              </a:solidFill>
              <a:latin typeface="幼圆"/>
            </a:endParaRPr>
          </a:p>
          <a:p>
            <a:pPr lvl="2" marL="914400" algn="ctr">
              <a:spcBef>
                <a:spcPts val="601"/>
              </a:spcBef>
              <a:buClr>
                <a:srgbClr val="3f3250"/>
              </a:buClr>
              <a:buFont typeface="幼圆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250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3f3250"/>
              </a:solidFill>
              <a:latin typeface="幼圆"/>
            </a:endParaRPr>
          </a:p>
          <a:p>
            <a:pPr lvl="3" marL="1371600" algn="ctr">
              <a:spcBef>
                <a:spcPts val="499"/>
              </a:spcBef>
              <a:buClr>
                <a:srgbClr val="3f3250"/>
              </a:buClr>
              <a:buFont typeface="幼圆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250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3f3250"/>
              </a:solidFill>
              <a:latin typeface="幼圆"/>
            </a:endParaRPr>
          </a:p>
          <a:p>
            <a:pPr lvl="4" marL="1828800" algn="ctr">
              <a:spcBef>
                <a:spcPts val="499"/>
              </a:spcBef>
              <a:buClr>
                <a:srgbClr val="3f3250"/>
              </a:buClr>
              <a:buFont typeface="幼圆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250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3f3250"/>
              </a:solidFill>
              <a:latin typeface="幼圆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250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3f3250"/>
              </a:solidFill>
              <a:latin typeface="幼圆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250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3f3250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D560-E01A-4314-B1CC-8A8E9806730E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8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8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9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9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AAC5-3B3C-4997-B8CE-FFC34C7AE2B7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31E4-656E-46FC-9BAB-980F0F5E9C05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0AE0-F4A8-4BC3-8B6C-66E97B0A7C4E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429000" y="4495680"/>
            <a:ext cx="3719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57456f"/>
                </a:solidFill>
                <a:latin typeface="华文琥珀"/>
              </a:rPr>
              <a:t>二</a:t>
            </a:r>
            <a:r>
              <a:rPr b="0" lang="zh-CN" sz="7000" spc="-1" strike="noStrike">
                <a:solidFill>
                  <a:srgbClr val="57456f"/>
                </a:solidFill>
                <a:latin typeface="华文琥珀"/>
              </a:rPr>
              <a:t>3</a:t>
            </a:r>
            <a:r>
              <a:rPr b="0" lang="zh-CN" sz="7000" spc="-1" strike="noStrike">
                <a:solidFill>
                  <a:srgbClr val="57456f"/>
                </a:solidFill>
                <a:latin typeface="华文琥珀"/>
              </a:rPr>
              <a:t>班</a:t>
            </a:r>
            <a:endParaRPr b="0" lang="en-US" sz="7000" spc="-1" strike="noStrike">
              <a:solidFill>
                <a:srgbClr val="57456f"/>
              </a:solidFill>
              <a:latin typeface="华文琥珀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943600" y="4648320"/>
            <a:ext cx="284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6446e"/>
                </a:solidFill>
                <a:latin typeface="华文彩云"/>
              </a:rPr>
              <a:t>班 会</a:t>
            </a:r>
            <a:endParaRPr b="1" lang="en-US" sz="6600" spc="-1" strike="noStrike">
              <a:solidFill>
                <a:srgbClr val="56446e"/>
              </a:solidFill>
              <a:latin typeface="华文彩云"/>
            </a:endParaRPr>
          </a:p>
        </p:txBody>
      </p:sp>
      <p:sp>
        <p:nvSpPr>
          <p:cNvPr id="331" name=""/>
          <p:cNvSpPr/>
          <p:nvPr/>
        </p:nvSpPr>
        <p:spPr>
          <a:xfrm>
            <a:off x="2460240" y="38088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6699"/>
                </a:solidFill>
                <a:latin typeface="Arial"/>
                <a:ea typeface="华文彩云"/>
              </a:rPr>
              <a:t>团结就是力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0" y="2286000"/>
            <a:ext cx="8782200" cy="19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3</a:t>
            </a:r>
            <a:r>
              <a:rPr b="0" lang="zh-CN" sz="40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个游戏结束，积分最高的组有礼物</a:t>
            </a:r>
            <a:r>
              <a:rPr b="0" lang="en-US" sz="40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~</a:t>
            </a:r>
            <a:r>
              <a:rPr b="0" lang="zh-CN" sz="40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0" lang="en-US" sz="4000" spc="1" strike="noStrike">
              <a:ln w="12600">
                <a:solidFill>
                  <a:srgbClr val="0000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755640" y="10526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99"/>
                </a:solidFill>
                <a:latin typeface="幼圆"/>
                <a:ea typeface="幼圆"/>
              </a:rPr>
              <a:t>　　作为</a:t>
            </a:r>
            <a:r>
              <a:rPr b="1" lang="zh-CN" sz="4000" spc="-1" strike="noStrike">
                <a:solidFill>
                  <a:srgbClr val="336699"/>
                </a:solidFill>
                <a:latin typeface="幼圆"/>
                <a:ea typeface="幼圆"/>
              </a:rPr>
              <a:t>21</a:t>
            </a:r>
            <a:r>
              <a:rPr b="1" lang="zh-CN" sz="4000" spc="-1" strike="noStrike">
                <a:solidFill>
                  <a:srgbClr val="336699"/>
                </a:solidFill>
                <a:latin typeface="幼圆"/>
                <a:ea typeface="幼圆"/>
              </a:rPr>
              <a:t>世纪的高中生</a:t>
            </a:r>
            <a:r>
              <a:rPr b="1" lang="zh-CN" sz="4000" spc="-1" strike="noStrike">
                <a:solidFill>
                  <a:srgbClr val="336699"/>
                </a:solidFill>
                <a:latin typeface="幼圆"/>
                <a:ea typeface="幼圆"/>
              </a:rPr>
              <a:t>.</a:t>
            </a:r>
            <a:r>
              <a:rPr b="1" lang="zh-CN" sz="4000" spc="-1" strike="noStrike">
                <a:solidFill>
                  <a:srgbClr val="336699"/>
                </a:solidFill>
                <a:latin typeface="幼圆"/>
                <a:ea typeface="幼圆"/>
              </a:rPr>
              <a:t>同学之间相处要讲究原则，讲究信用，更要团结友爱。集体中怎样生活，同学间怎样相处，我们都应该弄懂。如果人人都自私自利，学校里将会冷酷无情。如果人人都献上一份爱心，学校里将会充满阳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11280" y="476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336699"/>
                </a:solidFill>
                <a:latin typeface="Arial"/>
                <a:ea typeface="幼圆"/>
              </a:rPr>
              <a:t>要团结首先要友爱，同学之间要互相关怀、互相爱护、互相帮助，这样自然会造就一个团结友爱的环境。团结友爱的前提又在于人与人之间应当有礼貌，礼貌通常表现在语言上和行动上，所以就有一个公式：即同学之间的相互礼貌转化成为友爱，同学之间的相互友爱升华成为团结，同学之间的相互团结导致整个班级具有强大的凝聚力。只有当整个班级具有强大的凝聚力的时候，才能取得辉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58920" y="2427120"/>
            <a:ext cx="6769080" cy="157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肩并肩，手拉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6" name=""/>
          <p:cNvSpPr/>
          <p:nvPr/>
        </p:nvSpPr>
        <p:spPr>
          <a:xfrm>
            <a:off x="1083240" y="6145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彩云"/>
              </a:rPr>
              <a:t>游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39640" y="2513160"/>
            <a:ext cx="8223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800" spc="-1" strike="noStrike">
                <a:solidFill>
                  <a:srgbClr val="000000"/>
                </a:solidFill>
                <a:latin typeface="幼圆"/>
                <a:ea typeface="幼圆"/>
              </a:rPr>
              <a:t>每个组的前面都用粉笔在地上画一个圈圈，在圈内站尽可能多的人，人数最多的就赢，</a:t>
            </a:r>
            <a:r>
              <a:rPr b="1" lang="zh-CN" sz="3800" spc="-1" strike="noStrike">
                <a:solidFill>
                  <a:srgbClr val="000000"/>
                </a:solidFill>
                <a:latin typeface="幼圆"/>
                <a:ea typeface="幼圆"/>
              </a:rPr>
              <a:t>10</a:t>
            </a:r>
            <a:r>
              <a:rPr b="1" lang="zh-CN" sz="3800" spc="-1" strike="noStrike">
                <a:solidFill>
                  <a:srgbClr val="000000"/>
                </a:solidFill>
                <a:latin typeface="幼圆"/>
                <a:ea typeface="幼圆"/>
              </a:rPr>
              <a:t>秒的时间准备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562720" y="762120"/>
            <a:ext cx="212544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游戏规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600" y="533520"/>
            <a:ext cx="44956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肩并肩，手拉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906560" y="2349360"/>
            <a:ext cx="5689800" cy="157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抢小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43" name=""/>
          <p:cNvSpPr/>
          <p:nvPr/>
        </p:nvSpPr>
        <p:spPr>
          <a:xfrm>
            <a:off x="1083240" y="6145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彩云"/>
              </a:rPr>
              <a:t>游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00000" y="191628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各个组派出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个人，去挣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张小凳，音乐一停，大家就要抢小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562720" y="762120"/>
            <a:ext cx="212544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游戏规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600200" y="533520"/>
            <a:ext cx="3481560" cy="11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抢小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755640" y="9810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幼圆"/>
                <a:ea typeface="幼圆"/>
              </a:rPr>
              <a:t>　　</a:t>
            </a:r>
            <a:r>
              <a:rPr b="1" lang="zh-CN" sz="4000" spc="-1" strike="noStrike">
                <a:solidFill>
                  <a:srgbClr val="336699"/>
                </a:solidFill>
                <a:latin typeface="幼圆"/>
                <a:ea typeface="幼圆"/>
              </a:rPr>
              <a:t>团结友爱是中华民族的传统美德。我们要继承和弘扬中华民族的这一美德，以利他为根本，以助人为快乐，以尊老为孝敬，以爱幼为责任，以朋友为骄傲，想他人所想，急他人所急，先他人之忧，后他人之乐。团结友爱，诚信待人，珍爱自己，有利他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371600" y="2276640"/>
            <a:ext cx="56386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齐心协力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49" name=""/>
          <p:cNvSpPr/>
          <p:nvPr/>
        </p:nvSpPr>
        <p:spPr>
          <a:xfrm>
            <a:off x="1083240" y="6145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彩云"/>
              </a:rPr>
              <a:t>游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00000" y="1801800"/>
            <a:ext cx="734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幼圆"/>
                <a:ea typeface="幼圆"/>
              </a:rPr>
              <a:t>　　用你身体任何一部分去夹，你甚至可以用衣袋去袋！只要你支持到</a:t>
            </a:r>
            <a:r>
              <a:rPr b="1" lang="zh-CN" sz="3800" spc="-1" strike="noStrike">
                <a:solidFill>
                  <a:srgbClr val="000000"/>
                </a:solidFill>
                <a:latin typeface="幼圆"/>
                <a:ea typeface="幼圆"/>
              </a:rPr>
              <a:t>10</a:t>
            </a:r>
            <a:r>
              <a:rPr b="1" lang="zh-CN" sz="3800" spc="-1" strike="noStrike">
                <a:solidFill>
                  <a:srgbClr val="000000"/>
                </a:solidFill>
                <a:latin typeface="幼圆"/>
                <a:ea typeface="幼圆"/>
              </a:rPr>
              <a:t>秒，就可以数书！夹得越多书就赢了！各个组派一个人负责去夹，派两个人帮他摆书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562720" y="762120"/>
            <a:ext cx="212544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游戏规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66680" y="304920"/>
            <a:ext cx="4191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齐心协力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13:53:03Z</dcterms:created>
  <dc:creator>PANDADA</dc:creator>
  <dc:description/>
  <dc:language>en-US</dc:language>
  <cp:lastModifiedBy>User</cp:lastModifiedBy>
  <dcterms:modified xsi:type="dcterms:W3CDTF">2013-04-14T02:32:47Z</dcterms:modified>
  <cp:revision>16</cp:revision>
  <dc:subject/>
  <dc:title>电脑二3班</dc:title>
</cp:coreProperties>
</file>