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87C-DF8E-41D9-8CC1-37B80B8D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18F-5BAC-4116-A57D-D44D2831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C1C-3B6A-4601-B933-C2B0FEF8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61C-2449-4273-95C5-18658B50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9D4F-DED2-4C62-B825-44555C59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B0E8-03BD-4F62-8B3A-C3D2E0EC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4B13-989D-4519-ADC8-701820D3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E76D-55B8-4FE8-93A4-1583912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6713-2C90-4767-8E1D-CAE2D1BD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E8EF-80D4-4342-8335-39E9B605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19C7-C7B4-4336-8B9B-345511D0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502-0CDB-4892-B1BA-C0CE001A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2F26-E1D1-475A-9216-D07C9A4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72E2-5866-43A3-8252-4AF89EE4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8802-7CA4-485E-81B1-6E8E59CA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DFC1-B86F-4298-BCC4-640D813E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0222-035F-4B0E-A2CB-9DBE2484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894-71E0-44A6-A5A7-067AACEC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7FD-98EC-4EEF-BD1F-66ADC58A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661-F12E-4E37-805E-001717BD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0F0-3B06-4E70-9C87-656B7D96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112-4854-4DF9-95C8-EACA910D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985-6327-4E4C-8F49-6952E367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DED-E857-437A-905D-36E61160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42E6-86B5-4B80-B672-B0000699CAB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DADE-9250-45FB-8685-630ACB80A89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95280" y="152388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 尊重 团结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友爱 协作 共进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09880"/>
            <a:ext cx="504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</a:rPr>
              <a:t>主题班会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3440" y="5638680"/>
            <a:ext cx="23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04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6480" y="6303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7621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高二零零六级十六班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让我们彼此友爱，共同进步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崇尚理性的光辉，成为文明的代表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信仰善良的力量，弘扬善良的美德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关心他人的存在，宽容他人的不足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完善自我的人格，克制自我的恣肆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相信温和的真理，甘当仁爱的恕者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珍惜同学的情谊，把握美好的时光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扬起理想的风帆，驶向成功的彼岸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我们来这里是为了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习！学习！除了知识还要学习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会做人比学会知识更重要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做人最重要的是融入人群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融入人群最重要的是尊重他人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尊重他人实际就是尊重自己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人的力量微不足道，群体的力量才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以撼天动地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群的力量源于规则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格魅力的源泉是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亲和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尊重他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谦逊、和霭的处事态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全局式的整体观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发现他人的优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克制自己的不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善于发挥别人的长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学是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共同学习做人与学习知识、发展自己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合作伙伴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共同面对成功与失败的精神支柱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共同走上人生成功之路的互助力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拥有不同凡响的同学关系就是拥有不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凡响的财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拥有诚挚的友谊就是拥有光辉的未来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、恶的区别是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善是人性中最美的品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恶是人性里最丑的劣性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扬善去恶是人与动物最本质的区别之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善就是：爱护并促进生命，把具有发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能力的生命提升到最有价值的地位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恶就是：伤害并破坏生命，阻碍生命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发展。这是道德上绝对需要考虑的原则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明是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是一种文化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社会发展到较高阶段和具有较高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化的行为、精神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现代色彩的人类较先进的（物质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精神表现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现代色彩（意识）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平等、互助、协作、共进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格、尊严、权利、义务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和平 、友好、爱心、善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噢，人啊，你当自助！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“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我愿证明，凡是行为善良与高尚的人，定能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因之而担当患难。”    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贝多芬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“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人生是艰苦的。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可是有时连最强的人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都不免在苦难中蹉跌。他们求助，求一个朋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友。”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罗曼罗兰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“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但愿不幸的人，看到一个与他同样不幸的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难者、不顾自然的阻碍，竭尽所能成来一个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不愧为人的人，而能借以自慰。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贝多芬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如何面对竞争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别跟别人盲目较劲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关键是正确认识自己，确立自己的定位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学习是给自己学的，不是为了和他人争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锋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要善于肯定自己的进步及成绩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正确对待分数：分数不是唯一的标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互相促进才是真正的目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b00b"/>
                </a:solidFill>
                <a:latin typeface="Times New Roman"/>
                <a:ea typeface="楷体_GB2312"/>
              </a:rPr>
              <a:t>孤独性格中应保持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正确的生活态度和价值判断标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愿你在尘世获得幸福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我只愿面朝大海，春暖花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世界上没有绝望的处境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只有对处境绝望的人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永不伤害无辜和弱者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理性的头脑，沉着平静的心态，宽广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气度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4T02:31:33Z</dcterms:modified>
  <cp:revision>68</cp:revision>
  <dc:subject/>
  <dc:title>PowerPoint Presentation</dc:title>
</cp:coreProperties>
</file>