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75A4-5A6B-4205-AB90-9F97FE2B7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F616-09DA-4C13-89C6-55EC2D81D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9BF3-A17D-4D30-B0C0-3F677C158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D8BB-CD51-4F64-954E-5808043F6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90D5D-E1DE-4859-BAD8-4CC46BF28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81A29-A611-4962-9D54-788804794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02CE5-8A76-4F2F-A7ED-F2A01D721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C646B-D768-47EF-A7FE-A0AD4022F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F0EF5-EC93-40F8-ACEC-0C0BD3043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6F176-84E7-466E-B33C-BC08F39BB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D207A-3F00-43BD-ADAB-AB14E2DD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3654-0FB4-4E09-94DD-C8DA260F6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F7783-7A91-4A84-A6BC-E810CB63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DA5FC-0BEF-467B-AC11-98C88C87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8F431-C169-47E4-BC0A-3E69BE68C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C5D8A-AE9F-4C0B-8C59-AD4BE105D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F9A08-BAE3-4EED-8753-13EBAE368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F8AF-BF29-4674-A5A9-2966E6085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95E1-37FD-434D-B22B-A72DF2623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9CC7-CF78-4B17-816C-7004FD78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0F5E-CE50-460C-B876-762B2E8B1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6765-A84A-45E0-AE91-4433DEF0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0EEC-D081-4E7C-AC00-BEFFE5B9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5847-A578-4DC4-874D-169BAC50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2710E-4A2D-4FAC-BBF9-77ADFF8E0BD8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01627-46D0-435A-B845-4471E920B802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372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1692360" y="1052640"/>
            <a:ext cx="5300640" cy="2881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同一屋檐下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93" name=""/>
          <p:cNvSpPr/>
          <p:nvPr/>
        </p:nvSpPr>
        <p:spPr>
          <a:xfrm>
            <a:off x="1829520" y="5300640"/>
            <a:ext cx="184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幼圆"/>
                <a:ea typeface="幼圆"/>
              </a:rPr>
              <a:t>高一（</a:t>
            </a:r>
            <a:r>
              <a:rPr b="1" lang="zh-CN" sz="4000" spc="-1" strike="noStrike">
                <a:solidFill>
                  <a:srgbClr val="000000"/>
                </a:solidFill>
                <a:latin typeface="幼圆"/>
                <a:ea typeface="幼圆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幼圆"/>
                <a:ea typeface="幼圆"/>
              </a:rPr>
              <a:t>）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我们对我们家的期盼：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能够团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团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团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团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团结、和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家和谐相处，各个爱学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团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我们对我们家的期盼：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团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团结、处处为别人着想，互相帮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能够团结互助，和睦相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团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团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团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团结一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团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我们对我们家的期盼：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团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团结、热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努力做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NO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团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团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团结友爱，大家的成绩都有进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团结，有毅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我们对我们家的期盼：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希望每一个同学都能做好自己，让班级更有光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每个人都有上进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团结友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团结点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000" y="2421000"/>
            <a:ext cx="83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对我们的家，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们倾注了多么美好的期盼啊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700360" y="4149720"/>
            <a:ext cx="3166920" cy="302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宋体"/>
              </a:rPr>
              <a:t>团结、力争上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但是……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你不按时就寝，影响同学休息的时候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你不认真做课间操，使班级扣分的时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你在自习课走位、讲话，影响同学学习的时候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你在集会的时候迟到、喧哗，给班级抹黑的时候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但是……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92324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你不认真学习，成绩拖班级后腿的时候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你在上课的时候随意打岔、玩笑，影响老师讲课的时候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你不认真值日，让班级扣分的时候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你乱丢垃圾的时候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你上课打瞌睡的时候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你不交作业的时候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但是……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班干部们在热心为班里工作，你却不愿意配合的时候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94880" cy="60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当这样的“你”越来越多的时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当这样的“时候”越来越多的时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们也在离我们理想的“家”越来越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859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1116000" y="3716280"/>
            <a:ext cx="72723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ff">
                    <a:alpha val="71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请看短片《蚂蚁搭桥》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ff">
                  <a:alpha val="71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6381720"/>
            <a:ext cx="431640" cy="476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76280"/>
              <a:gd name="textAreaBottom" fmla="*/ 448560 h 476280"/>
            </a:gdLst>
            <a:ahLst/>
            <a:rect l="textAreaLeft" t="textAreaTop" r="textAreaRight" b="textAreaBottom"/>
            <a:pathLst>
              <a:path w="21600" h="23832">
                <a:moveTo>
                  <a:pt x="0" y="0"/>
                </a:moveTo>
                <a:lnTo>
                  <a:pt x="21600" y="0"/>
                </a:lnTo>
                <a:lnTo>
                  <a:pt x="21600" y="23832"/>
                </a:lnTo>
                <a:lnTo>
                  <a:pt x="0" y="23832"/>
                </a:lnTo>
                <a:close/>
              </a:path>
              <a:path fill="lightenLess" w="21600" h="238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32">
                <a:moveTo>
                  <a:pt x="21600" y="0"/>
                </a:moveTo>
                <a:lnTo>
                  <a:pt x="21600" y="23832"/>
                </a:lnTo>
                <a:lnTo>
                  <a:pt x="20200" y="22432"/>
                </a:lnTo>
                <a:lnTo>
                  <a:pt x="20200" y="1400"/>
                </a:lnTo>
                <a:close/>
              </a:path>
              <a:path fill="darkenLess" w="21600" h="23832">
                <a:moveTo>
                  <a:pt x="21600" y="23832"/>
                </a:moveTo>
                <a:lnTo>
                  <a:pt x="0" y="23832"/>
                </a:lnTo>
                <a:lnTo>
                  <a:pt x="1400" y="22432"/>
                </a:lnTo>
                <a:lnTo>
                  <a:pt x="20200" y="22432"/>
                </a:lnTo>
                <a:close/>
              </a:path>
              <a:path fill="lighten" w="21600" h="23832">
                <a:moveTo>
                  <a:pt x="0" y="238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32"/>
                </a:lnTo>
                <a:close/>
              </a:path>
              <a:path fill="darken" w="21600" h="23832">
                <a:moveTo>
                  <a:pt x="3794" y="8417"/>
                </a:moveTo>
                <a:lnTo>
                  <a:pt x="4707" y="8417"/>
                </a:lnTo>
                <a:lnTo>
                  <a:pt x="5090" y="8783"/>
                </a:lnTo>
                <a:lnTo>
                  <a:pt x="14299" y="8783"/>
                </a:lnTo>
                <a:lnTo>
                  <a:pt x="14856" y="9340"/>
                </a:lnTo>
                <a:lnTo>
                  <a:pt x="14856" y="9888"/>
                </a:lnTo>
                <a:lnTo>
                  <a:pt x="16701" y="9888"/>
                </a:lnTo>
                <a:lnTo>
                  <a:pt x="17067" y="9340"/>
                </a:lnTo>
                <a:lnTo>
                  <a:pt x="17806" y="9340"/>
                </a:lnTo>
                <a:lnTo>
                  <a:pt x="17806" y="14492"/>
                </a:lnTo>
                <a:lnTo>
                  <a:pt x="17067" y="14492"/>
                </a:lnTo>
                <a:lnTo>
                  <a:pt x="16701" y="13944"/>
                </a:lnTo>
                <a:lnTo>
                  <a:pt x="14856" y="13944"/>
                </a:lnTo>
                <a:lnTo>
                  <a:pt x="14856" y="15223"/>
                </a:lnTo>
                <a:lnTo>
                  <a:pt x="5273" y="15223"/>
                </a:lnTo>
                <a:lnTo>
                  <a:pt x="5273" y="10993"/>
                </a:lnTo>
                <a:lnTo>
                  <a:pt x="5090" y="10993"/>
                </a:lnTo>
                <a:lnTo>
                  <a:pt x="4707" y="11359"/>
                </a:lnTo>
                <a:lnTo>
                  <a:pt x="3794" y="1135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我们对我们的“新家”的第一感受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07732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陌生，但很快就感到温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温暖，觉得不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点恐惧，但更多的是好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开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温暖、热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希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同学很热情、开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你知道吗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4247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是班主任老师，也不是班里的某个同学，或者某些同学能把我们期望的班集体建设出来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的理想的家园需要我们每一个人的努力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果你的成绩还落后，没关系，每天一点进步就是为班级荣誉作出了贡献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果你还常常犯错，没关系，每天一点改变就是带着班级向理想又迈进了一步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你知道吗？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80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果你觉得自己微不足道，没关系，在这个班里，你的力量不可缺少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果你觉得自己能做的很少，没关系，做好自己就是帮助了我们的每一个同学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果你觉得自己的努力没有理解，没有掌声；没关系，你的言行同学们都看在眼里，记在心里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果你觉得的你的错误行为还未受同学们的谴责，老师希望你明白，这只是敢怒不敢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所以……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了我们理想的家好好努力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让我们身在这个班的这一年能骄傲地跟每一个人说：“我是高一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班的学生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我们离开这个班远行的时候能骄傲地跟每个人说：“我来自高一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班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团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阳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是很团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陌生但大家都很容易相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个很好的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平淡无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散，但自尊心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我们对我们的“新家”的第一感受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良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很温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友好、热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没有集体凝聚力，但有些人很好相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家好像都还不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友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我们对我们的“新家”的第一感受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期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同学们挺热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同学们很友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比较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很活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错，都很友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团结，懒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很多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我们对我们的“新家”的第一感受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温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好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老师满漂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紧张，也很想和同学搞好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老师好年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久违了，彷佛时间交错，回到了初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温馨、紧张、兴奋、渴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我们对我们的“新家”的第一感受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我们对我们家的期盼：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团结一致，互相帮助，有良好的学习态度，良好的素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求最好，只求更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家好好相处，团结一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家相亲相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争第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希望我们这个“家”是一个温暖的，让人留恋的“家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团结向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团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团结一致，永不服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团结友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团结，相亲相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8000"/>
                </a:solidFill>
                <a:uFillTx/>
                <a:latin typeface="Arial"/>
              </a:rPr>
              <a:t> </a:t>
            </a:r>
            <a:r>
              <a:rPr b="1" lang="zh-CN" sz="3200" spc="-1" strike="noStrike" u="sng">
                <a:solidFill>
                  <a:srgbClr val="008000"/>
                </a:solidFill>
                <a:uFillTx/>
                <a:latin typeface="Arial"/>
              </a:rPr>
              <a:t>因班之名而得其荣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谐融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我们对我们家的期盼：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我们对我们家的期盼：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同学之间和睦相处，学习竞争激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平稳而和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团结、友爱，有良好的学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越来越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睦相处，团结友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团结，男生要学会体贴女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增强凝聚力，不要散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团结友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02:11:28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2:30:42Z</dcterms:modified>
  <cp:revision>58</cp:revision>
  <dc:subject>主题班会课件(分28大类): http://shop62905894.taobao.com</dc:subject>
  <dc:title>主题班会课件(分28大类): http://shop62905894.taobao.com</dc:title>
</cp:coreProperties>
</file>