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10.wmf" ContentType="image/x-wmf"/>
  <Override PartName="/ppt/media/image9.gif" ContentType="image/gif"/>
  <Override PartName="/ppt/media/image15.jpeg" ContentType="image/jpeg"/>
  <Override PartName="/ppt/media/image14.gif" ContentType="image/gif"/>
  <Override PartName="/ppt/media/image1.gif" ContentType="image/gif"/>
  <Override PartName="/ppt/media/image2.wmf" ContentType="image/x-wmf"/>
  <Override PartName="/ppt/media/image4.gif" ContentType="image/gif"/>
  <Override PartName="/ppt/media/image6.jpeg" ContentType="image/jpeg"/>
  <Override PartName="/ppt/media/image5.jpeg" ContentType="image/jpeg"/>
  <Override PartName="/ppt/media/image7.gif" ContentType="image/gif"/>
  <Override PartName="/ppt/media/image12.gif" ContentType="image/gif"/>
  <Override PartName="/ppt/media/image3.jpeg" ContentType="image/jpeg"/>
  <Override PartName="/ppt/media/image8.gif" ContentType="image/gif"/>
  <Override PartName="/ppt/media/image16.jpeg" ContentType="image/jpeg"/>
  <Override PartName="/ppt/media/image13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9AEE-37D0-4045-A73C-FA3B64FDD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B4CA-F6F9-4662-919F-69995AE2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3793-80F0-451D-A8B9-63474BDD2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6DCF-9C53-471D-8DCD-32D8FF7F7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C010-E27D-4CF6-9ECC-8ED792AAF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678D-C677-4B5E-B11B-48AC645E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3085-C7C1-4114-8B3B-3A1CF235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116B-90DA-423C-A06C-CA5E0F9E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8C68-13BE-455E-9098-B970D73F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14F9-78BA-4CFE-A591-325CD53C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95A9-B403-4778-B346-3D2EC1F0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B576-ED23-4830-9E35-D4317290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5988-8339-45CE-B740-8450219D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38FA-93EF-4BAC-AB79-48DE9020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79BC-D601-43C1-9ED9-1DFAAFF6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913A-419D-4BA8-B4F1-90DD1FDCA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7F9E-9F71-4D49-854F-EC1419CF2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D970-A1FB-47B7-BC16-184B39E7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CC40-9BD1-4CDE-9039-6B112897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C60B-4D55-4D94-B0C5-A2DEC730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72A4-1AFE-413D-926C-E861F570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80E3-B4AF-4F91-A8B6-7FD575BF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B3FA-E2B9-481C-A7EF-68301970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F19F-D8DC-48A7-894D-9C5F41AA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9DF2-5C69-4CFA-9733-0576AF3686C5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C79A-3BE4-4F83-9A13-45F05FB524CE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5.jpeg"/><Relationship Id="rId3" Type="http://schemas.openxmlformats.org/officeDocument/2006/relationships/slide" Target="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7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1341360"/>
            <a:ext cx="8820000" cy="38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9999"/>
                </a:solidFill>
                <a:latin typeface="Arial"/>
                <a:ea typeface="黑体"/>
              </a:rPr>
              <a:t>发扬团队精神，你我一起进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华文新魏"/>
              </a:rPr>
              <a:t>——</a:t>
            </a: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华文新魏"/>
              </a:rPr>
              <a:t>主题班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5267160"/>
            <a:ext cx="3657600" cy="15908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 rot="10800000">
            <a:off x="6732720" y="3716280"/>
            <a:ext cx="182880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68360" y="981000"/>
            <a:ext cx="80643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华文新魏"/>
              </a:rPr>
              <a:t>团队精神的真谛之三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华文新魏"/>
              </a:rPr>
              <a:t>　　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华文隶书"/>
              </a:rPr>
              <a:t>管理好自己，不要给别人和集体添麻烦、也不要给别人和集体造成损失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580000" y="5516640"/>
            <a:ext cx="172872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50920" y="0"/>
            <a:ext cx="8675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有一个真实的故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那是发生</a:t>
            </a: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2003</a:t>
            </a: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年的夏天的一个夜里，某县一中的五名同学（也是好朋友吧），他们一起在街上玩，这时某县二高的三名学生也因事上街办事。不巧，他们走到了一起。当时街上人很多，不小心双方各有一人撞了一下。其实，这也没啥，三个高中学生等到回学校，他们没说什么。可是，五名一中的学生中有一个人不知那来了神经病，对三名高中学生破口大骂，并闹起事来。发展到动手打起来。最后是五名初中生中有三人丧身二人重伤，而对方是一死二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仔细想来，本来没有什么事的，可一中学生中有一人不能很好的管理好自己，闹出了事，给别人带来麻烦。不上吧，是好朋友，不能不管，可这一管，给社会，家庭和朋友带来多大的损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300720" y="5267160"/>
            <a:ext cx="36576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4920" y="620640"/>
            <a:ext cx="90741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ff0066"/>
                </a:solidFill>
                <a:latin typeface="隶书"/>
                <a:ea typeface="隶书"/>
              </a:rPr>
              <a:t>在现实中，我们的周围也有类似的事时常发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两操不认真者，给班级带来损失，班里的名气不好了，大家都没脸见人，结果是大家的名誉扫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在寝室里，该值日的同学不履行义务，寝室的脏乱差就来了，该休息时，你还在说话，通报就来了。因而，这个寝室的恶名就来了，最终大家都受到了损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该学习时你不好好学习，你的成绩不好，结果是罚抄，请家长、考不上大学。弄得你没脸回家，家长没脸见左邻右舍，遭受损失的是自己，爸爸、妈妈和家庭的经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132000" y="5267160"/>
            <a:ext cx="3657600" cy="15908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rcRect l="65646" t="0" r="0" b="76923"/>
          <a:stretch/>
        </p:blipFill>
        <p:spPr>
          <a:xfrm>
            <a:off x="0" y="5715000"/>
            <a:ext cx="1276200" cy="1143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>
            <a:hlinkClick r:id="rId3" action="ppaction://hlinksldjump"/>
          </p:cNvPr>
          <p:cNvPicPr/>
          <p:nvPr/>
        </p:nvPicPr>
        <p:blipFill>
          <a:blip r:embed="rId4"/>
          <a:srcRect l="0" t="0" r="65646" b="76923"/>
          <a:stretch/>
        </p:blipFill>
        <p:spPr>
          <a:xfrm>
            <a:off x="7867800" y="5715000"/>
            <a:ext cx="12762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330066"/>
                </a:solidFill>
                <a:latin typeface="Arial"/>
                <a:ea typeface="华文彩云"/>
              </a:rPr>
              <a:t>发扬团队精神</a:t>
            </a:r>
            <a:br>
              <a:rPr sz="4800"/>
            </a:br>
            <a:r>
              <a:rPr b="1" i="1" lang="zh-CN" sz="4800" spc="-1" strike="noStrike">
                <a:solidFill>
                  <a:srgbClr val="330066"/>
                </a:solidFill>
                <a:latin typeface="Arial"/>
                <a:ea typeface="华文彩云"/>
              </a:rPr>
              <a:t>              ——你我一起进步！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560" y="2133360"/>
            <a:ext cx="856908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行楷"/>
              </a:rPr>
              <a:t> 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行楷"/>
              </a:rPr>
              <a:t>看了这么多的故事，你心理应该会有很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行楷"/>
              </a:rPr>
              <a:t>的话想要对全班同学说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行楷"/>
              </a:rPr>
              <a:t> 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行楷"/>
              </a:rPr>
              <a:t>那就让我们一起用行动来证明我们的决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行楷"/>
              </a:rPr>
              <a:t>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556000" y="4005360"/>
            <a:ext cx="446400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250920" y="189000"/>
            <a:ext cx="806616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隶书"/>
              </a:rPr>
              <a:t>谈谈团队与自己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sp>
        <p:nvSpPr>
          <p:cNvPr id="193" name=""/>
          <p:cNvSpPr/>
          <p:nvPr/>
        </p:nvSpPr>
        <p:spPr>
          <a:xfrm>
            <a:off x="4639680" y="2421000"/>
            <a:ext cx="390096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彩云"/>
              </a:rPr>
              <a:t>演讲会—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彩云"/>
              </a:rPr>
              <a:t>你我齐参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132000" y="3789360"/>
          <a:ext cx="2448000" cy="251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3789360"/>
                    <a:ext cx="244800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5472000" cy="34815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68360" y="0"/>
            <a:ext cx="65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cc00"/>
                </a:solidFill>
                <a:latin typeface="Arial"/>
                <a:ea typeface="华文隶书"/>
              </a:rPr>
              <a:t>团队精神的光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4221000"/>
            <a:ext cx="882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难忘的</a:t>
            </a: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2004</a:t>
            </a: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年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cc"/>
                </a:solidFill>
                <a:latin typeface="华文隶书"/>
                <a:ea typeface="华文隶书"/>
              </a:rPr>
              <a:t>在</a:t>
            </a:r>
            <a:r>
              <a:rPr b="1" lang="zh-CN" sz="2400" spc="-1" strike="noStrike">
                <a:solidFill>
                  <a:srgbClr val="0000cc"/>
                </a:solidFill>
                <a:latin typeface="华文隶书"/>
                <a:ea typeface="华文隶书"/>
              </a:rPr>
              <a:t>2004</a:t>
            </a:r>
            <a:r>
              <a:rPr b="1" lang="zh-CN" sz="2400" spc="-1" strike="noStrike">
                <a:solidFill>
                  <a:srgbClr val="0000cc"/>
                </a:solidFill>
                <a:latin typeface="华文隶书"/>
                <a:ea typeface="华文隶书"/>
              </a:rPr>
              <a:t>年美国</a:t>
            </a:r>
            <a:r>
              <a:rPr b="1" lang="zh-CN" sz="2400" spc="-1" strike="noStrike">
                <a:solidFill>
                  <a:srgbClr val="0000cc"/>
                </a:solidFill>
                <a:latin typeface="华文隶书"/>
                <a:ea typeface="华文隶书"/>
              </a:rPr>
              <a:t>NBA</a:t>
            </a:r>
            <a:r>
              <a:rPr b="1" lang="zh-CN" sz="2400" spc="-1" strike="noStrike">
                <a:solidFill>
                  <a:srgbClr val="0000cc"/>
                </a:solidFill>
                <a:latin typeface="华文隶书"/>
                <a:ea typeface="华文隶书"/>
              </a:rPr>
              <a:t>篮球赛中，拥有奥尼尔、科比、马龙、佩顿等多名重量级球星的湖人队，实力了得，他们对总冠军志在必得。而底特律活塞队中没有一位顶尖人物的球员，但在比赛中，他们精诚团结，尽心尽力，打出了锐利的进攻；互相支持，互相补位，打出了铜墙铁壁的防守。最终艰难的战胜了湖人队取得了</a:t>
            </a:r>
            <a:r>
              <a:rPr b="1" lang="zh-CN" sz="2400" spc="-1" strike="noStrike">
                <a:solidFill>
                  <a:srgbClr val="0000cc"/>
                </a:solidFill>
                <a:latin typeface="华文隶书"/>
                <a:ea typeface="华文隶书"/>
              </a:rPr>
              <a:t>2004</a:t>
            </a:r>
            <a:r>
              <a:rPr b="1" lang="zh-CN" sz="2400" spc="-1" strike="noStrike">
                <a:solidFill>
                  <a:srgbClr val="0000cc"/>
                </a:solidFill>
                <a:latin typeface="华文隶书"/>
                <a:ea typeface="华文隶书"/>
              </a:rPr>
              <a:t>年</a:t>
            </a:r>
            <a:r>
              <a:rPr b="1" lang="zh-CN" sz="2400" spc="-1" strike="noStrike">
                <a:solidFill>
                  <a:srgbClr val="0000cc"/>
                </a:solidFill>
                <a:latin typeface="华文隶书"/>
                <a:ea typeface="华文隶书"/>
              </a:rPr>
              <a:t>NBA</a:t>
            </a:r>
            <a:r>
              <a:rPr b="1" lang="zh-CN" sz="2400" spc="-1" strike="noStrike">
                <a:solidFill>
                  <a:srgbClr val="0000cc"/>
                </a:solidFill>
                <a:latin typeface="华文隶书"/>
                <a:ea typeface="华文隶书"/>
              </a:rPr>
              <a:t>总冠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47200" y="260280"/>
            <a:ext cx="43142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华文新魏"/>
              </a:rPr>
              <a:t>团队精神的光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-324000" y="-3873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7715160" y="306864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11280" y="1341360"/>
            <a:ext cx="79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北京时间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日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15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时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30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分，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2006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世界篮球锦标赛开始半决赛角逐。在日本崎玉超级体育馆进行的比赛中，美国男篮以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95-101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负于欧洲冠军希腊，无缘决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而这次出战的希腊国家队球员中，没有一位世界级的球星，他们都名不见经卷。但他们也是靠自己的拼搏和全队的协作战胜了最有望夺冠的美国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隶书"/>
              </a:rPr>
              <a:t>希腊人创造了神话！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404640"/>
            <a:ext cx="46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华文隶书"/>
              </a:rPr>
              <a:t>团队精神的光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859280" y="5084640"/>
            <a:ext cx="3657600" cy="15908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156360" y="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948360" y="4941720"/>
            <a:ext cx="197964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4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55640" y="1197000"/>
            <a:ext cx="77040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华文新魏"/>
              </a:rPr>
              <a:t>光芒和神话来自于团队精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</a:rPr>
              <a:t>什么是团队精神呢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10d7ae24b83.jpg"/>
          <p:cNvPicPr/>
          <p:nvPr/>
        </p:nvPicPr>
        <p:blipFill>
          <a:blip r:embed="rId1"/>
          <a:stretch/>
        </p:blipFill>
        <p:spPr>
          <a:xfrm>
            <a:off x="4427640" y="3716280"/>
            <a:ext cx="3887640" cy="2691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50920" y="522936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7524720" y="191628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68360" y="765000"/>
            <a:ext cx="792000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华文新魏"/>
              </a:rPr>
              <a:t>故事一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华文新魏"/>
              </a:rPr>
              <a:t>天堂与地狱的区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华文隶书"/>
                <a:ea typeface="华文隶书"/>
              </a:rPr>
              <a:t>有人和上帝谈论天堂和地狱的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隶书"/>
                <a:ea typeface="华文隶书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华文隶书"/>
                <a:ea typeface="华文隶书"/>
              </a:rPr>
              <a:t>上帝对这个人说：“来吧，</a:t>
            </a:r>
            <a:r>
              <a:rPr b="1" lang="zh-CN" sz="2800" spc="-1" strike="noStrike">
                <a:solidFill>
                  <a:srgbClr val="cc3300"/>
                </a:solidFill>
                <a:latin typeface="华文隶书"/>
                <a:ea typeface="华文隶书"/>
              </a:rPr>
              <a:t>我让你看看什么是地狱</a:t>
            </a:r>
            <a:r>
              <a:rPr b="1" lang="zh-CN" sz="2800" spc="-1" strike="noStrike">
                <a:solidFill>
                  <a:srgbClr val="0000cc"/>
                </a:solidFill>
                <a:latin typeface="华文隶书"/>
                <a:ea typeface="华文隶书"/>
              </a:rPr>
              <a:t>。”他们走进一个房间，屋里有一群人围着一大锅肉汤。每个人看起来都营养不良、绝望又饥饿。他们每个人都有一只可以够到锅子的汤匙，但汤匙的柄比他们的手臂要长，自己没法把汤送进嘴里。他们看上去是那样悲苦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隶书"/>
                <a:ea typeface="华文隶书"/>
              </a:rPr>
              <a:t>    “</a:t>
            </a:r>
            <a:r>
              <a:rPr b="1" lang="zh-CN" sz="2800" spc="-1" strike="noStrike">
                <a:solidFill>
                  <a:srgbClr val="0000cc"/>
                </a:solidFill>
                <a:latin typeface="华文隶书"/>
                <a:ea typeface="华文隶书"/>
              </a:rPr>
              <a:t>来吧，我再让你看看什么是天堂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 rot="10800000">
            <a:off x="611280" y="333000"/>
            <a:ext cx="1828800" cy="13543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877080" y="4869000"/>
            <a:ext cx="179856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95280" y="260280"/>
            <a:ext cx="828036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0000cc"/>
                </a:solidFill>
                <a:latin typeface="华文隶书"/>
                <a:ea typeface="华文隶书"/>
              </a:rPr>
              <a:t>上帝把这个人领入另一间房。这里的一切和上一个房间没什么不同。一锅汤、一群人、一样的长柄汤匙，但大家都在快乐地歌唱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隶书"/>
                <a:ea typeface="华文隶书"/>
              </a:rPr>
              <a:t>  “</a:t>
            </a:r>
            <a:r>
              <a:rPr b="1" lang="zh-CN" sz="2800" spc="-1" strike="noStrike">
                <a:solidFill>
                  <a:srgbClr val="0000cc"/>
                </a:solidFill>
                <a:latin typeface="华文隶书"/>
                <a:ea typeface="华文隶书"/>
              </a:rPr>
              <a:t>我不懂，”这个人说，“为什么一样的待遇与条件，而他们快乐，另一个房里的人们却很悲惨？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隶书"/>
                <a:ea typeface="华文隶书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华文隶书"/>
                <a:ea typeface="华文隶书"/>
              </a:rPr>
              <a:t>上帝微笑着说：“很简单，在这儿他们会喂别人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cc3300"/>
                </a:solidFill>
                <a:latin typeface="华文新魏"/>
                <a:ea typeface="华文新魏"/>
              </a:rPr>
              <a:t>书外人语：助人就是助己，生存就是共存。社会分工越细，每个人对他人的依存度就越高，不会与别人合作，就相当于把自己送入地狱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隶书"/>
                <a:ea typeface="华文隶书"/>
              </a:rPr>
              <a:t>团队精神的真谛之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隶书"/>
                <a:ea typeface="华文隶书"/>
              </a:rPr>
              <a:t>  </a:t>
            </a:r>
            <a:r>
              <a:rPr b="1" lang="zh-CN" sz="3600" spc="-1" strike="noStrike">
                <a:solidFill>
                  <a:srgbClr val="0000cc"/>
                </a:solidFill>
                <a:latin typeface="华文隶书"/>
                <a:ea typeface="华文隶书"/>
              </a:rPr>
              <a:t>善于帮助别人，能形成双赢；热爱并关心集体，能形成共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732720" y="5373720"/>
            <a:ext cx="1584360" cy="1209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755640" y="5788080"/>
            <a:ext cx="107964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4360" y="692280"/>
            <a:ext cx="777708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隶书"/>
              </a:rPr>
              <a:t>故事之二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生命的价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有一个生长在孤儿院中的小男孩，常常悲观地问院长：“像我这样的没人要的孩子，活着究竟有什么意思呢？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院长总笑而不答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有一天，院长交给男孩一块石头，说：“明天早上，你拿这块石头到市场上去卖，但不是‘真卖’，记住，无论别人出多少钱，绝对不能卖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55640" y="5157720"/>
            <a:ext cx="304812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11280" y="981000"/>
            <a:ext cx="792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第二天，男孩拿着石头蹲在市场的角落，意外地发现有不少人好奇地对他的石头感兴趣，而且价钱愈出愈高。回到院内，男孩兴奋地向院长报告，院长笑笑，要他明天拿到黄金市场去卖。在黄金市场上，有人出比昨天高</a:t>
            </a: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倍的价钱来买这块石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最后，院长叫孩子把石头拿到宝石市场上去展示，结果，石头的身价又涨了</a:t>
            </a: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倍，更由于男孩怎么都不卖，竟被传扬为“稀世珍宝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男孩兴冲冲地捧着石头回到孤儿院，把一切告诉给院长，并问为什么会这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226280" y="5229360"/>
            <a:ext cx="1459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50920" y="260280"/>
            <a:ext cx="820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院长没有笑，望着孩子慢慢说道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生命的价值就像这块石头一样，在不同的环境下就会有不同的意义。一块不起眼的石头，由于你的珍惜、惜售而提升了它的价值，竟被传为稀世珍宝。你不就像着块石头一样？只要自己看重自己，自我珍惜，生命就有意义，有价值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书外人语：自己把自己不当回事，别人更瞧不起你，生命的价值首先取决于你自己的态度，珍惜独一无二的你自己，珍惜这短暂的几十年光阴，然后再去不断充实、发掘自己，最后世界才会认同你的价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团队精神的真谛之二：看重自己，珍惜自己，相信自己有好的未来，相信自己对团队的价值。</a:t>
            </a: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596360" y="5310360"/>
            <a:ext cx="1547640" cy="15476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6836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06:39:08Z</dcterms:created>
  <dc:creator>MS_User</dc:creator>
  <dc:description/>
  <dc:language>en-US</dc:language>
  <cp:lastModifiedBy>User</cp:lastModifiedBy>
  <dcterms:modified xsi:type="dcterms:W3CDTF">2013-04-14T02:29:24Z</dcterms:modified>
  <cp:revision>37</cp:revision>
  <dc:subject/>
  <dc:title>幻灯片 1</dc:title>
</cp:coreProperties>
</file>