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66B-80D1-48D3-9894-C54D011E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0E2-A53E-4BBA-A5C5-AAF7EE08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43D-5125-48E5-BA8E-260801A7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075-0CD7-4036-9AEB-5E3200F9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B6D-5023-40E9-B997-68102EF0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2A6-2C90-4846-8873-06E47D34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A2E-693A-4D45-BD6E-8D460720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014-235D-48BF-8742-8064C83C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294-CF9A-4E39-BD94-72DB059D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887-0142-4965-816C-C8BD5A01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2B3-7438-4528-8F73-B8F9263F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880-0BC6-4747-BCA4-38D9AC90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2544-F86B-433C-8CDA-CD64B114C9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430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cc"/>
                </a:solidFill>
                <a:latin typeface="Times New Roman"/>
                <a:ea typeface="方正舒体"/>
              </a:rPr>
              <a:t> </a:t>
            </a:r>
            <a:r>
              <a:rPr b="1" lang="zh-CN" sz="9600" spc="-1" strike="noStrike">
                <a:solidFill>
                  <a:srgbClr val="00ffcc"/>
                </a:solidFill>
                <a:latin typeface="Times New Roman"/>
                <a:ea typeface="方正舒体"/>
              </a:rPr>
              <a:t>动物的快乐哲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1752480"/>
            <a:ext cx="7772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685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九、要有几个知心朋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810400" cy="451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1523880"/>
            <a:ext cx="4343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495680"/>
            <a:ext cx="4343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8288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十、经常和别人保持合作，并从中得到乐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29200" y="152280"/>
            <a:ext cx="411480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1752480"/>
            <a:ext cx="7772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68580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十一、享受你的天伦之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76520" y="2362320"/>
            <a:ext cx="587664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752480"/>
            <a:ext cx="7772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8580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十二、保持高度自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666880" y="1981080"/>
            <a:ext cx="4133880" cy="470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1752480"/>
            <a:ext cx="7772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68580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十三、尊重弱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65530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1752480"/>
            <a:ext cx="7772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4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华文新魏"/>
                <a:ea typeface="华文新魏"/>
              </a:rPr>
              <a:t>十四</a:t>
            </a:r>
            <a:r>
              <a:rPr b="0" lang="zh-CN" sz="6000" spc="-1" strike="noStrike">
                <a:solidFill>
                  <a:srgbClr val="006600"/>
                </a:solidFill>
                <a:latin typeface="华文新魏"/>
                <a:ea typeface="华文新魏"/>
              </a:rPr>
              <a:t>.</a:t>
            </a:r>
            <a:r>
              <a:rPr b="0" lang="zh-CN" sz="6000" spc="-1" strike="noStrike">
                <a:solidFill>
                  <a:srgbClr val="006600"/>
                </a:solidFill>
                <a:latin typeface="华文新魏"/>
                <a:ea typeface="华文新魏"/>
              </a:rPr>
              <a:t>和你的家庭保持联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60771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1752480"/>
            <a:ext cx="72388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858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  </a:t>
            </a: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最后、要学会放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707688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3880" y="1709640"/>
            <a:ext cx="6477120" cy="4843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752480"/>
            <a:ext cx="7772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685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一、要有目标和追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752480"/>
            <a:ext cx="7772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094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  </a:t>
            </a: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二、经常保持微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62940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1752480"/>
            <a:ext cx="7772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8580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三、学会和别人分享喜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76520" y="2133720"/>
            <a:ext cx="6086520" cy="42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752480"/>
            <a:ext cx="7772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6094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四、乐于助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62578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752480"/>
            <a:ext cx="7772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8580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五、保持自己的一颗童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441936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1752480"/>
            <a:ext cx="7772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80880" y="533520"/>
            <a:ext cx="1028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  </a:t>
            </a: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六学会和各种人愉快的相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676520" y="2133720"/>
            <a:ext cx="6000480" cy="45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1752480"/>
            <a:ext cx="7772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8580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七、经常保持幽默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440028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1752480"/>
            <a:ext cx="7772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685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八、要学会宽恕他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581880" cy="48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3:23:50Z</dcterms:created>
  <dc:creator/>
  <dc:description/>
  <dc:language>en-US</dc:language>
  <cp:lastModifiedBy>User</cp:lastModifiedBy>
  <dcterms:modified xsi:type="dcterms:W3CDTF">2013-04-14T02:28:32Z</dcterms:modified>
  <cp:revision>19</cp:revision>
  <dc:subject/>
  <dc:title>幻灯片 1</dc:title>
</cp:coreProperties>
</file>