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2EE-E7B1-40AB-8838-07B35119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BD9B-AB5E-4489-8B0D-EF3060AC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2762-89DD-4125-8430-0AAE8C30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160-BBA5-4489-ABAB-24616453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5A6-07CA-42E9-8C3A-C4FF3EF4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978F-1C4D-4542-9DA9-C246A860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DDE-A8BA-44D1-9063-94708277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26A-84D2-4BDC-B782-D1DA65C4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7361-4A01-4214-A3A9-2F34CDFF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B687-5294-4125-8D6E-32BB2185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359-8AC0-4C46-BE14-52F669DC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4B4B-AD67-4A7A-9525-BDF3A929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3ECB-D6E8-4FE0-90A5-5E61148843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esk.czrx.com.cn/desk/class3/3047/2a13671ca5f3dd95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qii.com/Article/nat/n1/200508/14248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esk.zjj.com.cn/list86/1975/7c47d872b3298cf2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zkoo.com/desk/class83/1973/fb751c8314219791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esk.czrx.com.cn/desk/class3/3047/2a13671ca5f3dd95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3213000"/>
            <a:ext cx="676908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ff00"/>
                </a:solidFill>
                <a:latin typeface="Arial"/>
                <a:ea typeface="华文行楷"/>
              </a:rPr>
              <a:t>让我们共同</a:t>
            </a:r>
            <a:br>
              <a:rPr sz="8800"/>
            </a:br>
            <a:r>
              <a:rPr b="1" lang="zh-CN" sz="8800" spc="-1" strike="noStrike">
                <a:solidFill>
                  <a:srgbClr val="00ff00"/>
                </a:solidFill>
                <a:latin typeface="Arial"/>
                <a:ea typeface="华文行楷"/>
              </a:rPr>
              <a:t>成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839080" y="6858000"/>
            <a:ext cx="609840" cy="404640"/>
          </a:xfrm>
          <a:custGeom>
            <a:avLst/>
            <a:gdLst>
              <a:gd name="textAreaLeft" fmla="*/ 25920 w 609840"/>
              <a:gd name="textAreaRight" fmla="*/ 583920 w 6098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544" h="21600">
                <a:moveTo>
                  <a:pt x="0" y="0"/>
                </a:moveTo>
                <a:lnTo>
                  <a:pt x="32544" y="0"/>
                </a:lnTo>
                <a:lnTo>
                  <a:pt x="32544" y="21600"/>
                </a:lnTo>
                <a:lnTo>
                  <a:pt x="0" y="21600"/>
                </a:lnTo>
                <a:close/>
              </a:path>
              <a:path fill="lightenLess" w="32544" h="21600">
                <a:moveTo>
                  <a:pt x="0" y="0"/>
                </a:moveTo>
                <a:lnTo>
                  <a:pt x="32544" y="0"/>
                </a:lnTo>
                <a:lnTo>
                  <a:pt x="31144" y="1400"/>
                </a:lnTo>
                <a:lnTo>
                  <a:pt x="1400" y="1400"/>
                </a:lnTo>
                <a:close/>
              </a:path>
              <a:path fill="darken" w="32544" h="21600">
                <a:moveTo>
                  <a:pt x="32544" y="0"/>
                </a:moveTo>
                <a:lnTo>
                  <a:pt x="32544" y="21600"/>
                </a:lnTo>
                <a:lnTo>
                  <a:pt x="31144" y="20200"/>
                </a:lnTo>
                <a:lnTo>
                  <a:pt x="31144" y="1400"/>
                </a:lnTo>
                <a:close/>
              </a:path>
              <a:path fill="darkenLess" w="32544" h="21600">
                <a:moveTo>
                  <a:pt x="325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4" y="20200"/>
                </a:lnTo>
                <a:close/>
              </a:path>
              <a:path fill="lighten" w="325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44" h="21600">
                <a:moveTo>
                  <a:pt x="9266" y="8406"/>
                </a:moveTo>
                <a:lnTo>
                  <a:pt x="13696" y="8406"/>
                </a:lnTo>
                <a:lnTo>
                  <a:pt x="18117" y="3794"/>
                </a:lnTo>
                <a:lnTo>
                  <a:pt x="18117" y="17806"/>
                </a:lnTo>
                <a:lnTo>
                  <a:pt x="13696" y="13194"/>
                </a:lnTo>
                <a:lnTo>
                  <a:pt x="9266" y="13194"/>
                </a:lnTo>
                <a:close/>
              </a:path>
              <a:path fill="darken" w="32544" h="21600">
                <a:moveTo>
                  <a:pt x="19771" y="10800"/>
                </a:moveTo>
                <a:lnTo>
                  <a:pt x="23278" y="10800"/>
                </a:lnTo>
              </a:path>
              <a:path fill="darken" w="32544" h="21600">
                <a:moveTo>
                  <a:pt x="19771" y="8406"/>
                </a:moveTo>
                <a:lnTo>
                  <a:pt x="23278" y="5639"/>
                </a:lnTo>
              </a:path>
              <a:path fill="darken" w="32544" h="21600">
                <a:moveTo>
                  <a:pt x="19771" y="13194"/>
                </a:moveTo>
                <a:lnTo>
                  <a:pt x="23278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6093000"/>
            <a:ext cx="42483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华文行楷"/>
              </a:rPr>
              <a:t>沈阳市回民中学  张洪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1080" cy="7750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18360"/>
            <a:ext cx="10342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我们都一样   一样的坚强 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一样的</a:t>
            </a:r>
            <a:r>
              <a:rPr b="1" lang="zh-CN" sz="6000" spc="-1" strike="noStrike">
                <a:solidFill>
                  <a:srgbClr val="ff0000"/>
                </a:solidFill>
                <a:latin typeface="幼圆"/>
                <a:ea typeface="幼圆"/>
              </a:rPr>
              <a:t>青春焕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zh-CN" sz="6000" spc="-1" strike="noStrike">
                <a:solidFill>
                  <a:srgbClr val="ff0000"/>
                </a:solidFill>
                <a:latin typeface="幼圆"/>
                <a:ea typeface="幼圆"/>
              </a:rPr>
              <a:t>金黄色的光芒</a:t>
            </a: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哪怕会受伤    哪怕有风浪 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幼圆"/>
                <a:ea typeface="幼圆"/>
              </a:rPr>
              <a:t>风雨之后</a:t>
            </a: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幼圆"/>
                <a:ea typeface="幼圆"/>
              </a:rPr>
              <a:t>才会有彩色阳光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265680"/>
            <a:ext cx="828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华文新魏"/>
                <a:ea typeface="华文新魏"/>
              </a:rPr>
              <a:t>我们都一样   一样的善良 </a:t>
            </a:r>
            <a:br>
              <a:rPr sz="5400"/>
            </a:br>
            <a:r>
              <a:rPr b="1" lang="zh-CN" sz="54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一样为需要的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5400" spc="-1" strike="noStrike">
                <a:solidFill>
                  <a:srgbClr val="660066"/>
                </a:solidFill>
                <a:latin typeface="华文新魏"/>
                <a:ea typeface="华文新魏"/>
              </a:rPr>
              <a:t>打造一个天堂 </a:t>
            </a:r>
            <a:br>
              <a:rPr sz="5400"/>
            </a:br>
            <a:r>
              <a:rPr b="1" lang="zh-CN" sz="5400" spc="-1" strike="noStrike">
                <a:solidFill>
                  <a:srgbClr val="660066"/>
                </a:solidFill>
                <a:latin typeface="华文新魏"/>
                <a:ea typeface="华文新魏"/>
              </a:rPr>
              <a:t>歌声是翅膀     唱出了希望 </a:t>
            </a:r>
            <a:br>
              <a:rPr sz="5400"/>
            </a:br>
            <a:r>
              <a:rPr b="1" lang="zh-CN" sz="5400" spc="-1" strike="noStrike">
                <a:solidFill>
                  <a:srgbClr val="660066"/>
                </a:solidFill>
                <a:latin typeface="华文新魏"/>
                <a:ea typeface="华文新魏"/>
              </a:rPr>
              <a:t>所有的付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5400" spc="-1" strike="noStrike">
                <a:solidFill>
                  <a:srgbClr val="660066"/>
                </a:solidFill>
                <a:latin typeface="华文新魏"/>
                <a:ea typeface="华文新魏"/>
              </a:rPr>
              <a:t>只因</a:t>
            </a:r>
            <a:r>
              <a:rPr b="1" lang="zh-CN" sz="7200" spc="-1" strike="noStrike">
                <a:solidFill>
                  <a:srgbClr val="ff0000"/>
                </a:solidFill>
                <a:latin typeface="华文彩云"/>
                <a:ea typeface="华文彩云"/>
              </a:rPr>
              <a:t>爱</a:t>
            </a:r>
            <a:r>
              <a:rPr b="1" lang="zh-CN" sz="5400" spc="-1" strike="noStrike">
                <a:solidFill>
                  <a:srgbClr val="660066"/>
                </a:solidFill>
                <a:latin typeface="华文新魏"/>
                <a:ea typeface="华文新魏"/>
              </a:rPr>
              <a:t>的力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396360" cy="7394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50920" y="476280"/>
            <a:ext cx="69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日子那么长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我在你身旁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ff33"/>
                </a:solidFill>
                <a:latin typeface="华文新魏"/>
                <a:ea typeface="华文新魏"/>
              </a:rPr>
              <a:t>见证你成长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永远为你鼓掌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540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华文新魏"/>
                <a:ea typeface="华文新魏"/>
              </a:rPr>
              <a:t>谁在最需要的时候轻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拍着我肩膀 </a:t>
            </a:r>
            <a:br>
              <a:rPr sz="6000"/>
            </a:br>
            <a:r>
              <a:rPr b="1" lang="zh-CN" sz="6000" spc="-1" strike="noStrike">
                <a:solidFill>
                  <a:srgbClr val="0000ff"/>
                </a:solidFill>
                <a:latin typeface="华文新魏"/>
                <a:ea typeface="华文新魏"/>
              </a:rPr>
              <a:t>谁在最快乐的时候愿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和我分享 </a:t>
            </a:r>
            <a:br>
              <a:rPr sz="6000"/>
            </a:br>
            <a:r>
              <a:rPr b="1" lang="zh-CN" sz="6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日子那么长 </a:t>
            </a:r>
            <a:r>
              <a:rPr b="1" lang="zh-CN" sz="8000" spc="-1" strike="noStrike">
                <a:solidFill>
                  <a:srgbClr val="66ff33"/>
                </a:solidFill>
                <a:latin typeface="华文彩云"/>
                <a:ea typeface="华文彩云"/>
              </a:rPr>
              <a:t>我在你身旁</a:t>
            </a:r>
            <a:r>
              <a:rPr b="1" lang="zh-CN" sz="6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br>
              <a:rPr sz="6000"/>
            </a:br>
            <a:r>
              <a:rPr b="1" lang="zh-CN" sz="6600" spc="-1" strike="noStrike">
                <a:solidFill>
                  <a:srgbClr val="66ff33"/>
                </a:solidFill>
                <a:latin typeface="华文彩云"/>
                <a:ea typeface="华文彩云"/>
              </a:rPr>
              <a:t>见证你成长</a:t>
            </a:r>
            <a:r>
              <a:rPr b="1" lang="zh-CN" sz="6000" spc="-1" strike="noStrike">
                <a:solidFill>
                  <a:srgbClr val="0000ff"/>
                </a:solidFill>
                <a:latin typeface="华文新魏"/>
                <a:ea typeface="华文新魏"/>
              </a:rPr>
              <a:t>让我感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ff33"/>
                </a:solidFill>
                <a:latin typeface="华文彩云"/>
                <a:ea typeface="华文彩云"/>
              </a:rPr>
              <a:t>充满力量</a:t>
            </a:r>
            <a:r>
              <a:rPr b="0" lang="zh-CN" sz="4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358200" cy="702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3160"/>
            <a:ext cx="91440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华文新魏"/>
                <a:ea typeface="华文新魏"/>
              </a:rPr>
              <a:t>谁能忘记过去一路走来陪你受的伤 </a:t>
            </a:r>
            <a:br>
              <a:rPr sz="6600"/>
            </a:br>
            <a:r>
              <a:rPr b="1" lang="zh-CN" sz="6600" spc="-1" strike="noStrike">
                <a:solidFill>
                  <a:srgbClr val="660066"/>
                </a:solidFill>
                <a:latin typeface="华文新魏"/>
                <a:ea typeface="华文新魏"/>
              </a:rPr>
              <a:t>谁能预料未来茫茫漫长你在何方 </a:t>
            </a:r>
            <a:br>
              <a:rPr sz="6600"/>
            </a:br>
            <a:r>
              <a:rPr b="1" lang="zh-CN" sz="6600" spc="-1" strike="noStrike">
                <a:solidFill>
                  <a:srgbClr val="660066"/>
                </a:solidFill>
                <a:latin typeface="华文新魏"/>
                <a:ea typeface="华文新魏"/>
              </a:rPr>
              <a:t>笑容在脸上 </a:t>
            </a:r>
            <a:r>
              <a:rPr b="1" lang="zh-CN" sz="8000" spc="-1" strike="noStrike">
                <a:solidFill>
                  <a:srgbClr val="0000ff"/>
                </a:solidFill>
                <a:latin typeface="华文彩云"/>
                <a:ea typeface="华文彩云"/>
              </a:rPr>
              <a:t>和你一样</a:t>
            </a:r>
            <a:r>
              <a:rPr b="1" lang="zh-CN" sz="6600" spc="-1" strike="noStrike">
                <a:solidFill>
                  <a:srgbClr val="660066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r>
              <a:rPr b="1" lang="zh-CN" sz="6600" spc="-1" strike="noStrike">
                <a:solidFill>
                  <a:srgbClr val="660066"/>
                </a:solidFill>
                <a:latin typeface="华文新魏"/>
                <a:ea typeface="华文新魏"/>
              </a:rPr>
              <a:t>大声唱   </a:t>
            </a:r>
            <a:r>
              <a:rPr b="1" lang="zh-CN" sz="8000" spc="-1" strike="noStrike">
                <a:solidFill>
                  <a:srgbClr val="0000ff"/>
                </a:solidFill>
                <a:latin typeface="华文彩云"/>
                <a:ea typeface="华文彩云"/>
              </a:rPr>
              <a:t>为自己鼓掌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-1004760"/>
            <a:ext cx="9050400" cy="83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和你一样 一样的</a:t>
            </a:r>
            <a:r>
              <a:rPr b="1" lang="zh-CN" sz="6600" spc="-1" strike="noStrike">
                <a:solidFill>
                  <a:srgbClr val="660066"/>
                </a:solidFill>
                <a:latin typeface="幼圆"/>
                <a:ea typeface="幼圆"/>
              </a:rPr>
              <a:t>坚强</a:t>
            </a: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样的   </a:t>
            </a:r>
            <a:r>
              <a:rPr b="0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全力以赴追逐</a:t>
            </a:r>
            <a:r>
              <a:rPr b="0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                                        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</a:t>
            </a:r>
            <a:r>
              <a:rPr b="0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的梦想</a:t>
            </a: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哪怕会</a:t>
            </a:r>
            <a:r>
              <a:rPr b="1" lang="zh-CN" sz="6600" spc="-1" strike="noStrike">
                <a:solidFill>
                  <a:srgbClr val="660066"/>
                </a:solidFill>
                <a:latin typeface="幼圆"/>
                <a:ea typeface="幼圆"/>
              </a:rPr>
              <a:t>受伤</a:t>
            </a: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 哪怕有</a:t>
            </a:r>
            <a:r>
              <a:rPr b="1" lang="zh-CN" sz="6600" spc="-1" strike="noStrike">
                <a:solidFill>
                  <a:srgbClr val="660066"/>
                </a:solidFill>
                <a:latin typeface="幼圆"/>
                <a:ea typeface="幼圆"/>
              </a:rPr>
              <a:t>风浪</a:t>
            </a: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br>
              <a:rPr sz="6600"/>
            </a:br>
            <a:r>
              <a:rPr b="0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风雨之后才会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</a:t>
            </a:r>
            <a:r>
              <a:rPr b="0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迷人芬芳</a:t>
            </a:r>
            <a:r>
              <a:rPr b="0" lang="zh-CN" sz="6600" spc="-1" strike="noStrike">
                <a:solidFill>
                  <a:srgbClr val="ff0066"/>
                </a:solidFill>
                <a:latin typeface="华文行楷"/>
                <a:ea typeface="华文行楷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几米手绘作品壁纸"/>
          <p:cNvPicPr/>
          <p:nvPr/>
        </p:nvPicPr>
        <p:blipFill>
          <a:blip r:embed="rId1"/>
          <a:stretch/>
        </p:blipFill>
        <p:spPr>
          <a:xfrm>
            <a:off x="0" y="0"/>
            <a:ext cx="9648720" cy="710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-20520"/>
            <a:ext cx="91440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我和你</a:t>
            </a:r>
            <a:r>
              <a:rPr b="1" lang="zh-CN" sz="66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一</a:t>
            </a: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样 一样的</a:t>
            </a:r>
            <a:r>
              <a:rPr b="1" lang="zh-CN" sz="6600" spc="-1" strike="noStrike">
                <a:solidFill>
                  <a:srgbClr val="660066"/>
                </a:solidFill>
                <a:latin typeface="华文新魏"/>
                <a:ea typeface="华文新魏"/>
              </a:rPr>
              <a:t>善良</a:t>
            </a: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样为需要的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</a:t>
            </a: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打造一个天堂 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歌声是翅膀 唱出了</a:t>
            </a:r>
            <a:r>
              <a:rPr b="1" lang="zh-CN" sz="6600" spc="-1" strike="noStrike">
                <a:solidFill>
                  <a:srgbClr val="660066"/>
                </a:solidFill>
                <a:latin typeface="华文新魏"/>
                <a:ea typeface="华文新魏"/>
              </a:rPr>
              <a:t>希望</a:t>
            </a: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所有的付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因</a:t>
            </a:r>
            <a:r>
              <a:rPr b="1" lang="zh-CN" sz="8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爱</a:t>
            </a: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力量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3213000"/>
            <a:ext cx="676908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ff00"/>
                </a:solidFill>
                <a:latin typeface="Arial"/>
                <a:ea typeface="华文行楷"/>
              </a:rPr>
              <a:t>让我们共同</a:t>
            </a:r>
            <a:br>
              <a:rPr sz="8800"/>
            </a:br>
            <a:r>
              <a:rPr b="1" lang="zh-CN" sz="8800" spc="-1" strike="noStrike">
                <a:solidFill>
                  <a:srgbClr val="00ff00"/>
                </a:solidFill>
                <a:latin typeface="Arial"/>
                <a:ea typeface="华文行楷"/>
              </a:rPr>
              <a:t>成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839080" y="6858000"/>
            <a:ext cx="609840" cy="404640"/>
          </a:xfrm>
          <a:custGeom>
            <a:avLst/>
            <a:gdLst>
              <a:gd name="textAreaLeft" fmla="*/ 25920 w 609840"/>
              <a:gd name="textAreaRight" fmla="*/ 583920 w 6098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544" h="21600">
                <a:moveTo>
                  <a:pt x="0" y="0"/>
                </a:moveTo>
                <a:lnTo>
                  <a:pt x="32544" y="0"/>
                </a:lnTo>
                <a:lnTo>
                  <a:pt x="32544" y="21600"/>
                </a:lnTo>
                <a:lnTo>
                  <a:pt x="0" y="21600"/>
                </a:lnTo>
                <a:close/>
              </a:path>
              <a:path fill="lightenLess" w="32544" h="21600">
                <a:moveTo>
                  <a:pt x="0" y="0"/>
                </a:moveTo>
                <a:lnTo>
                  <a:pt x="32544" y="0"/>
                </a:lnTo>
                <a:lnTo>
                  <a:pt x="31144" y="1400"/>
                </a:lnTo>
                <a:lnTo>
                  <a:pt x="1400" y="1400"/>
                </a:lnTo>
                <a:close/>
              </a:path>
              <a:path fill="darken" w="32544" h="21600">
                <a:moveTo>
                  <a:pt x="32544" y="0"/>
                </a:moveTo>
                <a:lnTo>
                  <a:pt x="32544" y="21600"/>
                </a:lnTo>
                <a:lnTo>
                  <a:pt x="31144" y="20200"/>
                </a:lnTo>
                <a:lnTo>
                  <a:pt x="31144" y="1400"/>
                </a:lnTo>
                <a:close/>
              </a:path>
              <a:path fill="darkenLess" w="32544" h="21600">
                <a:moveTo>
                  <a:pt x="325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4" y="20200"/>
                </a:lnTo>
                <a:close/>
              </a:path>
              <a:path fill="lighten" w="325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44" h="21600">
                <a:moveTo>
                  <a:pt x="9266" y="8406"/>
                </a:moveTo>
                <a:lnTo>
                  <a:pt x="13696" y="8406"/>
                </a:lnTo>
                <a:lnTo>
                  <a:pt x="18117" y="3794"/>
                </a:lnTo>
                <a:lnTo>
                  <a:pt x="18117" y="17806"/>
                </a:lnTo>
                <a:lnTo>
                  <a:pt x="13696" y="13194"/>
                </a:lnTo>
                <a:lnTo>
                  <a:pt x="9266" y="13194"/>
                </a:lnTo>
                <a:close/>
              </a:path>
              <a:path fill="darken" w="32544" h="21600">
                <a:moveTo>
                  <a:pt x="19771" y="10800"/>
                </a:moveTo>
                <a:lnTo>
                  <a:pt x="23278" y="10800"/>
                </a:lnTo>
              </a:path>
              <a:path fill="darken" w="32544" h="21600">
                <a:moveTo>
                  <a:pt x="19771" y="8406"/>
                </a:moveTo>
                <a:lnTo>
                  <a:pt x="23278" y="5639"/>
                </a:lnTo>
              </a:path>
              <a:path fill="darken" w="32544" h="21600">
                <a:moveTo>
                  <a:pt x="19771" y="13194"/>
                </a:moveTo>
                <a:lnTo>
                  <a:pt x="23278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blinds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58200" cy="702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343160"/>
            <a:ext cx="91440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华文新魏"/>
                <a:ea typeface="华文新魏"/>
              </a:rPr>
              <a:t>谁能忘记过去一路走来陪你受的伤 </a:t>
            </a:r>
            <a:br>
              <a:rPr sz="6600"/>
            </a:br>
            <a:r>
              <a:rPr b="1" lang="zh-CN" sz="6600" spc="-1" strike="noStrike">
                <a:solidFill>
                  <a:srgbClr val="660066"/>
                </a:solidFill>
                <a:latin typeface="华文新魏"/>
                <a:ea typeface="华文新魏"/>
              </a:rPr>
              <a:t>谁能预料未来茫茫漫长你在何方 </a:t>
            </a:r>
            <a:br>
              <a:rPr sz="6600"/>
            </a:br>
            <a:r>
              <a:rPr b="1" lang="zh-CN" sz="6600" spc="-1" strike="noStrike">
                <a:solidFill>
                  <a:srgbClr val="660066"/>
                </a:solidFill>
                <a:latin typeface="华文新魏"/>
                <a:ea typeface="华文新魏"/>
              </a:rPr>
              <a:t>笑容在脸上 </a:t>
            </a:r>
            <a:r>
              <a:rPr b="1" lang="zh-CN" sz="8000" spc="-1" strike="noStrike">
                <a:solidFill>
                  <a:srgbClr val="0000ff"/>
                </a:solidFill>
                <a:latin typeface="华文彩云"/>
                <a:ea typeface="华文彩云"/>
              </a:rPr>
              <a:t>和你一样</a:t>
            </a:r>
            <a:r>
              <a:rPr b="1" lang="zh-CN" sz="6600" spc="-1" strike="noStrike">
                <a:solidFill>
                  <a:srgbClr val="660066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r>
              <a:rPr b="1" lang="zh-CN" sz="6600" spc="-1" strike="noStrike">
                <a:solidFill>
                  <a:srgbClr val="660066"/>
                </a:solidFill>
                <a:latin typeface="华文新魏"/>
                <a:ea typeface="华文新魏"/>
              </a:rPr>
              <a:t>大声唱   </a:t>
            </a:r>
            <a:r>
              <a:rPr b="1" lang="zh-CN" sz="8000" spc="-1" strike="noStrike">
                <a:solidFill>
                  <a:srgbClr val="0000ff"/>
                </a:solidFill>
                <a:latin typeface="华文彩云"/>
                <a:ea typeface="华文彩云"/>
              </a:rPr>
              <a:t>为自己鼓掌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-1004760"/>
            <a:ext cx="9050400" cy="83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和你一样 一样的</a:t>
            </a:r>
            <a:r>
              <a:rPr b="1" lang="zh-CN" sz="6600" spc="-1" strike="noStrike">
                <a:solidFill>
                  <a:srgbClr val="660066"/>
                </a:solidFill>
                <a:latin typeface="幼圆"/>
                <a:ea typeface="幼圆"/>
              </a:rPr>
              <a:t>坚强</a:t>
            </a: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样的   </a:t>
            </a:r>
            <a:r>
              <a:rPr b="0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全力以赴追逐</a:t>
            </a:r>
            <a:r>
              <a:rPr b="0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                                        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</a:t>
            </a:r>
            <a:r>
              <a:rPr b="0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的梦想</a:t>
            </a: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哪怕会</a:t>
            </a:r>
            <a:r>
              <a:rPr b="1" lang="zh-CN" sz="6600" spc="-1" strike="noStrike">
                <a:solidFill>
                  <a:srgbClr val="660066"/>
                </a:solidFill>
                <a:latin typeface="幼圆"/>
                <a:ea typeface="幼圆"/>
              </a:rPr>
              <a:t>受伤</a:t>
            </a: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 哪怕有</a:t>
            </a:r>
            <a:r>
              <a:rPr b="1" lang="zh-CN" sz="6600" spc="-1" strike="noStrike">
                <a:solidFill>
                  <a:srgbClr val="660066"/>
                </a:solidFill>
                <a:latin typeface="幼圆"/>
                <a:ea typeface="幼圆"/>
              </a:rPr>
              <a:t>风浪</a:t>
            </a: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br>
              <a:rPr sz="6600"/>
            </a:br>
            <a:r>
              <a:rPr b="0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风雨之后才会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</a:t>
            </a:r>
            <a:r>
              <a:rPr b="0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迷人芬芳</a:t>
            </a:r>
            <a:r>
              <a:rPr b="0" lang="zh-CN" sz="6600" spc="-1" strike="noStrike">
                <a:solidFill>
                  <a:srgbClr val="ff0066"/>
                </a:solidFill>
                <a:latin typeface="华文行楷"/>
                <a:ea typeface="华文行楷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几米手绘作品壁纸"/>
          <p:cNvPicPr/>
          <p:nvPr/>
        </p:nvPicPr>
        <p:blipFill>
          <a:blip r:embed="rId1"/>
          <a:stretch/>
        </p:blipFill>
        <p:spPr>
          <a:xfrm>
            <a:off x="0" y="0"/>
            <a:ext cx="9648720" cy="7101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-20520"/>
            <a:ext cx="91440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我和你</a:t>
            </a:r>
            <a:r>
              <a:rPr b="1" lang="zh-CN" sz="66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一</a:t>
            </a: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样 一样的</a:t>
            </a:r>
            <a:r>
              <a:rPr b="1" lang="zh-CN" sz="6600" spc="-1" strike="noStrike">
                <a:solidFill>
                  <a:srgbClr val="660066"/>
                </a:solidFill>
                <a:latin typeface="华文新魏"/>
                <a:ea typeface="华文新魏"/>
              </a:rPr>
              <a:t>善良</a:t>
            </a: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样为需要的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</a:t>
            </a: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打造一个天堂 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歌声是翅膀 唱出了</a:t>
            </a:r>
            <a:r>
              <a:rPr b="1" lang="zh-CN" sz="6600" spc="-1" strike="noStrike">
                <a:solidFill>
                  <a:srgbClr val="660066"/>
                </a:solidFill>
                <a:latin typeface="华文新魏"/>
                <a:ea typeface="华文新魏"/>
              </a:rPr>
              <a:t>希望</a:t>
            </a: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所有的付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因</a:t>
            </a:r>
            <a:r>
              <a:rPr b="1" lang="zh-CN" sz="8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爱</a:t>
            </a: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力量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2:03:46Z</dcterms:created>
  <dc:creator>ZhJ</dc:creator>
  <dc:description/>
  <dc:language>en-US</dc:language>
  <cp:lastModifiedBy>User</cp:lastModifiedBy>
  <dcterms:modified xsi:type="dcterms:W3CDTF">2013-04-14T02:28:09Z</dcterms:modified>
  <cp:revision>24</cp:revision>
  <dc:subject/>
  <dc:title>幻灯片 1</dc:title>
</cp:coreProperties>
</file>