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611-6773-4536-87D7-20AD616E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E84-EF31-4CA6-835F-593DAE7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A44-054A-40B5-B9A4-05E3E5D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AE6-7E2D-45FC-A1F2-3EC3C46A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312-6F71-4505-990F-47DA3E84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8B0-1A1A-4534-8F91-57D85AC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4A5-99B4-4A5C-8A36-EF11CF8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3AB-9000-41B7-B2B7-F313C23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B6B-6AC1-4C65-8DC6-D0B01CA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DF2-2166-493A-AF2D-410BBB8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376A-B978-433C-9FEC-176AFB0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C28-BC9B-4A2B-9878-02D42F10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0FBB-4F82-4564-8AEA-0AD7035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FDE6-5795-4B95-81D5-EF554BB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DBF7-3671-4FED-80FF-6D415793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790E-9D2A-434C-B636-412E674B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9D31-E842-41FF-965C-D6015D99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AA8-D6CC-43B2-8BDC-518E2D62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877-6BA8-4235-95E4-DA12510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975-9ADB-4829-BBEB-8FDE261C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E99-EA9C-4251-B0BD-3213C87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60F-C3B2-4F14-9675-3E21353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E99-2ED1-4C64-A177-F4528FB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6B2-D0F8-4BF4-AAC7-D7EC7FCB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5AC2-5DB1-495B-A8E9-2D45BDFE10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2E6-8B4C-4DD7-A42A-7720CF1935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二课  你我他的世界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40000" y="450864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2920" y="1341360"/>
            <a:ext cx="7489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人的生活离不开友谊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但要得到真正的友谊是很不容易的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友谊总需要用忠诚去播种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用热情去浇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用原则去培养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用理解去护理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马克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享了的快乐，是双倍的快乐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担了的痛苦，是一半的痛苦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瑞典谚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125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项调查结果显示，有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1%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中学生认为，知心朋友在自己未来生活中是重要的，这一比例远远高于选择财富、权力等其他事项的比例。同时，有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9%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中学生表示生活中最快乐的时刻是“与知心朋友在一起”。友谊已经成为中学生日常生活中的重要因素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981000"/>
            <a:ext cx="8065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丽的学习成绩很好，而小敏的学习成绩较差，他们能成为朋友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	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能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可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407664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友谊是在沟通和理解、尊重与平等的前提下建立起来的，而不是其他因素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美国心理学家戴尔卡耐基的交友秘决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常对别人报以会心的微笑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一个好听众，不当“宣传家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谈论别人感兴趣的事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常让对方感觉到他自己重要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避免与对方正面争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要总显得自己比别人高明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勇敢地承认错误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多从别人的角度考虑问题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尽可能使彼此交往有趣味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积极的态度开展竞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真正的友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张辉和李刚平时形影不离，学习上也相互帮助。张辉是班长，对在校内严禁吃零食的规定，他带头遵守。可是李刚却常在班里吃零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22100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对这种情况，张辉该怎么做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黑体"/>
                <a:ea typeface="黑体"/>
              </a:rPr>
              <a:t>A.</a:t>
            </a:r>
            <a:r>
              <a:rPr b="0" lang="zh-CN" sz="3200" spc="-1" strike="noStrike">
                <a:solidFill>
                  <a:srgbClr val="ff0033"/>
                </a:solidFill>
                <a:latin typeface="黑体"/>
                <a:ea typeface="黑体"/>
              </a:rPr>
              <a:t>碍于情面不管李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.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冒着断交的危险，当面批评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3413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星期天，王强在家里做作业，突然接到好朋友沈进的电话，请王强去游戏厅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传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并说他请客。王强该怎么办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5920" y="765000"/>
            <a:ext cx="1826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Times New Roman"/>
                <a:ea typeface="隶书"/>
              </a:rPr>
              <a:t>损     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4005360"/>
            <a:ext cx="75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近朱者赤，近墨者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260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如何结交诤友、益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49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明与小波是好朋友，周五小波约小明在周日下午一起去青少年活动中心看书，小波欣然答应。周日下午小时按照约定时间在青少年活动中心外等候，等了一个半小时也没见小波来。星期一上来，小时见到小波就询问昨天的事情，小波一拍头笑笑说：“昨天我爸带我去看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哈利波特与密室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了，我把去看书的事忘掉了！没事，咱们下周日再去吧！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明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86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如果你是小明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你会对小波说什么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5734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交友要讲原则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,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同时也是珍惜友谊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33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友谊与诚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557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妈妈说只要我期末考班级前三名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就带我去旅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我真的考了第二名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妈妈却说没有时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2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在大家的生活中有没有遇到类似的问题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如果父母说话不算数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我们应该怎么办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27:51Z</dcterms:modified>
  <cp:revision>46</cp:revision>
  <dc:subject>主题班会课件(分28大类): http://shop62905894.taobao.com</dc:subject>
  <dc:title>主题班会课件(分28大类): http://shop62905894.taobao.com</dc:title>
</cp:coreProperties>
</file>