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gif" ContentType="image/gi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0FA-02F7-43B5-9E39-046AA47B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727-7A06-4A7E-942E-B248CA7B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751-3293-4B89-B8BD-EE24D193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6C3-757C-439B-AA9B-26D19732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835-0DD4-475F-8A5B-2F60AA2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2A2-208A-43C4-82C8-0B53B2C1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269-1633-4111-B447-F8C300D2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B06-8EE9-4730-BE85-86D9A22A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10B-3658-4669-8041-B5122EF0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384-0F15-4390-A28B-11A7CC0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FA5-5B76-4D87-B358-6E2E95AD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9B1-AF63-4E20-AA00-682FC621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B080-78A5-4CC4-B862-5D1F4B95B6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题班会：人生的明灯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2708280"/>
            <a:ext cx="5759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友谊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主动交往，千万不要自卑退缩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使是生活在集体中的最孤僻的人，他们的内心深处也渴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人交往，他们不去主动交往往往是因为以前在感情上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挫折，现在不敢贸然主动与人交往，或者是由于某些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身非常自卑，害怕得便到别人的理解和支持，只好把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锁定在一个小角落里，独自忍受孤独的折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不能主动交往，主要原因是在交往过程中缺乏自信。所以首先就要树立自己的自信心，应当不为一时的挫折而失去对自己的信任，并且要找到自己的优点，给自己恰如其分的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任何人都不能期待着友谊找上门来，不管任何事情你不去争取，也不是很容易做到的，友谊也是如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、观察大家的共同话题和兴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个人的个性不同，兴趣也不同，但你要融入这个社会，就应该寻找到大家共同的话题，并积极参与进去，共同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604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在和大家交往中寻找价值观较为接近的人成为好朋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、善意的欣赏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同学之所以孤独，是因为他们找不到可以交朋友的人，他觉得这些人或庸俗或虚伪，进而孤芳自赏，认为没有人能成为自己的知己。他们看不到别人的优点，不能够客观准确的思考并分析问题，从而陷入到孤独的境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六、帮助别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一般都有这样的体验：当自己遇到困难需要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助的时候，此时如果有人来帮助自己，那么我们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对人家感激不尽，以后见面显得格外亲近，从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建立了友谊。以后如果对方有困难的时候，你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会主动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帮助，不仅是解决困难上的协助和物质的支持，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且也包括感情上的支持、对痛苦的分担、观点上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赞同以及提供建设性的意见。帮助别人是一种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德，也是建立深厚友谊的基础，因此，如果你是一个乐于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助别人的人，你一定会赢得真正的朋友和友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507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、与同学交往： 已所不欲，勿施于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除了朋友之外，同学就是高中生每天相处时间最长、相处数量最多的人，所以与同学的健康交往也十分重要。孔子有言：“已所不欲，勿施于人”意思就说：自己所不想要的，不要施加到别人身上。正如哲人所说：你希望别人怎样对待你，你就先怎样对待别人。同学交往，集体生活，应能够经常站在别人的立场和角度思考问题，善于体谅他人，摒弃虚荣、嫉妒、小鸡肚肠，向往平和、宽容、豁达，不求推心置腹，力争将心比心，自会海阔天空；“花有两样红，人与人不同”，即使遇到那么一些心胸相对狭窄、见识相对短浅的同学，也十分正常，礼貌待之即可，不必破坏了自己的心情，更不能动摇自己的交往原则，否则两败俱伤。记住：爱出者爱返，福往者福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流格言，增进友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四人小组为单位进行交流，然后把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己收集的格言赠给同桌，以增进友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友情在我过去的生活里就像一盏明灯，照彻了我的灵魂，使我的生存有了一点点光彩。—— 巴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除了一个真心的朋友之外，没有一样药剂是可以通心的。—— 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万两黄金容易得，知己一个也难求。—— 曹雪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海内存知己，天涯若比邻。—— 王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有很多良友，胜于有很多财富。—— 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间最美好的东西，莫过于有几个头脑和心地都很正直的严正的朋友。—— 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真正的朋友有三种：爱你的朋友，忘你的朋友，恨你的朋友。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桑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谊需要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诚去播种，热情去灌溉，原则去培养，谅解去护理  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德国谚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人同心，其利断金。 －《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辞上》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5661000"/>
            <a:ext cx="7344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友爱犹如夏日的雨露，冬日的太阳，心田靠它滋润，冰雪靠它融化。让我们运用今天所学的知识，让友谊明灯永不熄灭，让友谊鲜花香飘万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这次活动，让学生懂得什么是真正的友谊，明确友谊的珍贵；要求学生在平时学习生活中，同学之间要互相尊重，互相爱护，互相帮助，从而形成一个团结互助的良好的班集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32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834920" y="1484280"/>
            <a:ext cx="5761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希望学生们能懂得什么是真正的友谊，明确友谊的珍贵；要求学生在平时学习生活中，同学之间要互相尊重，互相爱护，互相帮助，从而形成一个团结互助的良好的班集体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6407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5247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友谊，像一朵鲜花，芬芳我的心灵，友谊，赶走了我心中的寂寞和痛苦。啊，真正的友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人以无数的信心和快乐。友谊　使人躲避虚假，友谊　使人远离冷漠，友谊　使人不再争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解不和，相互鼓励！让我们并肩同行，建立起真正的友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友谊，像一缕阳光，温暖了人的心房，友谊，解除了我的苦恼和忧愁。啊，真正的友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人以无限的智慧和欢乐。友谊　只有诚心才会长大，友谊　只有热心才会开花，友谊　只有忠心才会结果。互相学习，永攀高峰！让我们风雨同舟，建立起真正的友谊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友谊，像一盏明灯，照亮了我的灵魂。 友谊，驱散了我心中的孤独和悲伤。 啊，真正的友谊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人以无穷的温暖和力量，友谊需要忠诚去播种，友谊需要热情去浇灌，友谊需要谅解去护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相关心，不断勉励！ 让我们携手并进，建立起真正的友谊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160020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要真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066680"/>
            <a:ext cx="358128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要学会互相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905120"/>
            <a:ext cx="335268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要谨防自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895480"/>
            <a:ext cx="3581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学会宽容忍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2120" y="4267080"/>
            <a:ext cx="7924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ive and let live</a:t>
            </a:r>
            <a:endParaRPr b="1" i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4701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6408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人的生活离不开友谊，它是人类美德的种子，就像一盏明灯在指引着、激励着我们发奋向前，让我们一起使它更加明亮，为生活增添色彩！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当我看见藏在抽屉里的那只精致的小木船，我就想起陈明来。上小学一年级的时候，陈明和我是同班同学。我们两家离得很近。每天我们一块儿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、回家，一块儿温习功课。我们成了离不开的好朋友，一直到四年级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天，发生了一件不愉快的事。我们俩温习完功课，把自己在舰模小组做的小木船拿出来玩。我见他那只做得很精致，就拿在手上，翻过来掉过去地看，总舍不得放下。不料我一失手，“啪”的一声，小木船掉在地上，摔坏了。他一看，急了，哭着要我赔。我分辩说：“我不是故意的。”他生气地说：“谁叫你不小心，非赔不可！”还用力推了我一下。我往后一退，正好一脚踩在小木船上，把它踩碎了。这一下，陈明更生气了。他拿起我的小木船，使劲摔在地上，用脚踩得粉碎，一把抓起书包，转过身，头也不回就走了。看着被他踩坏的小木船，我也气得说不出话来。我们的友谊从此破裂了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眼几个月过去了。有一天放学回家，我走在前面，他走在后面。我偷偷地回头看了他一眼，他右手插进兜里，裤兜胀得鼓鼓的，不知攥着什么。忽然，他几步追上了我，从裤兜里掏出一只精致的小木船来。我惊讶地望着他。他满脸通红，激动地说：“那次是我不好，不该踩坏你的船。明天我家就要搬走了，我做了这只船送给你，留个纪念吧！”说着，他把小木船塞在我手里。想想那天发生的事，本来是我的错。我望着他那双热情的眼睛，一句话也说不出来，只是紧紧地握住了他的手。陈明跟着爸爸妈妈搬到外地去了。那天以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俩再也没有见过面。 我把他送给我的小木船藏在抽屉里。一看见这只精致的小木船，我就好像看见陈明站在我的面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我与陈明是因为什么而友谊破裂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后来我们又为什么和好了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怎样才能使友谊永存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4480" y="981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讨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计小事互谅解， 有错自我作批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直诚实不包庇， 互相帮助齐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71640" y="1557360"/>
            <a:ext cx="7127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应该如何与他人相处呢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在交往过程中不要一味付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的同学在后果朋友、同学交往时，往往付出很多，可换来的结果却事与愿违，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的时候会莫名其妙的冷淡甚至疏远自己，这对付出很多感情的同学来说，就会觉得很不公平，心理很不平衡，认为朋友不够意思，自己太傻。其实，也并不是朋友有意背叛你，在心理学上有一种社会交换原则，人们总是希望得到的不少于付出的，如果付出的多于得到的，人们心理上就会不平衡，如果得到的多于付出的，人们的心理也会不平衡。为保持付出和得到的关系平衡，人们总是要知恩图报的。如果你的付出太多，使人觉得无法回报或没有机会回报时，他就会被一种愧疚感所笼罩，造成一种无形的压力，这种压力就会导致受到恩惠的一方选择冷淡或疏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4:47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27:01Z</dcterms:modified>
  <cp:revision>10</cp:revision>
  <dc:subject>主题班会课件(分28大类): http://shop62905894.taobao.com</dc:subject>
  <dc:title>主题班会课件(分28大类): http://shop62905894.taobao.com</dc:title>
</cp:coreProperties>
</file>