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4.gif" ContentType="image/gif"/>
  <Override PartName="/ppt/media/image17.png" ContentType="image/png"/>
  <Override PartName="/ppt/media/image32.jpeg" ContentType="image/jpeg"/>
  <Override PartName="/ppt/media/image23.jpeg" ContentType="image/jpeg"/>
  <Override PartName="/ppt/media/image12.png" ContentType="image/png"/>
  <Override PartName="/ppt/media/image27.jpeg" ContentType="image/jpeg"/>
  <Override PartName="/ppt/media/image6.jpeg" ContentType="image/jpeg"/>
  <Override PartName="/ppt/media/image25.gif" ContentType="image/gif"/>
  <Override PartName="/ppt/media/image10.jpeg" ContentType="image/jpeg"/>
  <Override PartName="/ppt/media/image8.jpeg" ContentType="image/jpeg"/>
  <Override PartName="/ppt/media/image7.jpeg" ContentType="image/jpeg"/>
  <Override PartName="/ppt/media/image28.jpeg" ContentType="image/jpeg"/>
  <Override PartName="/ppt/media/image13.jpeg" ContentType="image/jpeg"/>
  <Override PartName="/ppt/media/image30.gif" ContentType="image/gif"/>
  <Override PartName="/ppt/media/image1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3.gif" ContentType="image/gif"/>
  <Override PartName="/ppt/media/image34.gif" ContentType="image/gif"/>
  <Override PartName="/ppt/media/image11.gif" ContentType="image/gif"/>
  <Override PartName="/ppt/media/image5.jpeg" ContentType="image/jpeg"/>
  <Override PartName="/ppt/media/image26.jpeg" ContentType="image/jpeg"/>
  <Override PartName="/ppt/media/image3.png" ContentType="image/pn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8.jpeg" ContentType="image/jpeg"/>
  <Override PartName="/ppt/media/image15.png" ContentType="image/png"/>
  <Override PartName="/ppt/media/image19.jpeg" ContentType="image/jpeg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D78E-4E9D-49E3-805D-3B15630B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EFE8-66BD-4859-89A7-1EC61450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95A2-CF8C-4DC4-B5AD-7A0BDBDD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4785-B98E-44EC-9115-CF5297C7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ABAD-4BC4-4A23-A143-147896EB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054A-725B-41BE-A3EF-F82F6941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7C3A-DA37-4A70-951C-D0478450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43AF-5088-4F9A-AF90-D3173B41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CE53-5826-4B61-8F00-1904B443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0D86-889E-4790-ABF9-F4FE2D34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7F22-0858-4E49-9D08-ADEFF015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E3F2-D09F-4DAB-909B-3601B468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286F-842B-42AA-8BF5-AFEBC08796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hyperlink" Target="http://resource.smjy.net/staticres/2004/czpd/xsxt/04-05shang/rjb/c1yw/09/data/zstz.htm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0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istrator/&#26700;&#38754;/&#21315;&#25163;&#35266;&#38899;.rm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14280" y="-228600"/>
            <a:ext cx="977256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304920" y="6705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676520" y="1143000"/>
            <a:ext cx="541008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让爱洒满人间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2729160" y="578160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jan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81000"/>
            <a:ext cx="9829800" cy="6939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4267080"/>
            <a:ext cx="8577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海伦凯勒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在她一岁半的时候，一场重病 夺去了她的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力和听力，接着 ，她又丧失了语言表达能力。 在这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暗而又寂寞的世界里，她竟然学会了读书和说话，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以优 异的成绩毕业于美国拉德克利夫 学校，成为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学识渊博的人。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86200" y="0"/>
            <a:ext cx="5257800" cy="3943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3209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81000"/>
            <a:ext cx="9829800" cy="6939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62160" y="4630680"/>
            <a:ext cx="6825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霍金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曾先后毕业于牛津大学和剑桥 大学，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198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年，霍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丧失语言 能力，表达思想的唯一工具是 一台电脑声音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成器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曾获剑桥大学哲学博士学位，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1975 —1977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年任重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物理学高级讲师，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1977—1979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年任教授，其间，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197 4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当选皇家学会最年轻会员，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1988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年获沃尔夫物理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14600" y="228600"/>
            <a:ext cx="38768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95440" y="4800600"/>
            <a:ext cx="585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爱迪生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美国著名的发明家， 只读过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个月的书，小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在火车上被人打而失聪。 一生中有发明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2000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多项，申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专利 的有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1328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项。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617220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-81000"/>
            <a:ext cx="9829800" cy="6939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360" y="4876920"/>
            <a:ext cx="540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张海迪</a:t>
            </a:r>
            <a:r>
              <a:rPr b="1" lang="zh-CN" sz="2800" spc="-1" strike="noStrike">
                <a:solidFill>
                  <a:srgbClr val="302ab0"/>
                </a:solidFill>
                <a:latin typeface="Times New Roman"/>
              </a:rPr>
              <a:t> 著名作家</a:t>
            </a:r>
            <a:r>
              <a:rPr b="1" lang="zh-CN" sz="2800" spc="-1" strike="noStrike">
                <a:solidFill>
                  <a:srgbClr val="302ab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哲学博士，中共党员、中国残 疾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联合会副主席。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1983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年山东省政府授予劳动模范的称号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2857320" cy="42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5334120" y="152280"/>
          <a:ext cx="3000240" cy="41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152280"/>
                    <a:ext cx="3000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-81000"/>
            <a:ext cx="9829800" cy="6939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桑兰，著名体操运动员，被誉为中国的“跳马王”。但 是在一次赛前训练中 桑兰的一个没有做完的手翻转体动作，结束了她的体操生涯，但她依然“著名”，甚至更为“著名”。让桑兰“著名”的，是她的精神，她的毅力，是她永远灿烂的微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181480" y="0"/>
            <a:ext cx="4267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990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当同学们看到这些身残志坚的事例时，你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想到了什么？从他们的身上你学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680" y="228600"/>
            <a:ext cx="12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讨论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11160" y="2514600"/>
            <a:ext cx="5392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我们不由得对这些科学家、音乐家…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生敬佩之情。他们都是身有残疾，却都有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大的成就，是因为他们都面对挫折而不向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运低头。最重要的是他们都有着常人没有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坚强的意志。 身无残疾的我们，应该比他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更加容易的攀上科学的高峰，但前提是：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们也得具有顽强的毅力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380880"/>
            <a:ext cx="656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体验残疾人的生活 （选择任意一项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36280" y="1523880"/>
            <a:ext cx="312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要求学生假扮盲人，蒙住眼睛，绕着教室走一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请同学们用一只手系鞋带。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③请同学们不要说话，告诉大家他想说的一句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04920" y="3276720"/>
            <a:ext cx="9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假如你是残疾人，你会如何对待生活中的不便，自强不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92160" y="5226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2520" y="4343400"/>
            <a:ext cx="120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残疾人能勇敢地面对困难，自强不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我们更应该热爱生命、热爱生活，敢于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困难挑战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600" y="-304920"/>
            <a:ext cx="228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假如我是他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371600"/>
            <a:ext cx="875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　除了这些众所周知的名人外，还有千千万万生活在我们身边的身残志坚的平凡人，他们以各种不同的方式给社会创造丰富的精神财富和物质财富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048120"/>
            <a:ext cx="87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调查数据显示，截至２００６年４月１日，中国各类残疾人总数达８２９６万人，残疾人占全国总人口的比例为６．３４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-304920"/>
            <a:ext cx="24386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爱心奉献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054320" y="120600"/>
            <a:ext cx="82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残疾人群体是我国社会特殊人群体。我国政府采取了各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措施关心和保护残疾人。如组织残疾人乐队、给残疾人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款、社会办福利工厂、修残疾人坡度通道、开办残疾人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校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2500200" cy="3333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925800" y="1905120"/>
            <a:ext cx="2109960" cy="2819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954840" y="1905120"/>
            <a:ext cx="2189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45820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28600" y="601992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304920" y="3200400"/>
            <a:ext cx="3809880" cy="2619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5029200" y="762120"/>
            <a:ext cx="38098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3880" y="5867280"/>
            <a:ext cx="632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请欣赏舞蹈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千手观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20400" y="95400"/>
            <a:ext cx="385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229600" y="6159600"/>
            <a:ext cx="914400" cy="698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6045120"/>
            <a:ext cx="914400" cy="812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141800" y="2743200"/>
            <a:ext cx="5002200" cy="3747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771520" y="1295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残疾人剪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59640" y="4768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残疾人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381880" y="6294600"/>
            <a:ext cx="563760" cy="563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28600" y="6261120"/>
            <a:ext cx="838080" cy="596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454760" y="457200"/>
            <a:ext cx="539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讨论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作为中学生的我们可以做那些力所能及的事情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帮助残疾人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371600" y="2057400"/>
            <a:ext cx="5486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生活上：同情，关心，帮助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精神上：理解，尊重，鼓励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314280" y="-228600"/>
            <a:ext cx="9772560" cy="7315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09480" y="1219320"/>
            <a:ext cx="536256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Thank you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-1522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79720" cy="4343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971800" y="0"/>
            <a:ext cx="6172200" cy="4308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461952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看完这精彩的表演，没有人会想到这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2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位舞者是生活在无声世界的聋哑人，他们平均年龄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17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岁，最小的只有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13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岁。一个个没有声的世界的人，却舞动出那么动人的旋律，他们成功的背后该付出了多少时间和汗水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640480" y="0"/>
            <a:ext cx="3503520" cy="3809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952880" cy="3830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3886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领舞：邰丽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3434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当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具有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优美舞姿和娴静神情的邰丽华与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20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位同样生活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无声世界的伙伴站在舞台上，用千手千眼将爱撒向人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时，没有人还会记得他们身有残疾，剩下的只是心灵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震撼。邰丽华与伙伴们用汗水和努力证实，自己的意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和智慧也可以给人们带来纯净至美的艺术享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760" y="142920"/>
            <a:ext cx="9312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邰丽华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, 1976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年出生于湖北宜昌，两岁失聪。高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毕业后考上湖北美术学院，学习装潢设计，获文学学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学位，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岁开始进入中国残疾人艺术团，边上学边随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演出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.  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现为国家一级演员，中国残疾人艺术团艺术总监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中国特殊艺术协会副主席、全国青联委员。她先后被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为全国劳动模范、全国自强模范、巾帼建功先进个人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200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年感动中国人物，荣获“中国青年五四奖章”。演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代表作品《千手观音》、《雀之灵》和《化蝶》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邰丽华成了中国残疾人艺术团里的台柱子。她不仅担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了残疾人艺术团演员队队长，出任了中国特殊艺术协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副主席，先后在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多个国家巡回演出，她的演出剧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总是出现在艺术团宣传材料最醒目的位置。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2002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在日本为世界残疾人会议演出，被誉为“全球六亿残疾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形象大使”。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10920" y="228600"/>
            <a:ext cx="633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2004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28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日，在雅典残疾人奥运会闭幕式上，邰丽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带领中国残疾人艺术团聋人舞蹈队表演的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千手观音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震撼了世界，向全世界展示了灿烂的中华文化以及特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艺术与人性之美，为中华民族赢得了荣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50200" y="2263680"/>
            <a:ext cx="3178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邰丽华曾经用这样一段文字，精辟而质朴地概括了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人生哲学：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其实所有人的人生都是一样的，有圆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有满有空，这是你不能选择的。但你可以选择看人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角度，多看看人生的圆满，然后带着一颗快乐感恩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心去面对人生的不圆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这就是我所领悟的生活真谛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4651200"/>
            <a:ext cx="3200400" cy="2206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791320" y="4551480"/>
            <a:ext cx="335268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447920" y="2133720"/>
            <a:ext cx="63244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了解了邰丽华的人生阅历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同学们，你们想到了什么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04920" y="3352680"/>
            <a:ext cx="8534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你知道古今中外身残志坚的名人吗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752480" y="685800"/>
            <a:ext cx="4114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找一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81000"/>
            <a:ext cx="9829800" cy="6939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02720" y="4495680"/>
            <a:ext cx="563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贝多芬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，二十六岁时耳聋，晚年全聋， 只能通过谈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册与人交谈。 成为最伟大的音乐家之一，作 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《英雄》、《命运》、《第九交响曲》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133720" y="3049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14T02:25:55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