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type.wav" ContentType="audio/x-wav"/>
  <Override PartName="/ppt/media/chimes.wav" ContentType="audio/x-wav"/>
  <Override PartName="/ppt/media/whoosh.wav" ContentType="audio/x-wav"/>
  <Override PartName="/ppt/media/image1.wmf" ContentType="image/x-wmf"/>
  <Override PartName="/ppt/media/projctor.wav" ContentType="audio/x-wav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4445-DC42-453F-AD42-C337E0EFF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90DF-DA4B-41AD-B468-7DBDB8F6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0397-E56B-4E61-9B58-AF8F1F18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5A71-0093-4266-B1AF-42AB660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1CB4-D23A-4D30-AABD-90EBBE33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485A-10F5-4D9C-A1FD-3BEA2677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ED91-7169-4D28-ADC4-D4B0DFC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4018-1EC3-4327-A948-FDFA638C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DCD2-B2DB-4D4B-82C3-29005BC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F7D3-B6FD-4108-AF5A-6523386B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4B60-8EA8-427E-94D2-BECE9A5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94B2-1B43-4352-AA6B-5DE7CE5CC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3B80-31D8-40A0-9FEF-737C2A7E1F8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52560" y="1362240"/>
            <a:ext cx="7353360" cy="26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华文彩云"/>
              </a:rPr>
              <a:t>团队建设活动</a:t>
            </a:r>
            <a:endParaRPr b="0" lang="en-US" sz="5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华文彩云"/>
              <a:ea typeface="华文彩云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0880"/>
            <a:ext cx="73152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55627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团队合作的困难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跑单帮的民族习性，个体作坊式思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诸葛亮</a:t>
            </a: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式英雄主义，没人要做臭皮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我群意识排斥他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缺乏长期眼光，只求眼前利害，自然不易合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本位主义做崇，事不关己，高高挂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权威主义盛行，谁都不服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不懂双赢，只讲输赢，合作很难长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80880"/>
            <a:ext cx="73152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十种团队无效成员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固步自封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缄口不语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随时攻击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悲天悯人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搬弄是非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2560" indent="-663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自我封闭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663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自由散漫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663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高谈阔论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663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事不关已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663480">
              <a:lnSpc>
                <a:spcPct val="11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文鼎CS中等线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自我欣赏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480"/>
            <a:ext cx="73152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572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团队带给组织的益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209680"/>
            <a:ext cx="487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5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长城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生产率的提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5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质量的提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5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员工士气的提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5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文鼎CS中等线"/>
                <a:ea typeface="文鼎CS中等线"/>
              </a:rPr>
              <a:t>费用的降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09480"/>
            <a:ext cx="73152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工作压力变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责任共同承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团队成员的自我价值感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回报与赏识共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团队成员能够相互影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团队成员均体验到成就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团队带给个人的益处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609480"/>
            <a:ext cx="82296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0199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高效团队的必备条件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共同的利益基础（利益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激励成员向上的“游戏”规则（制度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共同的价值观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明确的个人目标与共同愿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有效的组织沟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（良好的沟通氛围；双赢的沟通规则；  全面的沟通平台；高效的沟通技巧  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/>
            <a:ahLst/>
            <a:rect l="l" t="t" r="r" b="b"/>
            <a:pathLst>
              <a:path w="6903" h="4474">
                <a:moveTo>
                  <a:pt x="211" y="1293"/>
                </a:moveTo>
                <a:cubicBezTo>
                  <a:pt x="291" y="1273"/>
                  <a:pt x="335" y="1232"/>
                  <a:pt x="394" y="1181"/>
                </a:cubicBezTo>
                <a:cubicBezTo>
                  <a:pt x="412" y="1166"/>
                  <a:pt x="431" y="1152"/>
                  <a:pt x="450" y="1138"/>
                </a:cubicBezTo>
                <a:cubicBezTo>
                  <a:pt x="464" y="1128"/>
                  <a:pt x="479" y="1121"/>
                  <a:pt x="492" y="1110"/>
                </a:cubicBezTo>
                <a:cubicBezTo>
                  <a:pt x="529" y="1079"/>
                  <a:pt x="532" y="1060"/>
                  <a:pt x="576" y="1040"/>
                </a:cubicBezTo>
                <a:cubicBezTo>
                  <a:pt x="603" y="1028"/>
                  <a:pt x="633" y="1021"/>
                  <a:pt x="661" y="1012"/>
                </a:cubicBezTo>
                <a:cubicBezTo>
                  <a:pt x="766" y="933"/>
                  <a:pt x="893" y="895"/>
                  <a:pt x="1012" y="843"/>
                </a:cubicBezTo>
                <a:cubicBezTo>
                  <a:pt x="1050" y="826"/>
                  <a:pt x="1085" y="802"/>
                  <a:pt x="1124" y="787"/>
                </a:cubicBezTo>
                <a:cubicBezTo>
                  <a:pt x="1179" y="765"/>
                  <a:pt x="1293" y="731"/>
                  <a:pt x="1293" y="731"/>
                </a:cubicBezTo>
                <a:cubicBezTo>
                  <a:pt x="1405" y="619"/>
                  <a:pt x="1284" y="718"/>
                  <a:pt x="1433" y="661"/>
                </a:cubicBezTo>
                <a:cubicBezTo>
                  <a:pt x="1468" y="647"/>
                  <a:pt x="1497" y="620"/>
                  <a:pt x="1532" y="605"/>
                </a:cubicBezTo>
                <a:cubicBezTo>
                  <a:pt x="1586" y="582"/>
                  <a:pt x="1647" y="574"/>
                  <a:pt x="1700" y="548"/>
                </a:cubicBezTo>
                <a:cubicBezTo>
                  <a:pt x="1759" y="519"/>
                  <a:pt x="1813" y="484"/>
                  <a:pt x="1869" y="450"/>
                </a:cubicBezTo>
                <a:cubicBezTo>
                  <a:pt x="1898" y="433"/>
                  <a:pt x="1921" y="405"/>
                  <a:pt x="1953" y="394"/>
                </a:cubicBezTo>
                <a:cubicBezTo>
                  <a:pt x="2057" y="360"/>
                  <a:pt x="2158" y="318"/>
                  <a:pt x="2262" y="281"/>
                </a:cubicBezTo>
                <a:cubicBezTo>
                  <a:pt x="2316" y="262"/>
                  <a:pt x="2375" y="262"/>
                  <a:pt x="2431" y="253"/>
                </a:cubicBezTo>
                <a:cubicBezTo>
                  <a:pt x="2497" y="242"/>
                  <a:pt x="2562" y="224"/>
                  <a:pt x="2628" y="211"/>
                </a:cubicBezTo>
                <a:cubicBezTo>
                  <a:pt x="2647" y="207"/>
                  <a:pt x="2666" y="204"/>
                  <a:pt x="2684" y="197"/>
                </a:cubicBezTo>
                <a:cubicBezTo>
                  <a:pt x="2704" y="190"/>
                  <a:pt x="2720" y="174"/>
                  <a:pt x="2740" y="169"/>
                </a:cubicBezTo>
                <a:cubicBezTo>
                  <a:pt x="2836" y="145"/>
                  <a:pt x="2951" y="139"/>
                  <a:pt x="3049" y="127"/>
                </a:cubicBezTo>
                <a:cubicBezTo>
                  <a:pt x="3155" y="92"/>
                  <a:pt x="3266" y="78"/>
                  <a:pt x="3372" y="43"/>
                </a:cubicBezTo>
                <a:cubicBezTo>
                  <a:pt x="3400" y="34"/>
                  <a:pt x="3428" y="25"/>
                  <a:pt x="3456" y="15"/>
                </a:cubicBezTo>
                <a:cubicBezTo>
                  <a:pt x="3470" y="10"/>
                  <a:pt x="3499" y="0"/>
                  <a:pt x="3499" y="0"/>
                </a:cubicBezTo>
                <a:cubicBezTo>
                  <a:pt x="3541" y="5"/>
                  <a:pt x="3585" y="0"/>
                  <a:pt x="3625" y="15"/>
                </a:cubicBezTo>
                <a:cubicBezTo>
                  <a:pt x="3808" y="83"/>
                  <a:pt x="3916" y="262"/>
                  <a:pt x="4103" y="324"/>
                </a:cubicBezTo>
                <a:cubicBezTo>
                  <a:pt x="4203" y="424"/>
                  <a:pt x="4070" y="304"/>
                  <a:pt x="4229" y="394"/>
                </a:cubicBezTo>
                <a:cubicBezTo>
                  <a:pt x="4452" y="521"/>
                  <a:pt x="4232" y="450"/>
                  <a:pt x="4454" y="506"/>
                </a:cubicBezTo>
                <a:cubicBezTo>
                  <a:pt x="4491" y="534"/>
                  <a:pt x="4524" y="570"/>
                  <a:pt x="4566" y="591"/>
                </a:cubicBezTo>
                <a:cubicBezTo>
                  <a:pt x="4601" y="608"/>
                  <a:pt x="4642" y="607"/>
                  <a:pt x="4679" y="619"/>
                </a:cubicBezTo>
                <a:cubicBezTo>
                  <a:pt x="4777" y="649"/>
                  <a:pt x="4858" y="686"/>
                  <a:pt x="4960" y="703"/>
                </a:cubicBezTo>
                <a:cubicBezTo>
                  <a:pt x="4988" y="712"/>
                  <a:pt x="5015" y="724"/>
                  <a:pt x="5044" y="731"/>
                </a:cubicBezTo>
                <a:cubicBezTo>
                  <a:pt x="5072" y="738"/>
                  <a:pt x="5101" y="737"/>
                  <a:pt x="5128" y="745"/>
                </a:cubicBezTo>
                <a:cubicBezTo>
                  <a:pt x="5179" y="760"/>
                  <a:pt x="5218" y="798"/>
                  <a:pt x="5269" y="815"/>
                </a:cubicBezTo>
                <a:cubicBezTo>
                  <a:pt x="5383" y="900"/>
                  <a:pt x="5523" y="947"/>
                  <a:pt x="5662" y="970"/>
                </a:cubicBezTo>
                <a:cubicBezTo>
                  <a:pt x="5711" y="994"/>
                  <a:pt x="5752" y="1023"/>
                  <a:pt x="5803" y="1040"/>
                </a:cubicBezTo>
                <a:cubicBezTo>
                  <a:pt x="5817" y="1049"/>
                  <a:pt x="5828" y="1068"/>
                  <a:pt x="5845" y="1068"/>
                </a:cubicBezTo>
                <a:cubicBezTo>
                  <a:pt x="5875" y="1068"/>
                  <a:pt x="5929" y="1040"/>
                  <a:pt x="5929" y="1040"/>
                </a:cubicBezTo>
                <a:cubicBezTo>
                  <a:pt x="5984" y="1095"/>
                  <a:pt x="6029" y="1154"/>
                  <a:pt x="6084" y="1209"/>
                </a:cubicBezTo>
                <a:cubicBezTo>
                  <a:pt x="6098" y="1223"/>
                  <a:pt x="6112" y="1237"/>
                  <a:pt x="6126" y="1251"/>
                </a:cubicBezTo>
                <a:cubicBezTo>
                  <a:pt x="6140" y="1265"/>
                  <a:pt x="6184" y="1304"/>
                  <a:pt x="6168" y="1293"/>
                </a:cubicBezTo>
                <a:cubicBezTo>
                  <a:pt x="6154" y="1284"/>
                  <a:pt x="6140" y="1274"/>
                  <a:pt x="6126" y="1265"/>
                </a:cubicBezTo>
                <a:cubicBezTo>
                  <a:pt x="6169" y="1393"/>
                  <a:pt x="6326" y="1461"/>
                  <a:pt x="6421" y="1546"/>
                </a:cubicBezTo>
                <a:cubicBezTo>
                  <a:pt x="6480" y="1599"/>
                  <a:pt x="6589" y="1714"/>
                  <a:pt x="6589" y="1714"/>
                </a:cubicBezTo>
                <a:cubicBezTo>
                  <a:pt x="6669" y="1876"/>
                  <a:pt x="6680" y="2070"/>
                  <a:pt x="6702" y="2248"/>
                </a:cubicBezTo>
                <a:cubicBezTo>
                  <a:pt x="6698" y="2441"/>
                  <a:pt x="6903" y="3000"/>
                  <a:pt x="6589" y="3077"/>
                </a:cubicBezTo>
                <a:cubicBezTo>
                  <a:pt x="6529" y="3117"/>
                  <a:pt x="6467" y="3149"/>
                  <a:pt x="6407" y="3190"/>
                </a:cubicBezTo>
                <a:cubicBezTo>
                  <a:pt x="6383" y="3206"/>
                  <a:pt x="6350" y="3198"/>
                  <a:pt x="6322" y="3204"/>
                </a:cubicBezTo>
                <a:cubicBezTo>
                  <a:pt x="5975" y="3283"/>
                  <a:pt x="6210" y="3242"/>
                  <a:pt x="6013" y="3274"/>
                </a:cubicBezTo>
                <a:cubicBezTo>
                  <a:pt x="5949" y="3295"/>
                  <a:pt x="5879" y="3302"/>
                  <a:pt x="5817" y="3330"/>
                </a:cubicBezTo>
                <a:cubicBezTo>
                  <a:pt x="5690" y="3386"/>
                  <a:pt x="5610" y="3484"/>
                  <a:pt x="5479" y="3527"/>
                </a:cubicBezTo>
                <a:cubicBezTo>
                  <a:pt x="5409" y="3597"/>
                  <a:pt x="5362" y="3676"/>
                  <a:pt x="5269" y="3723"/>
                </a:cubicBezTo>
                <a:cubicBezTo>
                  <a:pt x="5216" y="3750"/>
                  <a:pt x="5100" y="3780"/>
                  <a:pt x="5100" y="3780"/>
                </a:cubicBezTo>
                <a:cubicBezTo>
                  <a:pt x="4912" y="3968"/>
                  <a:pt x="5130" y="3779"/>
                  <a:pt x="4903" y="3892"/>
                </a:cubicBezTo>
                <a:cubicBezTo>
                  <a:pt x="4861" y="3913"/>
                  <a:pt x="4830" y="3950"/>
                  <a:pt x="4791" y="3976"/>
                </a:cubicBezTo>
                <a:cubicBezTo>
                  <a:pt x="4746" y="4006"/>
                  <a:pt x="4701" y="4039"/>
                  <a:pt x="4651" y="4061"/>
                </a:cubicBezTo>
                <a:cubicBezTo>
                  <a:pt x="4616" y="4077"/>
                  <a:pt x="4575" y="4078"/>
                  <a:pt x="4538" y="4089"/>
                </a:cubicBezTo>
                <a:cubicBezTo>
                  <a:pt x="4294" y="4162"/>
                  <a:pt x="4454" y="4135"/>
                  <a:pt x="4257" y="4159"/>
                </a:cubicBezTo>
                <a:cubicBezTo>
                  <a:pt x="4229" y="4168"/>
                  <a:pt x="4202" y="4180"/>
                  <a:pt x="4173" y="4187"/>
                </a:cubicBezTo>
                <a:cubicBezTo>
                  <a:pt x="4145" y="4194"/>
                  <a:pt x="4116" y="4193"/>
                  <a:pt x="4089" y="4201"/>
                </a:cubicBezTo>
                <a:cubicBezTo>
                  <a:pt x="3846" y="4270"/>
                  <a:pt x="4089" y="4224"/>
                  <a:pt x="3892" y="4257"/>
                </a:cubicBezTo>
                <a:cubicBezTo>
                  <a:pt x="3841" y="4276"/>
                  <a:pt x="3784" y="4285"/>
                  <a:pt x="3737" y="4313"/>
                </a:cubicBezTo>
                <a:cubicBezTo>
                  <a:pt x="3726" y="4320"/>
                  <a:pt x="3721" y="4336"/>
                  <a:pt x="3709" y="4342"/>
                </a:cubicBezTo>
                <a:cubicBezTo>
                  <a:pt x="3616" y="4389"/>
                  <a:pt x="3508" y="4408"/>
                  <a:pt x="3414" y="4454"/>
                </a:cubicBezTo>
                <a:cubicBezTo>
                  <a:pt x="3306" y="4449"/>
                  <a:pt x="3188" y="4474"/>
                  <a:pt x="3091" y="4426"/>
                </a:cubicBezTo>
                <a:cubicBezTo>
                  <a:pt x="3016" y="4389"/>
                  <a:pt x="2953" y="4283"/>
                  <a:pt x="2880" y="4271"/>
                </a:cubicBezTo>
                <a:cubicBezTo>
                  <a:pt x="2824" y="4262"/>
                  <a:pt x="2768" y="4252"/>
                  <a:pt x="2712" y="4243"/>
                </a:cubicBezTo>
                <a:cubicBezTo>
                  <a:pt x="2152" y="3908"/>
                  <a:pt x="2603" y="4151"/>
                  <a:pt x="2347" y="4047"/>
                </a:cubicBezTo>
                <a:cubicBezTo>
                  <a:pt x="2312" y="4033"/>
                  <a:pt x="2284" y="4002"/>
                  <a:pt x="2248" y="3990"/>
                </a:cubicBezTo>
                <a:cubicBezTo>
                  <a:pt x="2221" y="3981"/>
                  <a:pt x="2192" y="3982"/>
                  <a:pt x="2164" y="3976"/>
                </a:cubicBezTo>
                <a:cubicBezTo>
                  <a:pt x="2014" y="3944"/>
                  <a:pt x="1866" y="3911"/>
                  <a:pt x="1714" y="3892"/>
                </a:cubicBezTo>
                <a:cubicBezTo>
                  <a:pt x="1659" y="3874"/>
                  <a:pt x="1601" y="3868"/>
                  <a:pt x="1546" y="3850"/>
                </a:cubicBezTo>
                <a:cubicBezTo>
                  <a:pt x="1530" y="3845"/>
                  <a:pt x="1520" y="3828"/>
                  <a:pt x="1504" y="3822"/>
                </a:cubicBezTo>
                <a:cubicBezTo>
                  <a:pt x="1468" y="3809"/>
                  <a:pt x="1428" y="3805"/>
                  <a:pt x="1391" y="3794"/>
                </a:cubicBezTo>
                <a:cubicBezTo>
                  <a:pt x="1144" y="3719"/>
                  <a:pt x="1307" y="3751"/>
                  <a:pt x="1138" y="3723"/>
                </a:cubicBezTo>
                <a:cubicBezTo>
                  <a:pt x="943" y="3658"/>
                  <a:pt x="1028" y="3677"/>
                  <a:pt x="886" y="3653"/>
                </a:cubicBezTo>
                <a:cubicBezTo>
                  <a:pt x="763" y="3573"/>
                  <a:pt x="954" y="3689"/>
                  <a:pt x="759" y="3611"/>
                </a:cubicBezTo>
                <a:cubicBezTo>
                  <a:pt x="706" y="3590"/>
                  <a:pt x="663" y="3530"/>
                  <a:pt x="633" y="3485"/>
                </a:cubicBezTo>
                <a:cubicBezTo>
                  <a:pt x="614" y="3428"/>
                  <a:pt x="598" y="3405"/>
                  <a:pt x="548" y="3372"/>
                </a:cubicBezTo>
                <a:cubicBezTo>
                  <a:pt x="481" y="3272"/>
                  <a:pt x="516" y="3312"/>
                  <a:pt x="450" y="3246"/>
                </a:cubicBezTo>
                <a:cubicBezTo>
                  <a:pt x="442" y="3223"/>
                  <a:pt x="383" y="3061"/>
                  <a:pt x="366" y="3035"/>
                </a:cubicBezTo>
                <a:cubicBezTo>
                  <a:pt x="336" y="2991"/>
                  <a:pt x="291" y="2961"/>
                  <a:pt x="253" y="2923"/>
                </a:cubicBezTo>
                <a:cubicBezTo>
                  <a:pt x="233" y="2903"/>
                  <a:pt x="197" y="2914"/>
                  <a:pt x="169" y="2909"/>
                </a:cubicBezTo>
                <a:cubicBezTo>
                  <a:pt x="99" y="2801"/>
                  <a:pt x="194" y="2931"/>
                  <a:pt x="85" y="2838"/>
                </a:cubicBezTo>
                <a:cubicBezTo>
                  <a:pt x="67" y="2823"/>
                  <a:pt x="61" y="2797"/>
                  <a:pt x="43" y="2782"/>
                </a:cubicBezTo>
                <a:cubicBezTo>
                  <a:pt x="31" y="2772"/>
                  <a:pt x="0" y="2768"/>
                  <a:pt x="0" y="2768"/>
                </a:cubicBezTo>
                <a:lnTo>
                  <a:pt x="211" y="129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609480"/>
            <a:ext cx="8229600" cy="13017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BernhardFashion BT"/>
                <a:ea typeface="文鼎CS魏碑"/>
              </a:rPr>
              <a:t>高效团队的必备条件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快乐和谐的人际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独立完成本职工作的有效成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出色的团队组织与管理技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被一致认同的领袖人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0099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文鼎CS中等线"/>
              </a:rPr>
              <a:t>持续、系统、有效的教育训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22856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80920" y="3552480"/>
            <a:ext cx="38862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了解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互相了解、彼此欣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时时看到对方身上的优点与长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每个人都是最优秀的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他们身上处处都有令人欣赏的地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2438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114440" y="3581280"/>
            <a:ext cx="33526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融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480" y="723960"/>
            <a:ext cx="79250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敞开心胸接纳对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珍惜相聚的每一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创造一切机会融洽相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一起分享彼此最美好的欢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320" y="1066320"/>
            <a:ext cx="80010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请大家以积极的心态参与本次课程的学习，因为我们最终能学到多少，绝大部份的情况下将取决于我们自己主动参与或配合的程度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  <a:ea typeface="长城细圆体"/>
              </a:rPr>
              <a:t>请自觉维护课堂公德，不要随意走动、不故意喧哗，尊重讲师及工作人员的劳动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请将手机暂时关闭，特别强调一下，上课期间禁止打手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长城黑体"/>
              </a:rPr>
              <a:t>有  约  在  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990720"/>
            <a:ext cx="33530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65200" y="2361960"/>
            <a:ext cx="5316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419360" y="37339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创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040" y="6091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有必胜的决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不相信命运在别人的嘴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命运在自己的手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决心决定成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永远都不说“不可能”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因为—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不是不可能只是暂时还没有找到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000"/>
                            </p:stCondLst>
                            <p:childTnLst>
                              <p:par>
                                <p:cTn id="50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04840" y="990720"/>
            <a:ext cx="6896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失败一定有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成功一定有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不断创新决不因循守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不重复别人的老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总能找到新的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因为我们相信——思路决定出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000"/>
                            </p:stCondLst>
                            <p:childTnLst>
                              <p:par>
                                <p:cTn id="54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228600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5053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信任与支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47560" y="609480"/>
            <a:ext cx="617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彼此搀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彼此用心呵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一起感悟生命的真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彼此的信任与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可以跨越任何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500"/>
                            </p:stCondLst>
                            <p:childTnLst>
                              <p:par>
                                <p:cTn id="5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3840" y="2285640"/>
            <a:ext cx="5564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480" y="3580920"/>
            <a:ext cx="5105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沟通与协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知道何时该独立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何时该勇于尝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知道怎样自如的表达看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知道怎样说服别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知道怎样保持有效沟通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汉鼎简大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会在彼此的共识中前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500"/>
                            </p:stCondLst>
                            <p:childTnLst>
                              <p:par>
                                <p:cTn id="6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500"/>
                            </p:stCondLst>
                            <p:childTnLst>
                              <p:par>
                                <p:cTn id="64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20574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华文彩云"/>
              </a:rPr>
              <a:t>卓越的团队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505320"/>
            <a:ext cx="5029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挑战与超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523880"/>
            <a:ext cx="7315200" cy="381024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是一支有坚定信念的团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每个人都有无限的潜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自己就能改造世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我们在一起，能做任何事情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坚信我们一旦凝聚起来，能达成任何目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不惧怕任何竞争对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因为我们连自己都能超越</a:t>
            </a:r>
            <a:r>
              <a:rPr b="0" lang="zh-CN" sz="2400" spc="-1" strike="noStrike">
                <a:solidFill>
                  <a:srgbClr val="ccecff"/>
                </a:solidFill>
                <a:latin typeface="金桥简老宋"/>
                <a:ea typeface="金桥简老宋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500"/>
                            </p:stCondLst>
                            <p:childTnLst>
                              <p:par>
                                <p:cTn id="6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9000"/>
                            </p:stCondLst>
                            <p:childTnLst>
                              <p:par>
                                <p:cTn id="69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47640" y="380880"/>
            <a:ext cx="78487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勇于向极限挑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能战胜任何不可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能创造任何奇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跌倒了，还会再爬起来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我们坚信不经历风雨无以见彩虹</a:t>
            </a:r>
            <a:r>
              <a:rPr b="0" lang="zh-CN" sz="3200" spc="-1" strike="noStrike">
                <a:solidFill>
                  <a:srgbClr val="ffcc66"/>
                </a:solidFill>
                <a:latin typeface="金桥简老宋"/>
                <a:ea typeface="金桥简老宋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由一群具有坚不可摧的、顽强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意志力的人所组成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73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5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Futura Md BT"/>
                <a:ea typeface="仿宋_GB2312"/>
              </a:rPr>
              <a:t>学习不只是学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意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沟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销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激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尊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行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趋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习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快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43080" y="190440"/>
            <a:ext cx="845820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buClr>
                <a:srgbClr val="ffcc66"/>
              </a:buClr>
              <a:buSzPct val="9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有一个在任何情况下都敢于为自己的团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承担责任的领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而在领袖的周围是一群同样具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强烈使命感的真心英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buClr>
                <a:srgbClr val="ffcc66"/>
              </a:buClr>
              <a:buSzPct val="9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卓越的团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每个人的心中都有一个伟大的梦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他们梦想有一天会一起相聚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成功的巅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他们会承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一起全力以赴心中的梦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7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7500"/>
                            </p:stCondLst>
                            <p:childTnLst>
                              <p:par>
                                <p:cTn id="78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0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0640" y="2057040"/>
            <a:ext cx="5562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25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长城黑体"/>
              </a:rPr>
              <a:t>印象最深的是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长城黑体"/>
              </a:rPr>
              <a:t>学到了些什么？             以前怎么做？               现在怎么做？               将来怎么做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长城黑体"/>
              </a:rPr>
              <a:t>谈谈综合感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00400" y="762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ahoma"/>
                <a:ea typeface="华文彩云"/>
              </a:rPr>
              <a:t>回头想一想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6858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长城粗隶书体"/>
              </a:rPr>
              <a:t>只言片语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成功是因为态度，失败也是因为态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成功不是因为快，而是因为有步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不是不可能，只是暂时还未找到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目标刻在水泥上，计划写在沙滩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每一分、每一秒做最有生产力的事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把重要的事情变成紧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做对的事情，而不仅仅是把事情做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500"/>
                            </p:stCondLst>
                            <p:childTnLst>
                              <p:par>
                                <p:cTn id="8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2000" y="6858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长城粗隶书体"/>
              </a:rPr>
              <a:t>只言片语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如果你今天不活在未来，那么你的未来必将活在过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如果你用过去的观念，现代的装备，去打未来的仗，必败无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不是别人比自己聪明，而是他们比自己更会问聪明的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成功就是简单的事情重复去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成功是简单的，但不容易达成。因为越简单、越容易的事情，人们也越容易不去做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8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41320" y="609120"/>
            <a:ext cx="746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长城粗隶书体"/>
              </a:rPr>
              <a:t>成功体操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凡事的发生必有其因果，要加以学习并利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成功者眼里没有失败，只有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负责的态度是真正成功者的态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重视行动，不要让琐碎的事情拖延行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重视团队，人是最伟大的力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工作就是鼓舞，要在工作中获得满足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23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长城细圆体"/>
              </a:rPr>
              <a:t>真正的成功来自永恒的合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63640" y="14842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立 即 行 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大 量 行 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持 久 行 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da5c6"/>
                </a:solidFill>
                <a:latin typeface="Times New Roman"/>
                <a:ea typeface="长城细圆体"/>
              </a:rPr>
              <a:t>谢谢大家！</a:t>
            </a:r>
            <a:r>
              <a:rPr b="0" lang="zh-CN" sz="3600" spc="-1" strike="noStrike">
                <a:solidFill>
                  <a:srgbClr val="eda5c6"/>
                </a:solidFill>
                <a:latin typeface="Times New Roman"/>
                <a:ea typeface="长城细圆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觉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突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创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文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运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重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革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动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学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学习是一种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文鼎CS长美黑"/>
              </a:rPr>
              <a:t>升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Futura Md BT"/>
                <a:ea typeface="仿宋_GB2312"/>
              </a:rPr>
              <a:t>学习不只是学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66"/>
                </a:solidFill>
                <a:latin typeface="方正舒体"/>
                <a:ea typeface="方正舒体"/>
              </a:rPr>
              <a:t>改变习惯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342900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一个人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95%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以上的行为是因为习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426744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66"/>
                </a:solidFill>
                <a:latin typeface="方正舒体"/>
                <a:ea typeface="方正舒体"/>
              </a:rPr>
              <a:t>认识习惯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3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习惯是逐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养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3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习惯是可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改变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3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改变习惯是一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不舒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的事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3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改变习惯是一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过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3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改变是一种高层次的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享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556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方正舒体"/>
                <a:ea typeface="方正舒体"/>
              </a:rPr>
              <a:t>习惯改变的过程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第一阶段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0-7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     刻意、不自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第二阶段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7-21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     刻意、自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第三阶段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21-90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文鼎CS大隶书"/>
              </a:rPr>
              <a:t>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文鼎CS大隶书"/>
              </a:rPr>
              <a:t>     不经意、自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2133720"/>
            <a:ext cx="7315200" cy="2590560"/>
          </a:xfrm>
          <a:custGeom>
            <a:avLst/>
            <a:gdLst/>
            <a:ahLst/>
            <a:rect l="l" t="t" r="r" b="b"/>
            <a:pathLst>
              <a:path w="3742" h="783">
                <a:moveTo>
                  <a:pt x="380" y="689"/>
                </a:moveTo>
                <a:cubicBezTo>
                  <a:pt x="269" y="681"/>
                  <a:pt x="150" y="683"/>
                  <a:pt x="42" y="647"/>
                </a:cubicBezTo>
                <a:cubicBezTo>
                  <a:pt x="27" y="625"/>
                  <a:pt x="0" y="592"/>
                  <a:pt x="0" y="562"/>
                </a:cubicBezTo>
                <a:cubicBezTo>
                  <a:pt x="0" y="451"/>
                  <a:pt x="29" y="281"/>
                  <a:pt x="113" y="197"/>
                </a:cubicBezTo>
                <a:cubicBezTo>
                  <a:pt x="139" y="171"/>
                  <a:pt x="162" y="143"/>
                  <a:pt x="197" y="127"/>
                </a:cubicBezTo>
                <a:cubicBezTo>
                  <a:pt x="224" y="115"/>
                  <a:pt x="281" y="99"/>
                  <a:pt x="281" y="99"/>
                </a:cubicBezTo>
                <a:cubicBezTo>
                  <a:pt x="536" y="131"/>
                  <a:pt x="783" y="115"/>
                  <a:pt x="1040" y="99"/>
                </a:cubicBezTo>
                <a:cubicBezTo>
                  <a:pt x="1096" y="90"/>
                  <a:pt x="1153" y="85"/>
                  <a:pt x="1208" y="71"/>
                </a:cubicBezTo>
                <a:cubicBezTo>
                  <a:pt x="1246" y="62"/>
                  <a:pt x="1283" y="51"/>
                  <a:pt x="1321" y="43"/>
                </a:cubicBezTo>
                <a:cubicBezTo>
                  <a:pt x="1344" y="38"/>
                  <a:pt x="1368" y="35"/>
                  <a:pt x="1391" y="29"/>
                </a:cubicBezTo>
                <a:cubicBezTo>
                  <a:pt x="1420" y="21"/>
                  <a:pt x="1475" y="0"/>
                  <a:pt x="1475" y="0"/>
                </a:cubicBezTo>
                <a:cubicBezTo>
                  <a:pt x="1660" y="47"/>
                  <a:pt x="1847" y="68"/>
                  <a:pt x="2037" y="85"/>
                </a:cubicBezTo>
                <a:cubicBezTo>
                  <a:pt x="2211" y="68"/>
                  <a:pt x="2384" y="54"/>
                  <a:pt x="2557" y="29"/>
                </a:cubicBezTo>
                <a:cubicBezTo>
                  <a:pt x="2878" y="44"/>
                  <a:pt x="3173" y="76"/>
                  <a:pt x="3498" y="85"/>
                </a:cubicBezTo>
                <a:cubicBezTo>
                  <a:pt x="3578" y="105"/>
                  <a:pt x="3622" y="124"/>
                  <a:pt x="3681" y="183"/>
                </a:cubicBezTo>
                <a:cubicBezTo>
                  <a:pt x="3697" y="230"/>
                  <a:pt x="3708" y="277"/>
                  <a:pt x="3723" y="324"/>
                </a:cubicBezTo>
                <a:cubicBezTo>
                  <a:pt x="3717" y="399"/>
                  <a:pt x="3742" y="489"/>
                  <a:pt x="3695" y="548"/>
                </a:cubicBezTo>
                <a:cubicBezTo>
                  <a:pt x="3684" y="561"/>
                  <a:pt x="3666" y="565"/>
                  <a:pt x="3653" y="576"/>
                </a:cubicBezTo>
                <a:cubicBezTo>
                  <a:pt x="3609" y="612"/>
                  <a:pt x="3636" y="614"/>
                  <a:pt x="3569" y="647"/>
                </a:cubicBezTo>
                <a:cubicBezTo>
                  <a:pt x="3536" y="664"/>
                  <a:pt x="3468" y="679"/>
                  <a:pt x="3428" y="689"/>
                </a:cubicBezTo>
                <a:cubicBezTo>
                  <a:pt x="3197" y="680"/>
                  <a:pt x="3024" y="673"/>
                  <a:pt x="2810" y="619"/>
                </a:cubicBezTo>
                <a:cubicBezTo>
                  <a:pt x="2735" y="624"/>
                  <a:pt x="2660" y="625"/>
                  <a:pt x="2585" y="633"/>
                </a:cubicBezTo>
                <a:cubicBezTo>
                  <a:pt x="2539" y="638"/>
                  <a:pt x="2491" y="665"/>
                  <a:pt x="2445" y="675"/>
                </a:cubicBezTo>
                <a:cubicBezTo>
                  <a:pt x="2405" y="684"/>
                  <a:pt x="2345" y="688"/>
                  <a:pt x="2304" y="703"/>
                </a:cubicBezTo>
                <a:cubicBezTo>
                  <a:pt x="2158" y="758"/>
                  <a:pt x="2336" y="709"/>
                  <a:pt x="2192" y="745"/>
                </a:cubicBezTo>
                <a:cubicBezTo>
                  <a:pt x="1998" y="739"/>
                  <a:pt x="1729" y="783"/>
                  <a:pt x="1546" y="661"/>
                </a:cubicBezTo>
                <a:cubicBezTo>
                  <a:pt x="1332" y="670"/>
                  <a:pt x="1137" y="686"/>
                  <a:pt x="927" y="703"/>
                </a:cubicBezTo>
                <a:cubicBezTo>
                  <a:pt x="754" y="732"/>
                  <a:pt x="650" y="725"/>
                  <a:pt x="478" y="703"/>
                </a:cubicBezTo>
                <a:cubicBezTo>
                  <a:pt x="418" y="683"/>
                  <a:pt x="451" y="689"/>
                  <a:pt x="380" y="689"/>
                </a:cubicBezTo>
                <a:close/>
              </a:path>
            </a:pathLst>
          </a:cu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0" y="-360"/>
            <a:ext cx="91447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1523880" y="2392200"/>
            <a:ext cx="6553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700" spc="-1" strike="noStrike">
                <a:solidFill>
                  <a:srgbClr val="ff0033"/>
                </a:solidFill>
                <a:latin typeface="BernhardFashion BT"/>
                <a:ea typeface="华文彩云"/>
              </a:rPr>
              <a:t>团队建设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90400" y="723960"/>
          <a:ext cx="79632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723960"/>
                    <a:ext cx="7963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066680" y="685080"/>
            <a:ext cx="594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33"/>
                </a:solidFill>
                <a:latin typeface="方正舒体"/>
                <a:ea typeface="方正舒体"/>
              </a:rPr>
              <a:t>团队</a:t>
            </a:r>
            <a:r>
              <a:rPr b="0" lang="zh-CN" sz="15000" spc="-1" strike="noStrike">
                <a:solidFill>
                  <a:srgbClr val="ff0033"/>
                </a:solidFill>
                <a:latin typeface="方正舒体"/>
                <a:ea typeface="方正舒体"/>
              </a:rPr>
              <a:t>?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429000"/>
            <a:ext cx="472464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20050"/>
                </a:solidFill>
                <a:latin typeface="Wingdings 2"/>
                <a:ea typeface="Wingdings 2"/>
              </a:rPr>
              <a:t>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  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一 群 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20050"/>
                </a:solidFill>
                <a:latin typeface="Wingdings 2"/>
                <a:ea typeface="Wingdings 2"/>
              </a:rPr>
              <a:t>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  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共 同 目 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20050"/>
                </a:solidFill>
                <a:latin typeface="Wingdings 2"/>
                <a:ea typeface="Wingdings 2"/>
              </a:rPr>
              <a:t>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  </a:t>
            </a:r>
            <a:r>
              <a:rPr b="0" lang="zh-CN" sz="3600" spc="-1" strike="noStrike">
                <a:solidFill>
                  <a:srgbClr val="520050"/>
                </a:solidFill>
                <a:latin typeface="文鼎CS中等线"/>
                <a:ea typeface="文鼎CS中等线"/>
              </a:rPr>
              <a:t>高 效 组 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05:12:47Z</dcterms:created>
  <dc:creator/>
  <dc:description/>
  <dc:language>en-US</dc:language>
  <cp:lastModifiedBy>User</cp:lastModifiedBy>
  <dcterms:modified xsi:type="dcterms:W3CDTF">2013-04-14T02:24:00Z</dcterms:modified>
  <cp:revision>6</cp:revision>
  <dc:subject/>
  <dc:title>PowerPoint 演示文稿</dc:title>
</cp:coreProperties>
</file>