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ED06-023C-4AFF-AD1F-E90013BF1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B808-25D6-40DF-85F8-F99792CB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4EC7-4DC4-459F-9A99-77A0863CB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F2E4-4503-46CB-99E1-BEA85BD02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5B06-E1EF-4E44-BA7E-786961035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39CDE-8F90-4394-A340-5FC0E3E8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51BB-A76A-4B93-8259-E211BA2D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01B1-9B7E-4957-B982-9E3F33BA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38ACA-72BF-4F5C-878D-04FAAB44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16C1-CEA3-49FD-B2CA-CCBF1BA4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F5D0-4E69-4B04-8991-4C36554A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F2CF-8AA5-4B85-9D6C-51EBCB7A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4A5BD-2E96-4942-9DF4-FB0D2851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3469-CF65-41B8-AC12-5CFBF9A5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9008D-4187-464A-B51C-A51007F7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8AE5-2C5F-429E-8B31-FB966FF04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6742-E2D7-4F58-A589-6A97392AF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D82F-F936-4ACF-A0A6-98E4A980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F7BA-F4D3-4D56-B2F6-E9859D87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9D37-6363-4C27-A749-518DA9BF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E75D-BE38-45DE-A0FB-947C0822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F240-706B-42D5-AB0E-615110FE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9BA1-D17F-4E2E-AB21-1CF88C59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92C7-AA72-41D6-833B-06349C35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4A8D-79FC-41C9-9B95-00D1338ECAAE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71EA-F68B-4F15-B573-3EB15A7E36BD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295280" y="1523880"/>
            <a:ext cx="693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理解 尊重 团结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友爱 协作 共进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3809880"/>
            <a:ext cx="5045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00"/>
                </a:solidFill>
                <a:latin typeface="Times New Roman"/>
              </a:rPr>
              <a:t>主题班会</a:t>
            </a:r>
            <a:endParaRPr b="0" lang="en-US" sz="8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3440" y="5638680"/>
            <a:ext cx="23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2008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年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日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46480" y="630360"/>
            <a:ext cx="48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57400" y="76212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高二零零六级十六班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eaeaea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让我们彼此友爱，共同进步！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崇尚理性的光辉，成为文明的代表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信仰善良的力量，弘扬善良的美德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关心他人的存在，宽容他人的不足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完善自我的人格，克制自我的恣肆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相信温和的真理，甘当仁爱的恕者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珍惜同学的情谊，把握美好的时光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扬起理想的风帆，驶向成功的彼岸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我们来这里是为了什么？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学习！学习！除了知识还要学习什么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学会做人比学会知识更重要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做人最重要的是融入人群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融入人群最重要的是尊重他人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尊重他人实际就是尊重自己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个人的力量微不足道，群体的力量才可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以撼天动地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人群的力量源于规则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人格魅力的源泉是什么？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亲和力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尊重他人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谦逊、和霭的处事态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全局式的整体观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发现他人的优点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克制自己的不足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善于发挥别人的长处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同学是什么？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共同学习做人与学习知识、发展自己的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合作伙伴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共同面对成功与失败的精神支柱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共同走上人生成功之路的互助力量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拥有不同凡响的同学关系就是拥有不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凡响的财富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拥有诚挚的友谊就是拥有光辉的未来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善、恶的区别是什么？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善是人性中最美的品质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恶是人性里最丑的劣性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扬善去恶是人与动物最本质的区别之一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善就是：爱护并促进生命，把具有发展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能力的生命提升到最有价值的地位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恶就是：伤害并破坏生命，阻碍生命的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发展。这是道德上绝对需要考虑的原则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文明是什么？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是一种文化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社会发展到较高阶段和具有较高文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化的行为、精神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有现代色彩的人类较先进的（物质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精神表现）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现代色彩（意识）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平等、互助、协作、共进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人格、尊严、权利、义务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和平 、友好、爱心、善意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噢，人啊，你当自助！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1“</a:t>
            </a: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我愿证明，凡是行为善良与高尚的人，定能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因之而担当患难。”       </a:t>
            </a: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---</a:t>
            </a: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贝多芬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2“---</a:t>
            </a: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人生是艰苦的。</a:t>
            </a: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---</a:t>
            </a: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可是有时连最强的人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都不免在苦难中蹉跌。他们求助，求一个朋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友。”                   </a:t>
            </a: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---</a:t>
            </a: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罗曼罗兰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3“</a:t>
            </a: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但愿不幸的人，看到一个与他同样不幸的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难者、不顾自然的阻碍，竭尽所能成来一个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不愧为人的人，而能借以自慰。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                         </a:t>
            </a: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---</a:t>
            </a: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贝多芬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如何面对竞争？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别跟别人盲目较劲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关键是正确认识自己，确立自己的定位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学习是给自己学的，不是为了和他人争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锋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要善于肯定自己的进步及成绩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正确对待分数：分数不是唯一的标准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互相促进才是真正的目的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eb00b"/>
                </a:solidFill>
                <a:latin typeface="Times New Roman"/>
                <a:ea typeface="楷体_GB2312"/>
              </a:rPr>
              <a:t>孤独性格中应保持什么？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正确的生活态度和价值判断标准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愿你在尘世获得幸福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        </a:t>
            </a:r>
            <a:r>
              <a:rPr b="1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我只愿面朝大海，春暖花开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世界上没有绝望的处境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只有对处境绝望的人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永不伤害无辜和弱者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理性的头脑，沉着平静的心态，宽广的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气度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4-14T02:23:16Z</dcterms:modified>
  <cp:revision>7</cp:revision>
  <dc:subject/>
  <dc:title>PowerPoint 演示文稿</dc:title>
</cp:coreProperties>
</file>