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7.gif" ContentType="image/gif"/>
  <Override PartName="/ppt/media/image16.gif" ContentType="image/gif"/>
  <Override PartName="/ppt/media/image26.gif" ContentType="image/gif"/>
  <Override PartName="/ppt/media/image6.png" ContentType="image/png"/>
  <Override PartName="/ppt/media/image7.jpeg" ContentType="image/jpeg"/>
  <Override PartName="/ppt/media/image34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11.jpeg" ContentType="image/jpeg"/>
  <Override PartName="/ppt/media/image30.gif" ContentType="image/gif"/>
  <Override PartName="/ppt/media/image9.png" ContentType="image/png"/>
  <Override PartName="/ppt/media/image33.jpeg" ContentType="image/jpeg"/>
  <Override PartName="/ppt/media/image12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35.jpeg" ContentType="image/jpeg"/>
  <Override PartName="/ppt/media/image1.jpeg" ContentType="image/jpeg"/>
  <Override PartName="/ppt/media/image27.gif" ContentType="image/gif"/>
  <Override PartName="/ppt/media/image32.png" ContentType="image/png"/>
  <Override PartName="/ppt/media/image2.png" ContentType="image/png"/>
  <Override PartName="/ppt/media/image22.gif" ContentType="image/gif"/>
  <Override PartName="/ppt/media/image31.jpeg" ContentType="image/jpeg"/>
  <Override PartName="/ppt/media/image14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BC1-7364-4EB3-B03A-BE15B171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4B9-6D32-40A1-9701-2E50F30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5AC-9387-4C37-9314-A2ECFFD8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7FC-7FD1-4D6F-828D-3D6A070B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44A-1F8B-4FCF-A2FD-F88D636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C4B-6F94-4505-81C9-C2F730C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C26-1E08-4D44-A959-A925F05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690-262C-42CF-8B27-83ADEC3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3E4-B966-4A5C-B785-908C533D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FAA-0AC6-40B2-993D-CB81249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CAA-492B-4061-991D-DFAC0DE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7F1-356B-46C6-9FA6-A3933E2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0DA-BAC0-4FE5-80AF-3B27790C5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836640"/>
            <a:ext cx="5977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和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3280" y="5300640"/>
            <a:ext cx="3889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0625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solidFill>
            <a:srgbClr val="ffff00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不要觉得上面这段话所体现的境界太完美而遥不可及，其实，只要你我都怀揣一颗善心，一颗体贴他人、关怀他人的博爱的心，我们的班级可以达到这样的境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那么，从明天开始，请认真地对你的同桌说“早上好”，请在同学伤心的时候安慰一声而不是装作没看见，请真诚地夸奖你的朋友，请把嘴里不干净的语言统统删除。请记住：你用怎样的态度对别人，别人就会用怎样的态度对你，毕竟，友情是两个人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3214800"/>
            <a:ext cx="2951280" cy="295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042920" y="4653000"/>
            <a:ext cx="266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方正姚体"/>
              </a:rPr>
              <a:t>cctv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方正姚体"/>
              </a:rPr>
              <a:t>爱心传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方正姚体"/>
              </a:rPr>
              <a:t>公益广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2349360"/>
            <a:ext cx="75596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No.2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同学与老师的和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1979640" cy="197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16720" y="191628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987640" y="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58000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1979640" y="3068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492360" y="4149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7272360" y="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7308720" y="371628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298764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77407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5076720" y="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0" y="509436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358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你最喜欢（或最感激）的老师是谁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教师节就要到了，我们能为老师们做点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2133720"/>
            <a:ext cx="698508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No.3 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与休闲之间的和谐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197000"/>
            <a:ext cx="6983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经典空叠黑"/>
              </a:rPr>
              <a:t>魔术表演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经典空叠黑"/>
              <a:ea typeface="经典空叠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321080" cy="61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此可见，学习与休闲并不是各自独立的，如果能把学习和休闲和谐的结合起来，将会有事半功倍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玩物丧志，也不做书呆子，要在学习之余提高自己的综合素养，要找到学习与休闲的完美结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方正粗倩简体"/>
              </a:rPr>
              <a:t>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平常的休闲活动都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喜欢什么体育运动？如果可能的话，你希望每周有多长时间来进行体育活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认为现在自己处理休闲和学习的关系合理吗？你想做一些什么样的改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认为三更灯火五更鸡和在轻松愉快的环境下学习哪一个效果更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99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51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781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640" y="1341360"/>
            <a:ext cx="7416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95b9b"/>
                    </a:gs>
                  </a:gsLst>
                  <a:path path="rect">
                    <a:fillToRect l="50000" t="50000" r="50000" b="50000"/>
                  </a:path>
                </a:gradFill>
                <a:latin typeface="华文新魏"/>
              </a:rPr>
              <a:t>No.1.  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95b9b"/>
                    </a:gs>
                  </a:gsLst>
                  <a:path path="rect">
                    <a:fillToRect l="50000" t="50000" r="50000" b="50000"/>
                  </a:path>
                </a:gradFill>
                <a:latin typeface="华文新魏"/>
              </a:rPr>
              <a:t>同学间的和谐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95b9b"/>
                  </a:gs>
                </a:gsLst>
                <a:path path="rect">
                  <a:fillToRect l="50000" t="50000" r="50000" b="50000"/>
                </a:path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为了测试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班同学是否和谐一心，我们来做一个小测试。规则是：先在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10——99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之间任意选择一个两位数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然后将这个两位数的十位和个位相加，得到一个数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然后用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减去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得到一个数字，牢记这个数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4000" y="54936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游戏   和谐读心术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讨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80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班同学之间的和谐度到底有多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男女生之间应该是一种怎样的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和那些离开的同学、新进的同学关系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有什么建设性的意见可以促进同学之间的团结与和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6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一个真正优秀的班集体应该是这样的：同学之间团结友爱，男生女生互帮互助，每一名同学都为班里任何一位同学的伤心而感到伤心，为任何一位同学的成功感到由衷的快乐。没有勾心斗角的阴谋，更没有互相孤立的冷漠，教室里常常传出欢声笑语，让在一起的时光开满幸福的花朵。在快乐、轻松的环境下学习，有一种班级凝聚力和永不服输的斗志，以班级为永远的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7:47:07Z</dcterms:created>
  <dc:creator>您的教学资源库【www.ShuLiHua.net】</dc:creator>
  <dc:description>您的教学资源库【www.ShuLiHua.net】</dc:description>
  <cp:keywords>您的教学资源库【www.ShuLiHua.net】</cp:keywords>
  <dc:language>en-US</dc:language>
  <cp:lastModifiedBy>User</cp:lastModifiedBy>
  <dcterms:modified xsi:type="dcterms:W3CDTF">2013-04-14T02:23:01Z</dcterms:modified>
  <cp:revision>14</cp:revision>
  <dc:subject>您的教学资源库【www.ShuLiHua.net】</dc:subject>
  <dc:title>您的教学资源库【www.ShuLiHua.net】</dc:title>
</cp:coreProperties>
</file>