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jpeg" ContentType="image/jpeg"/>
  <Override PartName="/ppt/media/image8.jpeg" ContentType="image/jpeg"/>
  <Override PartName="/ppt/media/image12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explode.wav" ContentType="audio/x-wav"/>
  <Override PartName="/ppt/media/image7.jpeg" ContentType="image/jpeg"/>
  <Override PartName="/ppt/media/carbrake.wav" ContentType="audio/x-wav"/>
  <Override PartName="/ppt/media/image3.jpeg" ContentType="image/jpeg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514-1FAC-4238-B4E0-A14FFF0C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1EE-1ACE-4923-A767-52368BD9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42B-89ED-4F2A-8AE1-B7E385BD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386-94E5-4273-BA1D-16A39EC2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C36-F7F2-45C1-BE1F-6A5744EC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1B4-B727-4C6B-96FC-A017EFA7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2CE-7D1D-4CAD-AD2B-D2B803CC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D67-A050-4714-8589-57424DD7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6BA-72F4-4B60-9CB1-D34F4AAB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9C6-60A7-4A94-9317-5CC2AFA5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A3C-C7F8-47E2-A8A1-1C9B8409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D5C-944E-4E95-BBA5-BDF75895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C045-91CC-4E7D-88CA-02D51C6E3E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xplode.wav" TargetMode="External"/><Relationship Id="rId3" Type="http://schemas.microsoft.com/office/2007/relationships/media" Target="file:///tmp/home/.config/libreoffice/4/user/gallery/explod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arbrake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laser.wav" TargetMode="External"/><Relationship Id="rId3" Type="http://schemas.microsoft.com/office/2007/relationships/media" Target="file:///usr/lib/libreoffice/share/gallery/sounds/laser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76320"/>
            <a:ext cx="9144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班主任是学生人生的引路者，可以尝试成为学生的心灵导师，需要学会激励学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可以尝试从学生的角度看问题，缩短与学生的心理距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需要学习一些现代管理知识，了解多方面的社会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学会交流、沟通；充满激情、关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学会宽容和理解；妥善处理突发事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站在一个新的更高的角度对待班主任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不妨尝试用艺术化手段做思想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中宋"/>
                <a:ea typeface="华文中宋"/>
              </a:rPr>
              <a:t>    </a:t>
            </a:r>
            <a:r>
              <a:rPr b="0" lang="zh-CN" sz="4400" spc="-1" strike="noStrike">
                <a:solidFill>
                  <a:srgbClr val="333399"/>
                </a:solidFill>
                <a:latin typeface="华文中宋"/>
                <a:ea typeface="华文中宋"/>
              </a:rPr>
              <a:t>开动脑筋，激发潜能，充满斗志，永不放弃，常存希望和梦想，不断缔造生命新的传奇，我们将创造无与伦比的人生价值！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华文中宋"/>
                <a:ea typeface="华文中宋"/>
              </a:rPr>
              <a:t>　　</a:t>
            </a:r>
            <a:r>
              <a:rPr b="1" i="1" lang="zh-CN" sz="4400" spc="-1" strike="noStrike" u="sng">
                <a:solidFill>
                  <a:srgbClr val="333399"/>
                </a:solidFill>
                <a:uFillTx/>
                <a:latin typeface="华文中宋"/>
                <a:ea typeface="华文中宋"/>
              </a:rPr>
              <a:t>生命的奖赏远在旅途终点，而非起点附近。</a:t>
            </a: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宋体"/>
                <a:ea typeface="Times New Roman"/>
              </a:rPr>
              <a:t>    </a:t>
            </a:r>
            <a:r>
              <a:rPr b="0" lang="zh-CN" sz="4400" spc="-1" strike="noStrike">
                <a:solidFill>
                  <a:srgbClr val="333399"/>
                </a:solidFill>
                <a:latin typeface="华文中宋"/>
                <a:ea typeface="华文中宋"/>
              </a:rPr>
              <a:t>我们将坚持不懈，直到成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无限的变革正孕育着无限的机会。面对变化，抱怨、牢骚满腹、浮躁、等待、自以为是都将毫无用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如果你不改变，你就会被淘汰。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如果你无所畏惧、直面现实，你将一鸣惊人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为什么不早点行动，跟上变化呢？担心应该激起你采取行动，而不是你前进路上的障碍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你在掌握控制权，而不是听天由命、束手无策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年轻的激情中用理智的目光替代奔跑的感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崛起的效率中，激荡着变化的激情和冷静的思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由此而拥有了积极而自由的心态和勇敢者坚定的行动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大多数人都喜欢稳定和有安全感，他们觉得改变会带给自己麻烦甚至有可能对自己不利。其实不然，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有变革才会孕育进步和梦想的成功，变化会使事情变得更好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及时地调整自己以适应变化，才是理智的选择，你所需做的只是尝试和行动而已。所有过多的想法只会徒增烦恼，让不良的想法烟消云散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6"/>
          <p:cNvSpPr/>
          <p:nvPr/>
        </p:nvSpPr>
        <p:spPr>
          <a:xfrm>
            <a:off x="1523880" y="228600"/>
            <a:ext cx="7467840" cy="62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站得更高，看得更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下定决心，拿出勇气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非常时期，非常努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全心全意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奔向大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用心聆听奋斗的生命之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理性而勇敢地面对最后的高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带着朝气，带着希望，只争朝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加油，我的学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事在人为，让我们一起努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我们将创造生命的一个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伟大奇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7"/>
          <p:cNvSpPr/>
          <p:nvPr/>
        </p:nvSpPr>
        <p:spPr>
          <a:xfrm>
            <a:off x="393840" y="380880"/>
            <a:ext cx="1003320" cy="5943600"/>
          </a:xfrm>
          <a:prstGeom prst="rect">
            <a:avLst/>
          </a:prstGeom>
          <a:noFill/>
          <a:ln w="9360">
            <a:solidFill>
              <a:srgbClr val="1ff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333399"/>
                </a:solidFill>
                <a:latin typeface="黑体"/>
                <a:ea typeface="黑体"/>
              </a:rPr>
              <a:t>最 后 的 高 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04920" y="762120"/>
            <a:ext cx="883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学海无涯，沉下去 ，旁若无人，做自己的生命舵手，用心去投入，全力以赴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让我们拥抱变化，顺应时潮，因为我们已经懂得：山峰上比山谷中拥有更好的风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219320" y="0"/>
            <a:ext cx="79246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用智慧培育理想</a:t>
            </a:r>
            <a:br>
              <a:rPr sz="4000"/>
            </a:b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用汗水浇灌希望</a:t>
            </a:r>
            <a:br>
              <a:rPr sz="4000"/>
            </a:b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让梦想焕发灿烂的光芒</a:t>
            </a:r>
            <a:br>
              <a:rPr sz="4000"/>
            </a:br>
            <a:br>
              <a:rPr sz="4000"/>
            </a:b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带着从容的微笑</a:t>
            </a:r>
            <a:br>
              <a:rPr sz="4000"/>
            </a:b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Arial Black"/>
              </a:rPr>
              <a:t>  </a:t>
            </a: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让飞翔的梦在六月张开翅膀</a:t>
            </a:r>
            <a:br>
              <a:rPr sz="4000"/>
            </a:b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Arial Black"/>
              </a:rPr>
              <a:t>  </a:t>
            </a: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让雄心与智慧在六月闪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超越梦想一起飞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让生命回味这一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让岁月铭记这一回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026"/>
          <p:cNvSpPr/>
          <p:nvPr/>
        </p:nvSpPr>
        <p:spPr>
          <a:xfrm>
            <a:off x="1447920" y="685800"/>
            <a:ext cx="70102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共同的奋斗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共同的五班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伟大的脚印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了不起的成就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23880" y="0"/>
            <a:ext cx="6858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让我们彼此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让我们学会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让我们一起努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让我们共同加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我们一定会创造奇迹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609480"/>
            <a:ext cx="8991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人生在世，理当一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破釜沉舟，勇往直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让我们一起叩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生命奋斗的最强音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yuyongxiang\My Documents\My Pictures\香格里拉的春天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28600" y="6858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Harder Study, Brighter Future, Better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143000" y="2209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Berlin Sans FB Demi"/>
                <a:ea typeface="GungsuhChe"/>
              </a:rPr>
              <a:t>为了明天，让我们一起加油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Arial"/>
                <a:ea typeface="黑体"/>
              </a:rPr>
              <a:t>超   越   梦   想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010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当圣火第一次点燃是希望在跟随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当终点已不再永久是心灵在体会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不在乎等待几多轮回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不在乎欢笑伴着泪水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超越梦想一起飞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你我需要真心面对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让生命回味这一刻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让岁月铭记这一回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960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57200"/>
            <a:ext cx="824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ff00"/>
                </a:solidFill>
                <a:latin typeface="Arial Black"/>
                <a:ea typeface="黑体"/>
              </a:rPr>
              <a:t>超越梦想一起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57200" y="42670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00ff00"/>
                </a:solidFill>
                <a:uFillTx/>
                <a:latin typeface="Arial Black"/>
                <a:ea typeface="华文行楷"/>
              </a:rPr>
              <a:t>12</a:t>
            </a:r>
            <a:r>
              <a:rPr b="1" lang="zh-CN" sz="8000" spc="-1" strike="noStrike" u="sng">
                <a:solidFill>
                  <a:srgbClr val="00ff00"/>
                </a:solidFill>
                <a:uFillTx/>
                <a:latin typeface="Arial Black"/>
                <a:ea typeface="华文行楷"/>
              </a:rPr>
              <a:t>年只为这一天</a:t>
            </a:r>
            <a:r>
              <a:rPr b="1" lang="zh-CN" sz="9600" spc="-1" strike="noStrike" u="sng">
                <a:solidFill>
                  <a:srgbClr val="00ff00"/>
                </a:solidFill>
                <a:uFillTx/>
                <a:latin typeface="Arial Black"/>
                <a:ea typeface="黑体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0" y="3886200"/>
            <a:ext cx="109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4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3200400"/>
            <a:ext cx="784872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atisse ITC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水龙头打开，水才会流</a:t>
            </a:r>
            <a:r>
              <a:rPr b="1" lang="zh-CN" sz="5400" spc="-1" strike="noStrike">
                <a:solidFill>
                  <a:srgbClr val="000000"/>
                </a:solidFill>
                <a:latin typeface="Matisse ITC"/>
                <a:ea typeface="黑体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唤醒我们心中的巨人吧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0880" y="533520"/>
            <a:ext cx="807732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对于一个人来说，重要的不是他的身体是否残疾，而是他的思想、心灵是否残疾，因为后者才是影响他一生最重要的因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600" y="380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功者的心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06668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勤奋、智慧（一种领悟能力）、运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执着（百折不回）、创新（统一调整走出）、机遇（改革开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没有机会产生的压力、有心、有坚强的神经（能承受挫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信念、执着、做事的感觉（有梦想，能坚持，不放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有一个较高的目标，敢想、敢做、坚持（方向明确，不放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败首先在于信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百万富翁属于自己，亿万富翁属于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什么很多聪明的人不会成功呢？就是因为缺乏信念和执着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让我们带着梦想出发，缔造人生新的起点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即便有时一无所有，我们也会重新开始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因为生命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就是要挑战自己</a:t>
            </a:r>
            <a:br>
              <a:rPr sz="4000"/>
            </a:b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                就是要拥抱变化</a:t>
            </a:r>
            <a:br>
              <a:rPr sz="4000"/>
            </a:b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                             创造变化</a:t>
            </a:r>
            <a:br>
              <a:rPr sz="4000"/>
            </a:b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如此的人生会更加灿烂</a:t>
            </a:r>
            <a:br>
              <a:rPr sz="4000"/>
            </a:b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                        更有意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57200" y="838080"/>
            <a:ext cx="815328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33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33cc33"/>
                </a:solidFill>
                <a:latin typeface="Times New Roman"/>
              </a:rPr>
              <a:t>让我们一起欣赏四季的美景，领略人生的春夏秋冬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ibm\My Documents\My Pictures\香格里拉草原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295280" y="3049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蓬勃春天  无限希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ibm\My Documents\My Pictures\三亚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活力夏天——永远的魅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ibm\My Documents\My Pictures\秋意浓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52280" y="0"/>
            <a:ext cx="883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金色秋天——浪漫的成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46960" y="457200"/>
            <a:ext cx="2191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伟大的自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My Documents\My Pictures\x雪原日出.jpg"/>
          <p:cNvPicPr/>
          <p:nvPr/>
        </p:nvPicPr>
        <p:blipFill>
          <a:blip r:embed="rId1"/>
          <a:stretch/>
        </p:blipFill>
        <p:spPr>
          <a:xfrm>
            <a:off x="76320" y="82440"/>
            <a:ext cx="8991360" cy="6699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981080" y="4572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零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美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My Documents\My Pictures\四川金云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52280" y="249120"/>
            <a:ext cx="777240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看着初升的朝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体会生命的灿烂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生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生应该这样度过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517680"/>
            <a:ext cx="9144000" cy="5030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66ffff"/>
              </a:gs>
              <a:gs pos="100000">
                <a:srgbClr val="ff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让我们将来有能力去欣赏自然的美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——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阳光、沙滩、海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——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彩池、飞瀑、草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别是香格里拉的世外桃园、九寨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梦幻山水、三亚的椰风海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别样的人生，成功、浪漫、温馨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ibm\My Documents\My Pictures\1\九寨春色1.BMP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ibm\My Documents\My Pictures\三亚1.jpg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8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宋体"/>
              </a:rPr>
              <a:t>让我们登高望远，眺望人生新境界</a:t>
            </a:r>
            <a:r>
              <a:rPr b="1" lang="zh-CN" sz="4400" spc="-1" strike="noStrike">
                <a:solidFill>
                  <a:srgbClr val="ffff66"/>
                </a:solidFill>
                <a:latin typeface="宋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Arial Black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01.命运.MP3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051920" y="533520"/>
            <a:ext cx="313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地球的内能 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1077120" y="457200"/>
            <a:ext cx="2861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海的力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自然是这样神奇而伟大，相比之下人是那样的渺小而脆弱，所有的自负显得很无知。同时，人又是这个蓝色星球上最具智慧、雄心与力量的生物，人又在某种程度上引导着蓝色星球的发展方向。我们有理由为自己感到骄傲，也更有理由珍惜自己，珍爱自己，掌控自己，发展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你知道马拉多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85800" y="3886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191120" y="30481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一位世界巨星、足球名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520" y="3581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他将不久于人世，因为他吸毒过量，放纵生命，导致了严重的高血压和心脏病，他自己懊悔的同时，也带给了他所有亲人、好友乃至整个阿根廷永远的伤痛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04920" y="525780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一旦错过了，即使是一代巨星、拥有亿万财富又如何？你自己必须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掌好自己</a:t>
            </a:r>
            <a:r>
              <a:rPr b="1" lang="zh-CN" sz="48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生命的舵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2280" y="0"/>
            <a:ext cx="8991720" cy="7038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也许我跟你们有很大的的距离，在你们看来我不太理解你们。但我想说，你们的许多事情、想法，老师也经历过，也能理解；从文化大革命、到改革开放、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，也教过了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的数千名不同时期的学生。正因如此，也比你们多了一份对人生的不同理解，对你们抱有一份新的期待，也更不希望你们在这个特定的阶段因为学习艰苦甚至痛苦、因为迷惘甚至空虚而丢失了自己的机会与希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52280" y="1981080"/>
            <a:ext cx="89917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e5f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e5fe2c"/>
                </a:solidFill>
                <a:latin typeface="Times New Roman"/>
              </a:rPr>
              <a:t>        </a:t>
            </a:r>
            <a:r>
              <a:rPr b="1" i="1" lang="zh-CN" sz="2400" spc="-1" strike="noStrike" u="sng">
                <a:solidFill>
                  <a:srgbClr val="e5fe2c"/>
                </a:solidFill>
                <a:uFillTx/>
                <a:latin typeface="Times New Roman"/>
              </a:rPr>
              <a:t>每个人的生活都是自己选择的</a:t>
            </a:r>
            <a:r>
              <a:rPr b="1" i="1" lang="zh-CN" sz="2400" spc="-1" strike="noStrike">
                <a:solidFill>
                  <a:srgbClr val="e5fe2c"/>
                </a:solidFill>
                <a:latin typeface="Times New Roman"/>
              </a:rPr>
              <a:t>，我也曾拥有很多过去，有些非常美好，有些不堪回首。但</a:t>
            </a:r>
            <a:r>
              <a:rPr b="1" i="1" lang="zh-CN" sz="2400" spc="-1" strike="noStrike" u="sng">
                <a:solidFill>
                  <a:srgbClr val="e5fe2c"/>
                </a:solidFill>
                <a:uFillTx/>
                <a:latin typeface="Times New Roman"/>
              </a:rPr>
              <a:t>人总要向前，因为时间不会为你而停止。</a:t>
            </a:r>
            <a:r>
              <a:rPr b="1" i="1" lang="zh-CN" sz="2400" spc="-1" strike="noStrike">
                <a:solidFill>
                  <a:srgbClr val="e5fe2c"/>
                </a:solidFill>
                <a:latin typeface="Times New Roman"/>
              </a:rPr>
              <a:t>有时候我真羡慕你们，现在拥有这么多的选择机会和良好的条件：越来越开放的社会、父母良好的支撑甚至可通过手术消除近视。我的过去怎么样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038480"/>
            <a:ext cx="8458200" cy="29350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来自贫寒之家、一不小心差点成为残疾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父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永远尊敬、热爱、值得报答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º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的意志和渴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2.5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死亡边缘奇迹生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断缔造生命的奇迹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高考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81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98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锡之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难不死，必有后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爱好：旅游、音乐、长跑、游泳、乒乓、读书及休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-534600" y="4191120"/>
            <a:ext cx="1277640" cy="2666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 的 故 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yuyongxiang\My Documents\My Pictures\香格里拉的春天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295280" y="0"/>
            <a:ext cx="52578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想放手却不敢放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因为这是一份充满期待的情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生命不是简单的轮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我们可以让它萌生更多新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到了你成熟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该放手就会放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我会在远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默默地为你祝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800600" y="2895480"/>
            <a:ext cx="449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拿得起，放得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自信而从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跨越人生分水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黑体"/>
              </a:rPr>
              <a:t>有痛苦，才会成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黑体"/>
              </a:rPr>
              <a:t>经历过，才会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黑体"/>
              </a:rPr>
              <a:t>自己手中握着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-514440" y="228600"/>
            <a:ext cx="1521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生 命 的 期 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下事，只要动手做，就一定会做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!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心不难，事就不难。 学习更是这样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etter late than never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人生之中，有痛苦和挫折，更有欢乐和希望。然而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精彩的人生是永不回头的，我们将放眼未来，直视前方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要做，就会有机会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26:55Z</dcterms:created>
  <dc:creator>微软用户</dc:creator>
  <dc:description/>
  <dc:language>en-US</dc:language>
  <cp:lastModifiedBy>User</cp:lastModifiedBy>
  <dcterms:modified xsi:type="dcterms:W3CDTF">2013-04-14T02:20:38Z</dcterms:modified>
  <cp:revision>1</cp:revision>
  <dc:subject/>
  <dc:title>幻灯片 1</dc:title>
</cp:coreProperties>
</file>