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E0A-AD20-45C0-A496-BD0D37210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408-B661-4756-9AA2-6F6466D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594-A772-4409-934F-602EE1877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27DB-80AB-44BA-9BFE-F601894B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AFA6-8669-4635-8CE1-5D2118AA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E891-1066-4916-BFBC-37052F87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4A4-3625-4F9C-BF45-2C76AABB5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9F35-E76F-4EC7-9DA4-05AC0BFF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442F-54B7-4499-AFC7-B33138D6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D573-3F15-4C66-9AF7-82049010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7AC-1CDD-4BC5-AAE8-5428F89A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4AE4-B245-4563-9DFB-6D0F43BC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0E3-0101-400F-88B1-16DD7460DF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294264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世界上所有事物中，什么东西既长又短，既快又慢，可无限分割亦可无限延展，最易为人轻忽且最令人遗憾，少了它，事情便无从发生，它不但能吞没诸物，亦能赋予生命伟大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0760" y="90792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猜一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谜语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258920" y="2017800"/>
            <a:ext cx="66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☆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Arial"/>
              </a:rPr>
              <a:t>经常思考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假如今天是我生命中的最后一天，我怎么办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？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11280" y="1038960"/>
            <a:ext cx="63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规划今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行动起来——开启成功的钥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258920" y="325008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做时间的主人，有目的地管理时间，才能使我们不断提高自身素质，取得更大的成功。做时间的主人，有规律地管理时间，才能使我们对生活充满希望，充分实现自身价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116000" y="2781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要有目标（长远目标、短期目标）还有较周密的计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692280"/>
            <a:ext cx="69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“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凡事预则立，不预则废。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2852640"/>
            <a:ext cx="576360" cy="50508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517920" y="980640"/>
            <a:ext cx="207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★</a:t>
            </a:r>
            <a:r>
              <a:rPr b="1" i="1" lang="zh-CN" sz="4800" spc="-1" strike="noStrike">
                <a:solidFill>
                  <a:srgbClr val="000000"/>
                </a:solidFill>
                <a:latin typeface="Arial"/>
              </a:rPr>
              <a:t>行动是我们的一种信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32000" y="3933720"/>
            <a:ext cx="936360" cy="1152720"/>
          </a:xfrm>
          <a:custGeom>
            <a:avLst/>
            <a:gdLst>
              <a:gd name="textAreaLeft" fmla="*/ 60480 w 936360"/>
              <a:gd name="textAreaRight" fmla="*/ 875880 w 936360"/>
              <a:gd name="textAreaTop" fmla="*/ 60480 h 1152720"/>
              <a:gd name="textAreaBottom" fmla="*/ 1092240 h 1152720"/>
            </a:gdLst>
            <a:ahLst/>
            <a:rect l="textAreaLeft" t="textAreaTop" r="textAreaRight" b="textAreaBottom"/>
            <a:pathLst>
              <a:path w="21600" h="26589">
                <a:moveTo>
                  <a:pt x="0" y="0"/>
                </a:moveTo>
                <a:lnTo>
                  <a:pt x="21600" y="0"/>
                </a:lnTo>
                <a:lnTo>
                  <a:pt x="21600" y="26589"/>
                </a:lnTo>
                <a:lnTo>
                  <a:pt x="0" y="26589"/>
                </a:lnTo>
                <a:close/>
              </a:path>
              <a:path fill="lightenLess" w="21600" h="265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89">
                <a:moveTo>
                  <a:pt x="21600" y="0"/>
                </a:moveTo>
                <a:lnTo>
                  <a:pt x="21600" y="26589"/>
                </a:lnTo>
                <a:lnTo>
                  <a:pt x="20200" y="25189"/>
                </a:lnTo>
                <a:lnTo>
                  <a:pt x="20200" y="1400"/>
                </a:lnTo>
                <a:close/>
              </a:path>
              <a:path fill="darkenLess" w="21600" h="26589">
                <a:moveTo>
                  <a:pt x="21600" y="26589"/>
                </a:moveTo>
                <a:lnTo>
                  <a:pt x="0" y="26589"/>
                </a:lnTo>
                <a:lnTo>
                  <a:pt x="1400" y="25189"/>
                </a:lnTo>
                <a:lnTo>
                  <a:pt x="20200" y="25189"/>
                </a:lnTo>
                <a:close/>
              </a:path>
              <a:path fill="lighten" w="21600" h="26589">
                <a:moveTo>
                  <a:pt x="0" y="265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89"/>
                </a:lnTo>
                <a:close/>
              </a:path>
              <a:path fill="darken" w="21600" h="26589">
                <a:moveTo>
                  <a:pt x="10800" y="17298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6589">
                <a:moveTo>
                  <a:pt x="11905" y="16776"/>
                </a:moveTo>
                <a:lnTo>
                  <a:pt x="11905" y="14818"/>
                </a:lnTo>
                <a:cubicBezTo>
                  <a:pt x="11905" y="13991"/>
                  <a:pt x="12236" y="13295"/>
                  <a:pt x="12837" y="13295"/>
                </a:cubicBezTo>
                <a:cubicBezTo>
                  <a:pt x="13968" y="13295"/>
                  <a:pt x="14865" y="11928"/>
                  <a:pt x="14865" y="10344"/>
                </a:cubicBezTo>
                <a:cubicBezTo>
                  <a:pt x="14865" y="8029"/>
                  <a:pt x="13011" y="6288"/>
                  <a:pt x="10800" y="6288"/>
                </a:cubicBezTo>
                <a:cubicBezTo>
                  <a:pt x="8589" y="6288"/>
                  <a:pt x="6918" y="8029"/>
                  <a:pt x="6918" y="10344"/>
                </a:cubicBezTo>
                <a:lnTo>
                  <a:pt x="8772" y="10344"/>
                </a:lnTo>
                <a:cubicBezTo>
                  <a:pt x="8772" y="9204"/>
                  <a:pt x="9695" y="8316"/>
                  <a:pt x="10800" y="8316"/>
                </a:cubicBezTo>
                <a:cubicBezTo>
                  <a:pt x="11905" y="8316"/>
                  <a:pt x="12837" y="9204"/>
                  <a:pt x="12837" y="10344"/>
                </a:cubicBezTo>
                <a:cubicBezTo>
                  <a:pt x="12837" y="11084"/>
                  <a:pt x="12367" y="11815"/>
                  <a:pt x="11905" y="11815"/>
                </a:cubicBezTo>
                <a:cubicBezTo>
                  <a:pt x="10800" y="11815"/>
                  <a:pt x="9695" y="13295"/>
                  <a:pt x="9695" y="14818"/>
                </a:cubicBezTo>
                <a:lnTo>
                  <a:pt x="9695" y="1677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47640" y="220500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记住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什么样的行动就会导致什么样的结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11280" y="400536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哪些行动可以引导我们走向成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87280" y="229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做人，要活在当下。珍惜今天，当日事当日毕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今天是你生命中最重要的一天。你每天早上起床时，试对着镜子告诉自己：“今天我要尽我所能做好每一件事”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692360" y="3087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生命是一个不断向前的过程。你要是主动前进，就有成功的机会。只要你锁定目标，永不退缩，就没有做不成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6920" y="73188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主动前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9640" y="1125360"/>
            <a:ext cx="7239240" cy="22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95294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当时间的主人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>
                      <a:alpha val="95294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95294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       </a:t>
            </a: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>
                        <a:alpha val="95294"/>
                      </a:srgbClr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做最好的自己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>
                      <a:alpha val="95294"/>
                    </a:srgbClr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/>
          <p:cNvSpPr/>
          <p:nvPr/>
        </p:nvSpPr>
        <p:spPr>
          <a:xfrm>
            <a:off x="5508720" y="4076640"/>
            <a:ext cx="158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李冬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06/9/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58920" y="1969200"/>
            <a:ext cx="7007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☆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经常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我想要的人生是什么样的？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奋斗目标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87280" y="298836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每一位顶尖的成功者，首先都是一位顶尖的时间管理者，因为他们知道时间是有限的，要在每一分钟创造价值，要享受生命中的每一分钟，使每一分钟都有意义，决不毫无价值地浪费时间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47640" y="264420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伟人们之所以伟大，是因为他们在有限的一生中，抓住了对自己最重要的东西，最有价值的东西，因而他们做出了超越常人的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42920" y="284436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所拥有的时间有限，而且总量在不断减少。既不能储存、替代，也无法增减、赊欠。对个人而言，只有节约时间资源、合理地分配时间资源、充分利用时间资源，才能有效地完成工作任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2785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Arial"/>
              </a:rPr>
              <a:t>时间是人人都有的资源，如不充分利用和严加管理，就将一事无成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间不像金钱，用完了还能再赚回来，它是一种不可再生的资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时间不可再生，且对任何活动都不可或缺，因此就显得尤为稀缺和宝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55640" y="249840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时间是一种可分配、可运用和能增值的资源，是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长度、密度和深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。时间的长度”是指计划完成一项工作所需要的时间；“时间的密度”是指如何分配和使用这段时间来做好这项工作（效率）；“时间的深度”是指完成这项工作所获得的社会价值认同感和成就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39920" y="1483920"/>
            <a:ext cx="482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李嘉诚的闹钟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他的手表永远比别人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分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258920" y="389304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如果根据报酬来工作，除了获得薪酬以外，你将什么也得不到。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08:51:2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16Z</dcterms:modified>
  <cp:revision>5</cp:revision>
  <dc:subject>主题班会课件(分28大类): http://shop62905894.taobao.com</dc:subject>
  <dc:title>主题班会课件(分28大类): http://shop62905894.taobao.com</dc:title>
</cp:coreProperties>
</file>