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gif" ContentType="image/gif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E0EF-14CB-4AA1-9CC7-DAD606893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870B-0158-459D-8492-513F35FA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C09A-6510-4AF0-97FA-B063A321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F02D-B047-4347-B23F-328E3BCC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BE35-0643-4B14-BDB5-B550B5FC8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18631-3902-4872-844A-F4613DB4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8F56B-3360-45DD-B965-773F0CC8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C75D-F9AD-44C5-B8C5-780B1F90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C914A-B939-43EB-BED7-272E1A8F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DEF1-DB57-47A0-9400-EBE5F5C4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3151F-E11C-425E-A73E-F13E1099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B45C-3F07-4754-BE10-946E33CF7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0C14-148D-427A-A203-3B43554D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D2CF-81BC-4A07-8F17-155E4D1A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C3A2-6B1A-466A-A0E0-145FD7BD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73BD-22F9-4022-9EB1-C974F4C4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FCBD-CF64-45E2-A43D-3C60240AC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A055-FF95-4276-84D0-7B1CC933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B91D-0449-4254-85E9-D0904FC4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01C5-45C4-496E-A4C7-16E0BA7B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2D2E-76CD-4AEE-98E6-212132AE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8952-84E2-4856-A2AA-7BA9D917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0698-C41B-4490-9018-52EE8AAB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6C23-A776-4C00-AD52-7390B719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D286-41C2-4CD8-A34D-F3C4B5F578F2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0EAE-7CFA-4406-AC17-B04C026A4756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7.xm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962520" y="3657240"/>
            <a:ext cx="4572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8532720" y="6246720"/>
            <a:ext cx="61128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4156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859280" y="1700280"/>
            <a:ext cx="275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87640" y="1700280"/>
            <a:ext cx="34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2492280"/>
            <a:ext cx="77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cc"/>
                </a:solidFill>
                <a:latin typeface="Arial"/>
              </a:rPr>
              <a:t>请同学们谈一谈看过       这些故事的感想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03280" y="981000"/>
            <a:ext cx="65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33cc"/>
                </a:solidFill>
                <a:latin typeface="Arial"/>
              </a:rPr>
              <a:t>同学们还知道关于珍惜时间的故事吗？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名人名言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时不可及，日不可留。 《黑子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圣人不贵尺之璧，而重寸之阴，时难得而易失也。 《淮南子》 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及时当勉励，岁月不待人。 （陶渊明） 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920" y="1196640"/>
            <a:ext cx="85406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莫等闲白了少年头，空悲切。 （岳飞） 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一寸光阴一寸金，寸金难买寸光阴。 明朝（罗懋登） 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大禹圣者，乃惜寸阴，至于众人，当惜分阴。岂可逸游荒醉？生无益于时，死无闻于后，是自弃也。 晋（陶侃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54064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节约时间，也就是使一个人的有限的生命，更加有效，而也就等于延长了人的寿命。 ——鲁 迅 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我以为世间最可贵的就是“今”，最易丧失得也是“今”。因为它最容易丧失，所以更觉得它宝贵。 ——李大钊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必须记住我们学习的时间是有限的。时间有限，不只是由于人生短促，更由于人事纷繁。我们应该力求把我们所有的时间用去做最有益的事情。 ——斯宾塞 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一个人越知道时间的价值，越倍觉失时的痛苦呀！ ——但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32000" y="2492280"/>
            <a:ext cx="68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班主任感言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692360" y="1473120"/>
            <a:ext cx="5398920" cy="32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再会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6122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珍惜时间</a:t>
            </a: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549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主题班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51640" y="472428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77080" y="6093000"/>
            <a:ext cx="196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372360" y="3860640"/>
            <a:ext cx="12189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268360" y="1268280"/>
            <a:ext cx="554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68560" y="3142440"/>
            <a:ext cx="142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时间  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520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杨柳枯了，有再青的  时候。</a:t>
            </a: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桃花谢了，有再开的  时候。</a:t>
            </a: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燕子飞了，有再来的  时候。</a:t>
            </a: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然而有一样东西却是 一去            不复返。</a:t>
            </a: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2920" y="198864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它给勤奋者留下智慧和量，给懒惰者留下空虚和懊悔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它是  组成生命的  材料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它是  衡量重量的  标准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它就是  时间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cc0066"/>
                </a:solidFill>
                <a:uFillTx/>
                <a:latin typeface="Arial"/>
                <a:hlinkClick r:id="rId2" action="ppaction://hlinksldjump"/>
              </a:rPr>
              <a:t>爱迪生的故事</a:t>
            </a:r>
            <a:br>
              <a:rPr sz="4000"/>
            </a:b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755640" y="1413000"/>
            <a:ext cx="784872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爱迪生的故事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5406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爱迪生 一生只上过三个月的小学，他的学问是靠母亲的教导和自修得来的。他的成功，应该归功于母亲自小对他的谅解与耐心的教导，才使原来被人认为是低能儿的爱迪生，长大后成为举世闻名的“发明大王”。  </a:t>
            </a:r>
            <a:br>
              <a:rPr sz="2000"/>
            </a:b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    爱迪生从小就对很多事物感到好奇，而且喜欢亲自去试验一下，直到明白了其中的道理为止。长大以后，他就根据自己这方面的兴趣，一心一意做研究和发明的工作。他在新泽西州建立了一个实验室，一生共发明了电灯、电报机、留声机、电影机、磁力析矿机、压碎机等等总计两千余种东西。爱迪生的强烈研究精神，使他对改进人类的生活方式，作出了重大的贡献。  </a:t>
            </a:r>
            <a:br>
              <a:rPr sz="2000"/>
            </a:b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    “浪费，最大的浪费莫过于浪费时间了。” 爱迪生常对助手说。“人生太短暂了，要多想办法，用极少的时间办更多的事情。”  </a:t>
            </a:r>
            <a:br>
              <a:rPr sz="2000"/>
            </a:b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    一天，爱迪生在实验室里工作，他递给助手一个没上灯口的空玻璃灯泡，说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:“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你量量灯泡的容量。”他又低头工作了。过了好半天，他问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:“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容量多少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? ”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他没听见回答，转头看见助手拿着软尺在测量灯泡的周长、斜度，并拿了测得的数字伏在桌上计算。他说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:“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时间，时间，怎么费那么多的时间呢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?”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爱迪生走过来，拿起那个空灯泡，向里面斟满了水，交给助手，说：“里面的水倒在量杯里，马上告诉我它的容量。”助手立刻读出了数字。爱迪生 说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:“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这是多么容易的测量方法啊，它又准确，又节省时间，你怎么想不到呢？还去算，那岂不是白白地浪费时间吗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?” 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助手的脸红了。  </a:t>
            </a:r>
            <a:br>
              <a:rPr sz="2000"/>
            </a:b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    爱迪生喃喃地说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:“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人生太短暂了，太短暂了，要节省时间，多做事情啊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!”  </a:t>
            </a:r>
            <a:br>
              <a:rPr sz="2000"/>
            </a:b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0066"/>
                </a:solidFill>
                <a:uFillTx/>
                <a:latin typeface="Arial"/>
                <a:hlinkClick r:id="rId2" action="ppaction://hlinksldjump"/>
              </a:rPr>
              <a:t>鲁迅的故事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8496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鲁迅的故事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412640"/>
            <a:ext cx="85406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鲁迅的成功，有一个重要的  秘诀，就是珍惜时间。鲁迅十二岁在绍兴城读私塾的  时候，父亲正患着重病，两个弟弟年纪尚幼，鲁迅不仅经常上当铺，跑药店，还得帮助母亲做家务；为免影响学业，他必须作好精确的  时间安排。 </a:t>
            </a: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此后，鲁迅几乎每天都在挤时间。他说过：「时间，就像海绵里的  水，只要你挤，总是有的。」鲁迅读书的  兴趣十分广泛，又喜欢写作，他对于民间艺术，特别是传说、绘画，也深切爱好；正因为他广泛涉猎，多方面学习，所以时间对他来说，实在非常重要。他一生多病，工作条件和生活环境都不好，但他每天都要工作到深夜才肯罢休。 </a:t>
            </a: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在鲁迅的  眼中，时间就如同生命。「美国人说，时间就是金钱。但我想：时间就是性命。倘若无端的  空耗别人的时间，其实是无异于谋财害命的。」因此，鲁迅最讨厌那些「成天东家跑跑，西家坐坐，说长道短」的  人，在他忙于工作的  时候，如果有人来找他聊天或闲扯，即使是很要好的朋友，他也会毫不客气地对人家说：「唉，你又来了，就没有别的  事好做吗？」</a:t>
            </a:r>
            <a:r>
              <a:rPr b="0" lang="zh-CN" sz="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0066"/>
                </a:solidFill>
                <a:uFillTx/>
                <a:latin typeface="Arial"/>
                <a:hlinkClick r:id="rId2" action="ppaction://hlinksldjump"/>
              </a:rPr>
              <a:t>白头翁的故事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0" y="1700280"/>
            <a:ext cx="91440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Arial"/>
              </a:rPr>
              <a:t>白头翁的故事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40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前有一只“好看的小鸟”，它有尖尖的嘴﹑细细的脚﹑一头乌黑浓密的头发，它想学一套不平凡的本领，可不平凡的本领是什么呢？有一天小鸟在树上玩，树顶上传来一阵“咔咔咔”的声音，原来是喜鹊在造房子，小鸟想这可能是不平凡的本领，它飞到喜鹊面前说：“喜鹊大哥，请教我造房子吧！”喜鹊说：“可以，但是造房子很辛苦，你能做到吗？”小鸟爽快地答应了喜鹊，小鸟说“这还不容易？”前几天，它很勤快，过了几天它想：“每天都要叼树枝，而且要一根一根地叼，太累了！”于是它拍拍翅膀飞走了，不干了。小鸟飞到一棵大树上生气，它突然听到一阵悦耳的音乐，都忘记自己在树枝上跳起舞来了，它又想这么好听的歌声一定要学！它朝着声音的源地飞去了，它非啊，飞啊，看到黄莺在树上唱歌，它到黄莺面前说：“黄莺大姐，请您教我唱歌吧！”黄莺说：“可以，但早上要练嗓子，你要坚持下来！”小鸟页答应了黄莺。刚练了几天，它就想：每天都要那么早起来练嗓子，太累了，太辛苦了！于是又飞走了。后来它又跟着小鹰学捕鱼，跟老鹰学捕猎，跟大雁学飞行，结果每次都是虎头蛇尾，到老了一种本领也没学会。小鸟长出了一头白发，为了吸取这个教训，它把白发传给了后代，让后代记住：世上没有后悔药吃，只有坚持才是成功的来源。小鸟的后代都有白头发，人们给它们取名叫“白头翁”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07:00:15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38:52Z</dcterms:modified>
  <cp:revision>45</cp:revision>
  <dc:subject>主题班会课件(分28大类): http://shop62905894.taobao.com</dc:subject>
  <dc:title>主题班会课件(分28大类): http://shop62905894.taobao.com</dc:title>
</cp:coreProperties>
</file>